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25.wmf" ContentType="image/x-wmf"/>
  <Override PartName="/ppt/media/image10.png" ContentType="image/png"/>
  <Override PartName="/ppt/media/image27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28CB-EDE8-4C9B-A4D1-B6B946F296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88BD-986D-4722-8623-FE5AF6493D3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CD0F-937C-4FF2-B56B-DCC57B4B099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8026-8CC9-4807-8A7C-976AC0E48B9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CB73-427D-4636-B7BE-E5917391DB3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D385-FC79-4D33-A269-C579635CC19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7567-6B3C-49AC-B731-4259D04C8E1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6FB8-1A0F-4C67-8C26-7EA69C02532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5037-D4F2-4944-B503-40D7B61768F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9332-2E71-438A-BE70-F32C1C2762A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3C9A-5A47-4FC4-A8C0-8A0BC03F4BA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BE83-0D5A-4E61-8EA6-53B9D957826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0DA7-1B6A-4C00-BA4C-EFAE63CC2DA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2376-78A5-436A-8FDA-1F3C79D4F08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5CEC-9B79-44F1-ACEF-6C9CDC0E9CA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FED2-71F1-4908-93DE-9BD69AA226A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9CD6-374B-4379-9E33-6697C209E5A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DBBF-B5C3-4483-8110-135DAFFA8AA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755A-1B09-4995-98F6-35E7E47A328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6A8F-9D2C-4E91-92AE-D3F0484DD4A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931B-9C3B-4EA0-8C36-92F4B677A12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C453-01AF-4D7F-BC78-87CE68A9BA0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2BE9-F9A9-4A59-AE3F-E68B128A0F1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BDC8-8909-4B1F-B50D-7D2CA9767EF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83A5-2376-40CE-B8D9-7E3BE10A21F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beyondlean.com/products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beyondlean.com/products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23888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b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Lean Six Sigma Certification &amp; Training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419720" y="1523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odule  006 Section 00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11480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Takt Tim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92120" y="1981080"/>
            <a:ext cx="8229600" cy="39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of physical goods or raw material transformation is replaced by: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ata, information, reports, etc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ter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ade of figures, data - transformed into orders, memos, balance sheets, et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26"/>
          <p:cNvSpPr/>
          <p:nvPr/>
        </p:nvSpPr>
        <p:spPr>
          <a:xfrm>
            <a:off x="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Rectangle 1027"/>
          <p:cNvSpPr/>
          <p:nvPr/>
        </p:nvSpPr>
        <p:spPr>
          <a:xfrm>
            <a:off x="3095640" y="914400"/>
            <a:ext cx="562608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ypically, 90-95% of Total Lead Time is Non Value Added Activities and Wast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Text Box 1028"/>
          <p:cNvSpPr/>
          <p:nvPr/>
        </p:nvSpPr>
        <p:spPr>
          <a:xfrm>
            <a:off x="492120" y="5715000"/>
            <a:ext cx="7807320" cy="90576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Does this look familiar?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Typically, we tend to focus on and improve the Value Added rather than attacking the Waste..the larger opportunit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40" name="Group 1029"/>
          <p:cNvGrpSpPr/>
          <p:nvPr/>
        </p:nvGrpSpPr>
        <p:grpSpPr>
          <a:xfrm>
            <a:off x="914400" y="2666880"/>
            <a:ext cx="7300440" cy="2949480"/>
            <a:chOff x="914400" y="2666880"/>
            <a:chExt cx="7300440" cy="2949480"/>
          </a:xfrm>
        </p:grpSpPr>
        <p:grpSp>
          <p:nvGrpSpPr>
            <p:cNvPr id="141" name="Group 1030"/>
            <p:cNvGrpSpPr/>
            <p:nvPr/>
          </p:nvGrpSpPr>
          <p:grpSpPr>
            <a:xfrm>
              <a:off x="914400" y="2666880"/>
              <a:ext cx="7300440" cy="1066680"/>
              <a:chOff x="914400" y="2666880"/>
              <a:chExt cx="7300440" cy="1066680"/>
            </a:xfrm>
          </p:grpSpPr>
          <p:sp>
            <p:nvSpPr>
              <p:cNvPr id="142" name="Rectangle 1031"/>
              <p:cNvSpPr/>
              <p:nvPr/>
            </p:nvSpPr>
            <p:spPr>
              <a:xfrm>
                <a:off x="914400" y="2666880"/>
                <a:ext cx="1128960" cy="106668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4d4d4d"/>
                    </a:solidFill>
                    <a:latin typeface="Arial"/>
                  </a:rPr>
                  <a:t>Value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4d4d4d"/>
                    </a:solidFill>
                    <a:latin typeface="Arial"/>
                  </a:rPr>
                  <a:t>Added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3" name="Rectangle 1032"/>
              <p:cNvSpPr/>
              <p:nvPr/>
            </p:nvSpPr>
            <p:spPr>
              <a:xfrm>
                <a:off x="2043360" y="2666880"/>
                <a:ext cx="6171480" cy="106668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and offs, Multiple reviews, waiting and more waiting, Rework,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hecking Status, Multiple approvals, extra copies, searching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for information, finding the “right person” with the “right information”..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pic>
          <p:nvPicPr>
            <p:cNvPr id="144" name="Picture 1033" descr="C:\Documents and Settings\conneram\Application Data\Microsoft\Media Catalog\j0131029.wmf"/>
            <p:cNvPicPr/>
            <p:nvPr/>
          </p:nvPicPr>
          <p:blipFill>
            <a:blip r:embed="rId1"/>
            <a:stretch/>
          </p:blipFill>
          <p:spPr>
            <a:xfrm>
              <a:off x="2946600" y="3809880"/>
              <a:ext cx="2833200" cy="14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034" descr="C:\Documents and Settings\conneram\Application Data\Microsoft\Media Catalog\Downloaded Clips\cl2\BD05575_.wmf"/>
            <p:cNvPicPr/>
            <p:nvPr/>
          </p:nvPicPr>
          <p:blipFill>
            <a:blip r:embed="rId2"/>
            <a:stretch/>
          </p:blipFill>
          <p:spPr>
            <a:xfrm>
              <a:off x="1365840" y="3809880"/>
              <a:ext cx="1039320" cy="18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035" descr="C:\Documents and Settings\conneram\Application Data\Microsoft\Media Catalog\Downloaded Clips\cl3\BD09988_.wmf"/>
            <p:cNvPicPr/>
            <p:nvPr/>
          </p:nvPicPr>
          <p:blipFill>
            <a:blip r:embed="rId3"/>
            <a:stretch/>
          </p:blipFill>
          <p:spPr>
            <a:xfrm>
              <a:off x="6333480" y="3886200"/>
              <a:ext cx="1771920" cy="13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Rectangle 1036"/>
          <p:cNvSpPr/>
          <p:nvPr/>
        </p:nvSpPr>
        <p:spPr>
          <a:xfrm>
            <a:off x="773280" y="274680"/>
            <a:ext cx="76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n focuses on the elimination of Waste -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35244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52440" y="914400"/>
            <a:ext cx="83692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elements of Work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Value Added Activities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An activity that transforms or shapes material or inform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And the customer wants i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And it’s done right the first ti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Arial"/>
                <a:ea typeface="Arial"/>
              </a:rPr>
              <a:t>(Required) Non Value Added Activities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  <a:ea typeface="Arial"/>
              </a:rPr>
              <a:t>Activities that  cause no value but which cannot be eliminated based on existing technology, equipment or think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  <a:ea typeface="Arial"/>
              </a:rPr>
              <a:t>Regulatory, customer mandated, leg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  <a:ea typeface="Arial"/>
              </a:rPr>
              <a:t>Necessary because of risk tolerance, ‘buffer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Waste….Non Value Added Activities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Activities that consume resources but create no value in the eyes of the custom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If you can’t get rid of it, it turns to Required, Non Val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33240" y="6019920"/>
            <a:ext cx="73152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Ask yourself…would YOU be willing to pay for this task/ activity           if you were buying this product?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5720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‘vs’ Wast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244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of Lean - 7 Wastes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352440" y="1143000"/>
            <a:ext cx="1803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wastes of lean?”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5" name="Group 17"/>
          <p:cNvGrpSpPr/>
          <p:nvPr/>
        </p:nvGrpSpPr>
        <p:grpSpPr>
          <a:xfrm>
            <a:off x="2251080" y="1371600"/>
            <a:ext cx="5336640" cy="5267160"/>
            <a:chOff x="2251080" y="1371600"/>
            <a:chExt cx="5336640" cy="5267160"/>
          </a:xfrm>
        </p:grpSpPr>
        <p:pic>
          <p:nvPicPr>
            <p:cNvPr id="156" name="Picture 7" descr="Z:\J656_SMMT Slides\images\7W\pic 1.gif"/>
            <p:cNvPicPr/>
            <p:nvPr/>
          </p:nvPicPr>
          <p:blipFill>
            <a:blip r:embed="rId1"/>
            <a:stretch/>
          </p:blipFill>
          <p:spPr>
            <a:xfrm>
              <a:off x="6049080" y="1371600"/>
              <a:ext cx="121464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8" descr="Z:\J656_SMMT Slides\images\7W\pic 2.gif"/>
            <p:cNvPicPr/>
            <p:nvPr/>
          </p:nvPicPr>
          <p:blipFill>
            <a:blip r:embed="rId2"/>
            <a:stretch/>
          </p:blipFill>
          <p:spPr>
            <a:xfrm>
              <a:off x="4993920" y="2209680"/>
              <a:ext cx="109296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9" descr="Z:\J656_SMMT Slides\images\7W\pic 3.gif"/>
            <p:cNvPicPr/>
            <p:nvPr/>
          </p:nvPicPr>
          <p:blipFill>
            <a:blip r:embed="rId3"/>
            <a:stretch/>
          </p:blipFill>
          <p:spPr>
            <a:xfrm>
              <a:off x="6471000" y="2362320"/>
              <a:ext cx="111672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0" descr="Z:\J656_SMMT Slides\images\7W\pic 4.gif"/>
            <p:cNvPicPr/>
            <p:nvPr/>
          </p:nvPicPr>
          <p:blipFill>
            <a:blip r:embed="rId4"/>
            <a:stretch/>
          </p:blipFill>
          <p:spPr>
            <a:xfrm>
              <a:off x="5556960" y="3505320"/>
              <a:ext cx="11397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1" descr="Z:\J656_SMMT Slides\images\7W\pic 5.gif"/>
            <p:cNvPicPr/>
            <p:nvPr/>
          </p:nvPicPr>
          <p:blipFill>
            <a:blip r:embed="rId5"/>
            <a:stretch/>
          </p:blipFill>
          <p:spPr>
            <a:xfrm>
              <a:off x="4782960" y="4267080"/>
              <a:ext cx="66816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2" descr="Z:\J656_SMMT Slides\images\7W\pic 6.gif"/>
            <p:cNvPicPr/>
            <p:nvPr/>
          </p:nvPicPr>
          <p:blipFill>
            <a:blip r:embed="rId6"/>
            <a:stretch/>
          </p:blipFill>
          <p:spPr>
            <a:xfrm>
              <a:off x="6189840" y="5029200"/>
              <a:ext cx="1374120" cy="101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3" descr="Z:\J656_SMMT Slides\images\7W\pic 7.gif"/>
            <p:cNvPicPr/>
            <p:nvPr/>
          </p:nvPicPr>
          <p:blipFill>
            <a:blip r:embed="rId7"/>
            <a:stretch/>
          </p:blipFill>
          <p:spPr>
            <a:xfrm>
              <a:off x="5275440" y="5791320"/>
              <a:ext cx="782280" cy="84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16"/>
            <p:cNvGrpSpPr/>
            <p:nvPr/>
          </p:nvGrpSpPr>
          <p:grpSpPr>
            <a:xfrm>
              <a:off x="2251080" y="1676520"/>
              <a:ext cx="4552200" cy="4378320"/>
              <a:chOff x="2251080" y="1676520"/>
              <a:chExt cx="4552200" cy="4378320"/>
            </a:xfrm>
          </p:grpSpPr>
          <p:sp>
            <p:nvSpPr>
              <p:cNvPr id="164" name="Rectangle 6"/>
              <p:cNvSpPr/>
              <p:nvPr/>
            </p:nvSpPr>
            <p:spPr>
              <a:xfrm>
                <a:off x="2813400" y="1676520"/>
                <a:ext cx="3989880" cy="437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75000"/>
                  </a:lnSpc>
                  <a:spcBef>
                    <a:spcPts val="28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Overproduction</a:t>
                </a:r>
                <a:endParaRPr b="0" lang="en-US" sz="3200" spc="-1" strike="noStrike">
                  <a:solidFill>
                    <a:srgbClr val="4d4d4d"/>
                  </a:solidFill>
                  <a:latin typeface="Arial"/>
                </a:endParaRPr>
              </a:p>
              <a:p>
                <a:pPr marL="343080" indent="-343080">
                  <a:lnSpc>
                    <a:spcPct val="75000"/>
                  </a:lnSpc>
                  <a:spcBef>
                    <a:spcPts val="28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Inventory</a:t>
                </a:r>
                <a:endParaRPr b="0" lang="en-US" sz="3200" spc="-1" strike="noStrike">
                  <a:solidFill>
                    <a:srgbClr val="4d4d4d"/>
                  </a:solidFill>
                  <a:latin typeface="Arial"/>
                </a:endParaRPr>
              </a:p>
              <a:p>
                <a:pPr marL="343080" indent="-343080">
                  <a:lnSpc>
                    <a:spcPct val="75000"/>
                  </a:lnSpc>
                  <a:spcBef>
                    <a:spcPts val="28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Transportation</a:t>
                </a:r>
                <a:endParaRPr b="0" lang="en-US" sz="3200" spc="-1" strike="noStrike">
                  <a:solidFill>
                    <a:srgbClr val="4d4d4d"/>
                  </a:solidFill>
                  <a:latin typeface="Arial"/>
                </a:endParaRPr>
              </a:p>
              <a:p>
                <a:pPr marL="343080" indent="-343080">
                  <a:lnSpc>
                    <a:spcPct val="75000"/>
                  </a:lnSpc>
                  <a:spcBef>
                    <a:spcPts val="28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OverProcessing</a:t>
                </a:r>
                <a:endParaRPr b="0" lang="en-US" sz="3200" spc="-1" strike="noStrike">
                  <a:solidFill>
                    <a:srgbClr val="4d4d4d"/>
                  </a:solidFill>
                  <a:latin typeface="Arial"/>
                </a:endParaRPr>
              </a:p>
              <a:p>
                <a:pPr marL="343080" indent="-343080">
                  <a:lnSpc>
                    <a:spcPct val="75000"/>
                  </a:lnSpc>
                  <a:spcBef>
                    <a:spcPts val="28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Waiting</a:t>
                </a:r>
                <a:endParaRPr b="0" lang="en-US" sz="3200" spc="-1" strike="noStrike">
                  <a:solidFill>
                    <a:srgbClr val="4d4d4d"/>
                  </a:solidFill>
                  <a:latin typeface="Arial"/>
                </a:endParaRPr>
              </a:p>
              <a:p>
                <a:pPr marL="343080" indent="-343080">
                  <a:lnSpc>
                    <a:spcPct val="75000"/>
                  </a:lnSpc>
                  <a:spcBef>
                    <a:spcPts val="28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Operator Motion</a:t>
                </a:r>
                <a:endParaRPr b="0" lang="en-US" sz="3200" spc="-1" strike="noStrike">
                  <a:solidFill>
                    <a:srgbClr val="4d4d4d"/>
                  </a:solidFill>
                  <a:latin typeface="Arial"/>
                </a:endParaRPr>
              </a:p>
              <a:p>
                <a:pPr marL="343080" indent="-343080">
                  <a:lnSpc>
                    <a:spcPct val="75000"/>
                  </a:lnSpc>
                  <a:spcBef>
                    <a:spcPts val="28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Defects</a:t>
                </a:r>
                <a:endParaRPr b="0" lang="en-US" sz="32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5" name="AutoShape 15"/>
              <p:cNvSpPr/>
              <p:nvPr/>
            </p:nvSpPr>
            <p:spPr>
              <a:xfrm>
                <a:off x="2251080" y="1676520"/>
                <a:ext cx="703080" cy="430200"/>
              </a:xfrm>
              <a:custGeom>
                <a:avLst/>
                <a:gdLst>
                  <a:gd name="textAreaLeft" fmla="*/ 449280 w 703080"/>
                  <a:gd name="textAreaRight" fmla="*/ 703440 w 703080"/>
                  <a:gd name="textAreaTop" fmla="*/ 68400 h 430200"/>
                  <a:gd name="textAreaBottom" fmla="*/ 36180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5490"/>
                      <a:pt x="10800" y="10980"/>
                    </a:cubicBezTo>
                    <a:lnTo>
                      <a:pt x="10800" y="-180"/>
                    </a:lnTo>
                    <a:cubicBezTo>
                      <a:pt x="10800" y="5310"/>
                      <a:pt x="5400" y="10800"/>
                      <a:pt x="0" y="10800"/>
                    </a:cubicBezTo>
                    <a:cubicBezTo>
                      <a:pt x="5400" y="10800"/>
                      <a:pt x="10800" y="16290"/>
                      <a:pt x="10800" y="21780"/>
                    </a:cubicBezTo>
                    <a:lnTo>
                      <a:pt x="10800" y="10620"/>
                    </a:lnTo>
                    <a:cubicBezTo>
                      <a:pt x="10800" y="1611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dfdf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26"/>
          <p:cNvSpPr/>
          <p:nvPr/>
        </p:nvSpPr>
        <p:spPr>
          <a:xfrm>
            <a:off x="210960" y="1371600"/>
            <a:ext cx="23212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in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ffice,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Wastes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be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visible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n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Text Box 1030"/>
          <p:cNvSpPr/>
          <p:nvPr/>
        </p:nvSpPr>
        <p:spPr>
          <a:xfrm>
            <a:off x="2813040" y="6095880"/>
            <a:ext cx="1857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Text Box 1031"/>
          <p:cNvSpPr/>
          <p:nvPr/>
        </p:nvSpPr>
        <p:spPr>
          <a:xfrm>
            <a:off x="844560" y="6324480"/>
            <a:ext cx="69627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And they DO apply to the Office and Support Processes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Rectangle 1032"/>
          <p:cNvSpPr/>
          <p:nvPr/>
        </p:nvSpPr>
        <p:spPr>
          <a:xfrm>
            <a:off x="422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of Lean - 7 Wastes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0" name="Group 1048"/>
          <p:cNvGrpSpPr/>
          <p:nvPr/>
        </p:nvGrpSpPr>
        <p:grpSpPr>
          <a:xfrm>
            <a:off x="2320920" y="990720"/>
            <a:ext cx="5346360" cy="5395680"/>
            <a:chOff x="2320920" y="990720"/>
            <a:chExt cx="5346360" cy="5395680"/>
          </a:xfrm>
        </p:grpSpPr>
        <p:grpSp>
          <p:nvGrpSpPr>
            <p:cNvPr id="171" name="Group 1047"/>
            <p:cNvGrpSpPr/>
            <p:nvPr/>
          </p:nvGrpSpPr>
          <p:grpSpPr>
            <a:xfrm>
              <a:off x="2320920" y="990720"/>
              <a:ext cx="5346360" cy="4759200"/>
              <a:chOff x="2320920" y="990720"/>
              <a:chExt cx="5346360" cy="4759200"/>
            </a:xfrm>
          </p:grpSpPr>
          <p:sp>
            <p:nvSpPr>
              <p:cNvPr id="172" name="Text Box 1028"/>
              <p:cNvSpPr/>
              <p:nvPr/>
            </p:nvSpPr>
            <p:spPr>
              <a:xfrm>
                <a:off x="2813400" y="2286000"/>
                <a:ext cx="2757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3" name="Text Box 1029"/>
              <p:cNvSpPr/>
              <p:nvPr/>
            </p:nvSpPr>
            <p:spPr>
              <a:xfrm>
                <a:off x="2813400" y="2209680"/>
                <a:ext cx="4431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74" name="Group 1036"/>
              <p:cNvGrpSpPr/>
              <p:nvPr/>
            </p:nvGrpSpPr>
            <p:grpSpPr>
              <a:xfrm>
                <a:off x="2320920" y="1371600"/>
                <a:ext cx="4553640" cy="4378320"/>
                <a:chOff x="2320920" y="1371600"/>
                <a:chExt cx="4553640" cy="4378320"/>
              </a:xfrm>
            </p:grpSpPr>
            <p:sp>
              <p:nvSpPr>
                <p:cNvPr id="175" name="Rectangle 1034"/>
                <p:cNvSpPr/>
                <p:nvPr/>
              </p:nvSpPr>
              <p:spPr>
                <a:xfrm>
                  <a:off x="2883600" y="1371600"/>
                  <a:ext cx="3990960" cy="437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>
                    <a:lnSpc>
                      <a:spcPct val="75000"/>
                    </a:lnSpc>
                    <a:spcBef>
                      <a:spcPts val="28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200" spc="-1" strike="noStrike">
                      <a:solidFill>
                        <a:srgbClr val="000000"/>
                      </a:solidFill>
                      <a:latin typeface="Arial"/>
                    </a:rPr>
                    <a:t>Defects </a:t>
                  </a:r>
                  <a:endParaRPr b="0" lang="en-US" sz="3200" spc="-1" strike="noStrike">
                    <a:solidFill>
                      <a:srgbClr val="4d4d4d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75000"/>
                    </a:lnSpc>
                    <a:spcBef>
                      <a:spcPts val="28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200" spc="-1" strike="noStrike">
                      <a:solidFill>
                        <a:srgbClr val="000000"/>
                      </a:solidFill>
                      <a:latin typeface="Arial"/>
                    </a:rPr>
                    <a:t>Inventory</a:t>
                  </a:r>
                  <a:endParaRPr b="0" lang="en-US" sz="3200" spc="-1" strike="noStrike">
                    <a:solidFill>
                      <a:srgbClr val="4d4d4d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75000"/>
                    </a:lnSpc>
                    <a:spcBef>
                      <a:spcPts val="28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200" spc="-1" strike="noStrike">
                      <a:solidFill>
                        <a:srgbClr val="000000"/>
                      </a:solidFill>
                      <a:latin typeface="Arial"/>
                    </a:rPr>
                    <a:t>OverProcessing</a:t>
                  </a:r>
                  <a:endParaRPr b="0" lang="en-US" sz="3200" spc="-1" strike="noStrike">
                    <a:solidFill>
                      <a:srgbClr val="4d4d4d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75000"/>
                    </a:lnSpc>
                    <a:spcBef>
                      <a:spcPts val="28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200" spc="-1" strike="noStrike">
                      <a:solidFill>
                        <a:srgbClr val="000000"/>
                      </a:solidFill>
                      <a:latin typeface="Arial"/>
                    </a:rPr>
                    <a:t>Waiting</a:t>
                  </a:r>
                  <a:endParaRPr b="0" lang="en-US" sz="3200" spc="-1" strike="noStrike">
                    <a:solidFill>
                      <a:srgbClr val="4d4d4d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75000"/>
                    </a:lnSpc>
                    <a:spcBef>
                      <a:spcPts val="28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200" spc="-1" strike="noStrike">
                      <a:solidFill>
                        <a:srgbClr val="000000"/>
                      </a:solidFill>
                      <a:latin typeface="Arial"/>
                    </a:rPr>
                    <a:t>Motion</a:t>
                  </a:r>
                  <a:endParaRPr b="0" lang="en-US" sz="3200" spc="-1" strike="noStrike">
                    <a:solidFill>
                      <a:srgbClr val="4d4d4d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75000"/>
                    </a:lnSpc>
                    <a:spcBef>
                      <a:spcPts val="28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200" spc="-1" strike="noStrike">
                      <a:solidFill>
                        <a:srgbClr val="000000"/>
                      </a:solidFill>
                      <a:latin typeface="Arial"/>
                    </a:rPr>
                    <a:t>Transportation</a:t>
                  </a:r>
                  <a:endParaRPr b="0" lang="en-US" sz="3200" spc="-1" strike="noStrike">
                    <a:solidFill>
                      <a:srgbClr val="4d4d4d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75000"/>
                    </a:lnSpc>
                    <a:spcBef>
                      <a:spcPts val="28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200" spc="-1" strike="noStrike">
                      <a:solidFill>
                        <a:srgbClr val="000000"/>
                      </a:solidFill>
                      <a:latin typeface="Arial"/>
                    </a:rPr>
                    <a:t>Overproduction</a:t>
                  </a:r>
                  <a:endParaRPr b="0" lang="en-US" sz="32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1035"/>
                <p:cNvSpPr/>
                <p:nvPr/>
              </p:nvSpPr>
              <p:spPr>
                <a:xfrm>
                  <a:off x="2320920" y="1371600"/>
                  <a:ext cx="703440" cy="430200"/>
                </a:xfrm>
                <a:custGeom>
                  <a:avLst/>
                  <a:gdLst>
                    <a:gd name="textAreaLeft" fmla="*/ 449640 w 703440"/>
                    <a:gd name="textAreaRight" fmla="*/ 703800 w 703440"/>
                    <a:gd name="textAreaTop" fmla="*/ 68400 h 430200"/>
                    <a:gd name="textAreaBottom" fmla="*/ 361800 h 430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5490"/>
                        <a:pt x="10800" y="10980"/>
                      </a:cubicBezTo>
                      <a:lnTo>
                        <a:pt x="10800" y="-180"/>
                      </a:lnTo>
                      <a:cubicBezTo>
                        <a:pt x="10800" y="5310"/>
                        <a:pt x="5400" y="10800"/>
                        <a:pt x="0" y="10800"/>
                      </a:cubicBezTo>
                      <a:cubicBezTo>
                        <a:pt x="5400" y="10800"/>
                        <a:pt x="10800" y="16290"/>
                        <a:pt x="10800" y="21780"/>
                      </a:cubicBezTo>
                      <a:lnTo>
                        <a:pt x="10800" y="10620"/>
                      </a:lnTo>
                      <a:cubicBezTo>
                        <a:pt x="10800" y="1611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dfd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7" name="Picture 1037" descr="Z:\J656_SMMT Slides\images\7W\pic 7.gif"/>
              <p:cNvPicPr/>
              <p:nvPr/>
            </p:nvPicPr>
            <p:blipFill>
              <a:blip r:embed="rId1"/>
              <a:stretch/>
            </p:blipFill>
            <p:spPr>
              <a:xfrm>
                <a:off x="4712760" y="990720"/>
                <a:ext cx="7822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1038" descr="\\Aer_roch\.IPC_N1_SYS.rochester\SM\Drawings\Clip Art\SCRBEANS\AMPRODUC.WMF"/>
              <p:cNvPicPr/>
              <p:nvPr/>
            </p:nvPicPr>
            <p:blipFill>
              <a:blip r:embed="rId2"/>
              <a:stretch/>
            </p:blipFill>
            <p:spPr>
              <a:xfrm>
                <a:off x="5346000" y="1523880"/>
                <a:ext cx="91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039" descr="Z:\J656_SMMT Slides\images\7W\pic 4.gif"/>
              <p:cNvPicPr/>
              <p:nvPr/>
            </p:nvPicPr>
            <p:blipFill>
              <a:blip r:embed="rId3"/>
              <a:stretch/>
            </p:blipFill>
            <p:spPr>
              <a:xfrm>
                <a:off x="5627160" y="2514600"/>
                <a:ext cx="1477080" cy="127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1040" descr="Z:\J656_SMMT Slides\images\7W\pic 5.gif"/>
              <p:cNvPicPr/>
              <p:nvPr/>
            </p:nvPicPr>
            <p:blipFill>
              <a:blip r:embed="rId4"/>
              <a:stretch/>
            </p:blipFill>
            <p:spPr>
              <a:xfrm>
                <a:off x="4642200" y="3200400"/>
                <a:ext cx="848520" cy="1076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1" name="Group 1041"/>
              <p:cNvGrpSpPr/>
              <p:nvPr/>
            </p:nvGrpSpPr>
            <p:grpSpPr>
              <a:xfrm>
                <a:off x="5416200" y="3886200"/>
                <a:ext cx="1265760" cy="1041480"/>
                <a:chOff x="5416200" y="3886200"/>
                <a:chExt cx="1265760" cy="1041480"/>
              </a:xfrm>
            </p:grpSpPr>
            <p:pic>
              <p:nvPicPr>
                <p:cNvPr id="182" name="Picture 1042" descr="\\Aer_roch\.IPC_N1_SYS.rochester\SM\Drawings\Clip Art\SCRBEANS\AMTRAVEL.WMF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16200" y="3886200"/>
                  <a:ext cx="573120" cy="1041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1043" descr="\\Aer_roch\.IPC_N1_SYS.rochester\SM\Drawings\Clip Art\OFFICE\FILEBOX.WMF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876280" y="4103640"/>
                  <a:ext cx="805680" cy="693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84" name="Picture 1044" descr="\\Aer_roch\.IPC_N1_SYS.rochester\SM\Drawings\Clip Art\SCRBEANS\NOTREADY.WMF"/>
              <p:cNvPicPr/>
              <p:nvPr/>
            </p:nvPicPr>
            <p:blipFill>
              <a:blip r:embed="rId7"/>
              <a:stretch/>
            </p:blipFill>
            <p:spPr>
              <a:xfrm>
                <a:off x="6401160" y="4495680"/>
                <a:ext cx="1266120" cy="911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5" name="Picture 1045" descr="\\Aer_roch\.IPC_N1_SYS.rochester\SM\Drawings\Clip Art\POWERPNT\PAPERMEN.WMF"/>
            <p:cNvPicPr/>
            <p:nvPr/>
          </p:nvPicPr>
          <p:blipFill>
            <a:blip r:embed="rId8"/>
            <a:stretch/>
          </p:blipFill>
          <p:spPr>
            <a:xfrm>
              <a:off x="5979240" y="5410080"/>
              <a:ext cx="1603080" cy="976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35244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52440" y="99072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work that contains errors, or is lacking information results in wasteful rework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ssing inform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omplete inform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ong inform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assump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-76320" y="3352680"/>
            <a:ext cx="7737480" cy="23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6896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eliminate this type of waste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blish standards for work and servic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e your requirements clearly (and communicate when your requirements aren’t met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se office forms and processes to ensure that information is correct and complet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checklists and other aides to define “what is good”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9" name="Picture 5" descr="C:\Documents and Settings\conneram\Application Data\Microsoft\Media Catalog\Downloaded Clips\cl64\j0252491.wmf"/>
          <p:cNvPicPr/>
          <p:nvPr/>
        </p:nvPicPr>
        <p:blipFill>
          <a:blip r:embed="rId1"/>
          <a:stretch/>
        </p:blipFill>
        <p:spPr>
          <a:xfrm>
            <a:off x="5556240" y="2666880"/>
            <a:ext cx="1679760" cy="920880"/>
          </a:xfrm>
          <a:prstGeom prst="rect">
            <a:avLst/>
          </a:prstGeom>
          <a:ln w="0">
            <a:noFill/>
          </a:ln>
        </p:spPr>
      </p:pic>
      <p:sp>
        <p:nvSpPr>
          <p:cNvPr id="190" name="Line 6"/>
          <p:cNvSpPr/>
          <p:nvPr/>
        </p:nvSpPr>
        <p:spPr>
          <a:xfrm>
            <a:off x="5978520" y="2514600"/>
            <a:ext cx="774720" cy="914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V="1">
            <a:off x="5767560" y="2514600"/>
            <a:ext cx="1055520" cy="8380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422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ste of Defect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5244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22280" y="1295280"/>
            <a:ext cx="80884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information or material on hand than the process needs right now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needed fi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ra suppl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necessary or extra cop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Picture 4" descr="C:\Program Files\Common Files\Microsoft Shared\Clipart\cagcat50\pe01616_.wmf"/>
          <p:cNvPicPr/>
          <p:nvPr/>
        </p:nvPicPr>
        <p:blipFill>
          <a:blip r:embed="rId1"/>
          <a:stretch/>
        </p:blipFill>
        <p:spPr>
          <a:xfrm>
            <a:off x="5345280" y="1924200"/>
            <a:ext cx="2462040" cy="2501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422280" y="3886200"/>
            <a:ext cx="745488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896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liminate this type of waste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k with your downstream customer and produce only what they nee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ise work locations and the amount of data/ information to be ke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22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ste of (Excess) Inventor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152280" y="4114800"/>
            <a:ext cx="80884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6896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eliminate this type of waste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cus on the VALUE added reviews, steps, sign offs (the key few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k questions first…avoid the “shot gun” approach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244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0" y="1371600"/>
            <a:ext cx="7877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ing or creating MORE than the customer wants (is willing to pay fo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ssive (and redundant) Review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ssive (and redundant) sign off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 check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iting additional people to meetings (just in cas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c’ing “the world” on email (just in cas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1" name="Picture 5" descr="C:\Documents and Settings\conneram\Application Data\Microsoft\Media Catalog\Downloaded Clips\cl0\BS00905_.wmf"/>
          <p:cNvPicPr/>
          <p:nvPr/>
        </p:nvPicPr>
        <p:blipFill>
          <a:blip r:embed="rId1"/>
          <a:stretch/>
        </p:blipFill>
        <p:spPr>
          <a:xfrm>
            <a:off x="6189840" y="1981080"/>
            <a:ext cx="2643120" cy="23050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422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ste of (Over) Processing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22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ste of Waiting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5244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52280" y="914400"/>
            <a:ext cx="7807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 on people, responses, data, equipment, paper, supplies, information et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ues of work/ information/ data waiting to be processe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down tim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iting on feedback of information/ data to be created or processe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6" name="Picture 4" descr="C:\Program Files\Common Files\Microsoft Shared\Clipart\cagcat50\bd07153_.wmf"/>
          <p:cNvPicPr/>
          <p:nvPr/>
        </p:nvPicPr>
        <p:blipFill>
          <a:blip r:embed="rId1"/>
          <a:stretch/>
        </p:blipFill>
        <p:spPr>
          <a:xfrm>
            <a:off x="6259680" y="3886200"/>
            <a:ext cx="2290680" cy="27162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6330960" y="4191120"/>
            <a:ext cx="9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ZZZZZ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22280" y="3276720"/>
            <a:ext cx="5767560" cy="25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6896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eliminate this waste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 train Employees to allow work flow to continue when someone is out or busy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 clear deadlin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sure that equipment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lies and /or data is readily availab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the workloa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Step 2 - Straighten copy"/>
          <p:cNvPicPr/>
          <p:nvPr/>
        </p:nvPicPr>
        <p:blipFill>
          <a:blip r:embed="rId1"/>
          <a:srcRect l="0" t="15725" r="0" b="0"/>
          <a:stretch/>
        </p:blipFill>
        <p:spPr>
          <a:xfrm>
            <a:off x="5133960" y="1219320"/>
            <a:ext cx="3657600" cy="25812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35244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0" y="3276720"/>
            <a:ext cx="86518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6896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eliminate this type of Waste: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nk of yourself as a surgeon…the center of a work space.  Bring everything you use every day to your strike zone (within easy reach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se your work area so that it flows with your process (eg: If you work left to right, organise information to flow left to righ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prove on the design of forms and documents so that information is easily locate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ndardise folders, drawers and cabinets throughout the area. Use color codes as much as possibl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alyse the benefits of duplicating equipment to eliminate multiple trips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422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ste of Motion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5064120" y="1143000"/>
            <a:ext cx="1857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352440" y="914400"/>
            <a:ext cx="6681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motion that is not necessary to the successful completion of the task/ activit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lking for information that you us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ularl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ching and bend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rch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68295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Beyond Lean Online Resource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476000"/>
            <a:ext cx="77040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ertification Courses and Exam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Workbook Download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Membership Online Training Video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LeanSigma Fast Action Implementation Gui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" name="Picture 4" descr="members-card.jpg"/>
          <p:cNvPicPr/>
          <p:nvPr/>
        </p:nvPicPr>
        <p:blipFill>
          <a:blip r:embed="rId1"/>
          <a:stretch/>
        </p:blipFill>
        <p:spPr>
          <a:xfrm>
            <a:off x="3581280" y="3886200"/>
            <a:ext cx="2590920" cy="19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sw-box.jpg"/>
          <p:cNvPicPr/>
          <p:nvPr/>
        </p:nvPicPr>
        <p:blipFill>
          <a:blip r:embed="rId2"/>
          <a:stretch/>
        </p:blipFill>
        <p:spPr>
          <a:xfrm>
            <a:off x="228600" y="1447920"/>
            <a:ext cx="22780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94" name="TextBox 7"/>
          <p:cNvGrpSpPr/>
          <p:nvPr/>
        </p:nvGrpSpPr>
        <p:grpSpPr>
          <a:xfrm>
            <a:off x="2792520" y="3164040"/>
            <a:ext cx="4383000" cy="725400"/>
            <a:chOff x="2792520" y="3164040"/>
            <a:chExt cx="4383000" cy="725400"/>
          </a:xfrm>
        </p:grpSpPr>
        <p:pic>
          <p:nvPicPr>
            <p:cNvPr id="95" name="TextBox 7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2792520" y="3164040"/>
              <a:ext cx="43830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200400" y="320040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d9bfc0"/>
                  </a:solidFill>
                  <a:uFillTx/>
                  <a:latin typeface="Arial"/>
                  <a:hlinkClick r:id="rId5"/>
                </a:rPr>
                <a:t>Order Support Products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5244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52440" y="1295280"/>
            <a:ext cx="8158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ing information and materials from place to place. Temporarily locating, filing, stocking, stacking or moving material, people, information or paper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reviews and signatu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 offs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office layou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ntralised” stora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7" name="Picture 4" descr="C:\Documents and Settings\conneram\Application Data\Microsoft\Media Catalog\BD09988_.wmf"/>
          <p:cNvPicPr/>
          <p:nvPr/>
        </p:nvPicPr>
        <p:blipFill>
          <a:blip r:embed="rId1"/>
          <a:stretch/>
        </p:blipFill>
        <p:spPr>
          <a:xfrm>
            <a:off x="5416560" y="2743200"/>
            <a:ext cx="2217600" cy="18478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281160" y="4267080"/>
            <a:ext cx="7667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81160" y="3886200"/>
            <a:ext cx="858168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6896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eliminate this type of Waste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iminate temporary storage locations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ack the process…make it flo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office layout to ensure that it supports the proces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 are you “wearing down the carpet” in the office?                      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 to eliminate it!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422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ste of Transportation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5244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52440" y="1219320"/>
            <a:ext cx="80881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ing too much information or producing it before it is required by the next process (internal customer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anding the work scop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st in case” think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o much deta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suse of autom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dump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3" name="Picture 4" descr="C:\Documents and Settings\conneram\Application Data\Microsoft\Media Catalog\j0131029.wmf"/>
          <p:cNvPicPr/>
          <p:nvPr/>
        </p:nvPicPr>
        <p:blipFill>
          <a:blip r:embed="rId1"/>
          <a:stretch/>
        </p:blipFill>
        <p:spPr>
          <a:xfrm>
            <a:off x="4713120" y="2514600"/>
            <a:ext cx="3186360" cy="17906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6615720" y="28195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Friday at 4 p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52280" y="4230720"/>
            <a:ext cx="8229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6896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eliminate this type of Waste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lk to the downstream customer…what information is really required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workplace standard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visual signal devic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22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ste of Overproduction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22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Wastes in the Offi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385920" y="1081080"/>
            <a:ext cx="83721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281160" y="1066680"/>
            <a:ext cx="77374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422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Wastes in the Offi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380880" y="952560"/>
            <a:ext cx="838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5244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492120" y="1828800"/>
            <a:ext cx="2392200" cy="2590920"/>
          </a:xfrm>
          <a:custGeom>
            <a:avLst/>
            <a:gdLst>
              <a:gd name="textAreaLeft" fmla="*/ 350280 w 2392200"/>
              <a:gd name="textAreaRight" fmla="*/ 2041920 w 2392200"/>
              <a:gd name="textAreaTop" fmla="*/ 379440 h 2590920"/>
              <a:gd name="textAreaBottom" fmla="*/ 2211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505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14400" y="2743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Wast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41120" y="4495680"/>
            <a:ext cx="32353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ste is not defined or easily visible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acting to ‘big issues’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active improvemen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4361040" y="4613400"/>
            <a:ext cx="4430520" cy="13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ste is visible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dentify small opportunities that together create large overall change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ous improvemen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994280" y="1771560"/>
            <a:ext cx="1547640" cy="7477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 flipV="1">
            <a:off x="4994280" y="1564920"/>
            <a:ext cx="3094200" cy="19256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684120" y="126036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7462080" y="2174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Defec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7100640" y="2835360"/>
            <a:ext cx="1273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Over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Processing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6400800" y="377496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Mo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5419800" y="3470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Waiting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5353560" y="1108080"/>
            <a:ext cx="1181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Over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Producing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 flipV="1">
            <a:off x="6213960" y="2816640"/>
            <a:ext cx="274680" cy="1664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Line 17"/>
          <p:cNvSpPr/>
          <p:nvPr/>
        </p:nvSpPr>
        <p:spPr>
          <a:xfrm flipH="1" flipV="1">
            <a:off x="6626160" y="2813760"/>
            <a:ext cx="1041120" cy="1272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Line 18"/>
          <p:cNvSpPr/>
          <p:nvPr/>
        </p:nvSpPr>
        <p:spPr>
          <a:xfrm flipH="1">
            <a:off x="6508440" y="761040"/>
            <a:ext cx="56160" cy="16340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Line 19"/>
          <p:cNvSpPr/>
          <p:nvPr/>
        </p:nvSpPr>
        <p:spPr>
          <a:xfrm flipH="1" flipV="1">
            <a:off x="6647760" y="2680920"/>
            <a:ext cx="1708920" cy="243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" name="Oval 20"/>
          <p:cNvSpPr/>
          <p:nvPr/>
        </p:nvSpPr>
        <p:spPr>
          <a:xfrm>
            <a:off x="5838840" y="1905120"/>
            <a:ext cx="1476360" cy="1536480"/>
          </a:xfrm>
          <a:prstGeom prst="ellipse">
            <a:avLst/>
          </a:prstGeom>
          <a:solidFill>
            <a:srgbClr val="da4b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Wast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4713120" y="2403360"/>
            <a:ext cx="11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Inventor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AutoShape 23"/>
          <p:cNvSpPr/>
          <p:nvPr/>
        </p:nvSpPr>
        <p:spPr>
          <a:xfrm>
            <a:off x="3305160" y="2590920"/>
            <a:ext cx="105588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LE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422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ift in Mindse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5244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10960" y="1219320"/>
            <a:ext cx="858060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Queues</a:t>
            </a:r>
            <a:r>
              <a:rPr b="0" lang="en-US" sz="2000" spc="-1" strike="noStrike">
                <a:solidFill>
                  <a:srgbClr val="dfdfd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gh capacity, large batch siz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Unnecessary work</a:t>
            </a:r>
            <a:r>
              <a:rPr b="0" lang="en-US" sz="2000" spc="-1" strike="noStrike">
                <a:solidFill>
                  <a:srgbClr val="dfdfd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s includes unnecessary requirements, documentation, over desig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Low reuse</a:t>
            </a:r>
            <a:r>
              <a:rPr b="0" lang="en-US" sz="2000" spc="-1" strike="noStrike">
                <a:solidFill>
                  <a:srgbClr val="dfdfd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ating the same knowledge twi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Linear processes</a:t>
            </a:r>
            <a:r>
              <a:rPr b="0" lang="en-US" sz="2000" spc="-1" strike="noStrike">
                <a:solidFill>
                  <a:srgbClr val="dfdfd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quential task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xpanding work</a:t>
            </a:r>
            <a:r>
              <a:rPr b="0" lang="en-US" sz="2000" spc="-1" strike="noStrike">
                <a:solidFill>
                  <a:srgbClr val="dfdfd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defined finish line, failure to rest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lish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xpensive changes</a:t>
            </a:r>
            <a:r>
              <a:rPr b="0" lang="en-US" sz="2000" spc="-1" strike="noStrike">
                <a:solidFill>
                  <a:srgbClr val="dfdfd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te changes, unnecessary rework due to poor communication/ feedback, absence of design margi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Slow learning</a:t>
            </a:r>
            <a:r>
              <a:rPr b="0" lang="en-US" sz="2000" spc="-1" strike="noStrike">
                <a:solidFill>
                  <a:srgbClr val="dfdfd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layed feedback, poor knowledge manag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Bad architecture</a:t>
            </a:r>
            <a:r>
              <a:rPr b="0" lang="en-US" sz="2000" spc="-1" strike="noStrike">
                <a:solidFill>
                  <a:srgbClr val="dfdfd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orrect cost and performance allocation, poor make/ buy decis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Inflexibility</a:t>
            </a:r>
            <a:r>
              <a:rPr b="0" lang="en-US" sz="2000" spc="-1" strike="noStrike">
                <a:solidFill>
                  <a:srgbClr val="dfdfd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ning the unpredictable, rigid system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Inefficiency</a:t>
            </a:r>
            <a:r>
              <a:rPr b="0" lang="en-US" sz="2000" spc="-1" strike="noStrike">
                <a:solidFill>
                  <a:srgbClr val="dfdfd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ong people doing the work, inefficient too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22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of Waste in the Proces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5244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281160" y="1219320"/>
            <a:ext cx="865188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Hands on and go to the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Gemba…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The “actual place” where the value is created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on a different waste each tim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lk through a particular area and “see” that wast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rve..Ask…Listen..GET THE FAC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 what you saw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 Wastes Char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nk of an easy way to solve i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izen Concerns &amp; Countermeasur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‘5S’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226960" y="5572080"/>
            <a:ext cx="46612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on’t forget to highlight the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“good”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things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422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 Gemba Walk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4284720" y="1844640"/>
            <a:ext cx="3948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www.BeyondLean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356000" y="1197000"/>
            <a:ext cx="37450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d9bfc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d9bfc0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Lean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 flipV="1">
            <a:off x="2619360" y="2642040"/>
            <a:ext cx="3799080" cy="2600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99ff"/>
              </a:gs>
              <a:gs pos="100000">
                <a:srgbClr val="eff5ff"/>
              </a:gs>
            </a:gsLst>
            <a:lin ang="54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dfdf"/>
                </a:solidFill>
                <a:latin typeface="Arial"/>
              </a:rPr>
              <a:t>PROBLEM SOLV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dfdf"/>
                </a:solidFill>
                <a:latin typeface="Arial"/>
              </a:rPr>
              <a:t>VISUAL MANAG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dfdf"/>
                </a:solidFill>
                <a:latin typeface="Arial"/>
              </a:rPr>
              <a:t>STANDARD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dfdf"/>
                </a:solidFill>
                <a:latin typeface="Arial"/>
              </a:rPr>
              <a:t>VS MAPP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7 WAS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2558880" y="5148360"/>
            <a:ext cx="3956400" cy="399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eff5ff"/>
              </a:gs>
            </a:gsLst>
            <a:lin ang="54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fdf"/>
                </a:solidFill>
                <a:latin typeface="Arial"/>
              </a:rPr>
              <a:t>5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2619360" y="2643120"/>
            <a:ext cx="382680" cy="2524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eff5ff"/>
              </a:gs>
            </a:gsLst>
            <a:lin ang="54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041880" y="2643120"/>
            <a:ext cx="384480" cy="2524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eff5ff"/>
              </a:gs>
            </a:gsLst>
            <a:lin ang="54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2" name="Group 23"/>
          <p:cNvGrpSpPr/>
          <p:nvPr/>
        </p:nvGrpSpPr>
        <p:grpSpPr>
          <a:xfrm>
            <a:off x="2462040" y="2071800"/>
            <a:ext cx="4108320" cy="549000"/>
            <a:chOff x="2462040" y="2071800"/>
            <a:chExt cx="4108320" cy="549000"/>
          </a:xfrm>
        </p:grpSpPr>
        <p:sp>
          <p:nvSpPr>
            <p:cNvPr id="103" name="Rectangle 24"/>
            <p:cNvSpPr/>
            <p:nvPr/>
          </p:nvSpPr>
          <p:spPr>
            <a:xfrm>
              <a:off x="2462040" y="2071800"/>
              <a:ext cx="4105440" cy="549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eff5ff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4" name="Text Box 25"/>
            <p:cNvSpPr/>
            <p:nvPr/>
          </p:nvSpPr>
          <p:spPr>
            <a:xfrm>
              <a:off x="2473920" y="2071800"/>
              <a:ext cx="4096440" cy="4597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eff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3300"/>
                  </a:solidFill>
                  <a:latin typeface="Arial"/>
                </a:rPr>
                <a:t>Continuous Improvemen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05" name="Rectangle 26"/>
          <p:cNvSpPr/>
          <p:nvPr/>
        </p:nvSpPr>
        <p:spPr>
          <a:xfrm>
            <a:off x="2462040" y="5548320"/>
            <a:ext cx="4156200" cy="3808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eff5ff"/>
              </a:gs>
            </a:gsLst>
            <a:lin ang="54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PERATIONAL STABILI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6" name="Group 27"/>
          <p:cNvGrpSpPr/>
          <p:nvPr/>
        </p:nvGrpSpPr>
        <p:grpSpPr>
          <a:xfrm>
            <a:off x="2954160" y="4294080"/>
            <a:ext cx="3093840" cy="1029960"/>
            <a:chOff x="2954160" y="4294080"/>
            <a:chExt cx="3093840" cy="1029960"/>
          </a:xfrm>
        </p:grpSpPr>
        <p:grpSp>
          <p:nvGrpSpPr>
            <p:cNvPr id="107" name="Group 28"/>
            <p:cNvGrpSpPr/>
            <p:nvPr/>
          </p:nvGrpSpPr>
          <p:grpSpPr>
            <a:xfrm>
              <a:off x="2954160" y="4294080"/>
              <a:ext cx="1239480" cy="847440"/>
              <a:chOff x="2954160" y="4294080"/>
              <a:chExt cx="1239480" cy="847440"/>
            </a:xfrm>
          </p:grpSpPr>
          <p:sp>
            <p:nvSpPr>
              <p:cNvPr id="108" name="AutoShape 29"/>
              <p:cNvSpPr/>
              <p:nvPr/>
            </p:nvSpPr>
            <p:spPr>
              <a:xfrm rot="16200000">
                <a:off x="3324240" y="4416120"/>
                <a:ext cx="470880" cy="226800"/>
              </a:xfrm>
              <a:prstGeom prst="rightArrow">
                <a:avLst>
                  <a:gd name="adj1" fmla="val 64352"/>
                  <a:gd name="adj2" fmla="val 98196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5e6d76"/>
                  </a:gs>
                </a:gsLst>
                <a:lin ang="5400000"/>
              </a:gra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9" name="Text Box 30"/>
              <p:cNvSpPr/>
              <p:nvPr/>
            </p:nvSpPr>
            <p:spPr>
              <a:xfrm>
                <a:off x="2954160" y="4773240"/>
                <a:ext cx="123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d4d4d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PEOPLE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31"/>
            <p:cNvGrpSpPr/>
            <p:nvPr/>
          </p:nvGrpSpPr>
          <p:grpSpPr>
            <a:xfrm>
              <a:off x="4993200" y="4294080"/>
              <a:ext cx="1054800" cy="1029960"/>
              <a:chOff x="4993200" y="4294080"/>
              <a:chExt cx="1054800" cy="1029960"/>
            </a:xfrm>
          </p:grpSpPr>
          <p:sp>
            <p:nvSpPr>
              <p:cNvPr id="111" name="AutoShape 32"/>
              <p:cNvSpPr/>
              <p:nvPr/>
            </p:nvSpPr>
            <p:spPr>
              <a:xfrm rot="16200000">
                <a:off x="5363280" y="4415760"/>
                <a:ext cx="470880" cy="227160"/>
              </a:xfrm>
              <a:prstGeom prst="rightArrow">
                <a:avLst>
                  <a:gd name="adj1" fmla="val 64352"/>
                  <a:gd name="adj2" fmla="val 98040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5e6d76"/>
                  </a:gs>
                </a:gsLst>
                <a:lin ang="5400000"/>
              </a:gra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2" name="Text Box 33"/>
              <p:cNvSpPr/>
              <p:nvPr/>
            </p:nvSpPr>
            <p:spPr>
              <a:xfrm>
                <a:off x="4993200" y="4773240"/>
                <a:ext cx="1054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33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cc3300"/>
                    </a:solidFill>
                    <a:latin typeface="Arial"/>
                  </a:rPr>
                  <a:t>TEAMS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9"/>
          <p:cNvSpPr/>
          <p:nvPr/>
        </p:nvSpPr>
        <p:spPr>
          <a:xfrm>
            <a:off x="35244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984240" y="1828800"/>
            <a:ext cx="5557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n Definition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7 Waste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of Lean - 7 Wastes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26"/>
          <p:cNvSpPr/>
          <p:nvPr/>
        </p:nvSpPr>
        <p:spPr>
          <a:xfrm>
            <a:off x="281160" y="152280"/>
            <a:ext cx="6400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Rectangle 1027"/>
          <p:cNvSpPr/>
          <p:nvPr/>
        </p:nvSpPr>
        <p:spPr>
          <a:xfrm>
            <a:off x="210960" y="762120"/>
            <a:ext cx="7948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ndless pursuit of waste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iminati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liver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al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the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stomer, with little or n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necessary consumption of resourc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kes work more satisfying (because we spend more time on doing the “right things”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create more capacity by creating efficiency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Text Box 1028"/>
          <p:cNvSpPr/>
          <p:nvPr/>
        </p:nvSpPr>
        <p:spPr>
          <a:xfrm>
            <a:off x="844560" y="5334120"/>
            <a:ext cx="7174080" cy="703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ffcc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Lean focuses on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value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- as defined by the customer - by eliminating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waste</a:t>
            </a: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9" name="Picture 1029" descr="bd04972_"/>
          <p:cNvPicPr/>
          <p:nvPr/>
        </p:nvPicPr>
        <p:blipFill>
          <a:blip r:embed="rId1"/>
          <a:stretch/>
        </p:blipFill>
        <p:spPr>
          <a:xfrm>
            <a:off x="5697360" y="1604880"/>
            <a:ext cx="2954520" cy="2070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030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LEAN?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26"/>
          <p:cNvSpPr/>
          <p:nvPr/>
        </p:nvSpPr>
        <p:spPr>
          <a:xfrm>
            <a:off x="35244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Rectangle 1027"/>
          <p:cNvSpPr/>
          <p:nvPr/>
        </p:nvSpPr>
        <p:spPr>
          <a:xfrm>
            <a:off x="773280" y="160020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S’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Waste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M - Takt time / Flow &amp; Pul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lies to your physical work spac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lies to process improvemen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Rectangle 102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sic Principles of Lean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492120" y="785880"/>
            <a:ext cx="7667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5 S’s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iminat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s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y making it visible and easy to attack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eryone…Every da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-152280" y="2743200"/>
            <a:ext cx="8651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28100"/>
              </a:buClr>
              <a:buSzPct val="6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goal of 5S’ is an organised, clean, high-performance workpl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f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ed so that we can work more productivel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be854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oses quality issues and bottleneck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be854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cilitates our ability to work together as a Tea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be854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phasises improved quality of work lif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acks all 7 Wastes of Lean… It helps us “see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-1219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s of Lean - The 5 S’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26"/>
          <p:cNvSpPr/>
          <p:nvPr/>
        </p:nvSpPr>
        <p:spPr>
          <a:xfrm>
            <a:off x="35244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Rectangle 1027"/>
          <p:cNvSpPr/>
          <p:nvPr/>
        </p:nvSpPr>
        <p:spPr>
          <a:xfrm>
            <a:off x="422280" y="1447920"/>
            <a:ext cx="81597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ltimate target of lean is to eliminate waste…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 is anything that adds cost or time without adding VALUE…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by the paying custome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ste is often hidden in the process or in the work are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irst goal is to “see” the waste…then eliminate it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“see” waste, you must first understand VAL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to “see” Wast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26"/>
          <p:cNvSpPr/>
          <p:nvPr/>
        </p:nvSpPr>
        <p:spPr>
          <a:xfrm>
            <a:off x="0" y="0"/>
            <a:ext cx="7615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6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Rectangle 1027"/>
          <p:cNvSpPr/>
          <p:nvPr/>
        </p:nvSpPr>
        <p:spPr>
          <a:xfrm>
            <a:off x="492120" y="1600200"/>
            <a:ext cx="82296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Value -  A Key concept of Le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fined by the customer and created by the produce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meaningful only when it can be expressed as goods &amp; servic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ue” is skewed by our pre-existing technologies, pre-existing organisations (cultures), outdated (or not updated) understanding of our environment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Text Box 1028"/>
          <p:cNvSpPr/>
          <p:nvPr/>
        </p:nvSpPr>
        <p:spPr>
          <a:xfrm>
            <a:off x="844560" y="5334120"/>
            <a:ext cx="6962760" cy="6624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ffcc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ean helps us keep “line of sight” to the customer.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If it doesn’t add VALUE, it is wast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Rectangle 1030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n Manufacturing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0:56Z</dcterms:created>
  <dc:creator>kampester</dc:creator>
  <dc:description/>
  <dc:language>en-US</dc:language>
  <cp:lastModifiedBy>Swifty</cp:lastModifiedBy>
  <dcterms:modified xsi:type="dcterms:W3CDTF">2010-07-05T15:56:18Z</dcterms:modified>
  <cp:revision>53</cp:revision>
  <dc:subject/>
  <dc:title>Lean Six Sigma</dc:title>
</cp:coreProperties>
</file>