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1.png" ContentType="image/png"/>
  <Override PartName="/ppt/media/image3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23.jpeg" ContentType="image/jpeg"/>
  <Override PartName="/ppt/media/image6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02 Section 0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4114800" y="6094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ailure Mode and Effects Analysis - FME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14040" y="871560"/>
            <a:ext cx="5588280" cy="6285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Type of FMEA’s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88600" y="1782720"/>
            <a:ext cx="785340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System - used to analyze systems and sub-systems in the early concept and design stages.  Focuses on potential failure modes associated with the functions of a system caused by the design.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Process - used to analyze manufacturing and assembly processes.  Focuses on Process Inputs.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Design - used to analyze product designs before they are released to production.  Focuses on Product Function.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66440" y="650880"/>
            <a:ext cx="5459400" cy="534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FMEA Thought Map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1" name="Group 23"/>
          <p:cNvGrpSpPr/>
          <p:nvPr/>
        </p:nvGrpSpPr>
        <p:grpSpPr>
          <a:xfrm>
            <a:off x="-12600" y="1662120"/>
            <a:ext cx="9092880" cy="2922120"/>
            <a:chOff x="-12600" y="1662120"/>
            <a:chExt cx="9092880" cy="2922120"/>
          </a:xfrm>
        </p:grpSpPr>
        <p:grpSp>
          <p:nvGrpSpPr>
            <p:cNvPr id="142" name="Group 5"/>
            <p:cNvGrpSpPr/>
            <p:nvPr/>
          </p:nvGrpSpPr>
          <p:grpSpPr>
            <a:xfrm>
              <a:off x="41400" y="1662120"/>
              <a:ext cx="8921880" cy="2922120"/>
              <a:chOff x="41400" y="1662120"/>
              <a:chExt cx="8921880" cy="2922120"/>
            </a:xfrm>
          </p:grpSpPr>
          <p:graphicFrame>
            <p:nvGraphicFramePr>
              <p:cNvPr id="143" name="Object 2"/>
              <p:cNvGraphicFramePr/>
              <p:nvPr/>
            </p:nvGraphicFramePr>
            <p:xfrm>
              <a:off x="47520" y="1662120"/>
              <a:ext cx="8915760" cy="6948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44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7520" y="1662120"/>
                        <a:ext cx="8915760" cy="69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5" name="Object 3"/>
              <p:cNvGraphicFramePr/>
              <p:nvPr/>
            </p:nvGraphicFramePr>
            <p:xfrm>
              <a:off x="41400" y="2626200"/>
              <a:ext cx="8917560" cy="19580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4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00" y="2626200"/>
                        <a:ext cx="8917560" cy="195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7" name="Rectangle 6"/>
            <p:cNvSpPr/>
            <p:nvPr/>
          </p:nvSpPr>
          <p:spPr>
            <a:xfrm>
              <a:off x="-12600" y="2850840"/>
              <a:ext cx="863280" cy="88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What is the Inpu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977400" y="2850840"/>
              <a:ext cx="1091520" cy="1429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What can go wrong with the Input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2197800" y="2394000"/>
              <a:ext cx="1290960" cy="1155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What is the Effect on the Outputs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4025520" y="3459600"/>
              <a:ext cx="1244160" cy="88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What are the Causes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3575160" y="2322720"/>
              <a:ext cx="1002240" cy="606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How Bad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5480280" y="3694680"/>
              <a:ext cx="1079640" cy="606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How Often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5855400" y="2469960"/>
              <a:ext cx="1167120" cy="88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How can this be found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7216200" y="2527920"/>
              <a:ext cx="867600" cy="606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How well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7836120" y="3459600"/>
              <a:ext cx="1244160" cy="606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What can be done?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903240" y="3318120"/>
              <a:ext cx="25560" cy="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-28800" bIns="-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V="1">
              <a:off x="1739520" y="2499120"/>
              <a:ext cx="406440" cy="41796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2123640" y="4004280"/>
              <a:ext cx="1853280" cy="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-28800" bIns="-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543120" y="2708280"/>
              <a:ext cx="1440" cy="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-28800" bIns="-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5324400" y="4004280"/>
              <a:ext cx="100800" cy="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-28800" bIns="-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321520" y="3032280"/>
              <a:ext cx="482400" cy="72288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7076880" y="2861280"/>
              <a:ext cx="100800" cy="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-28800" bIns="-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7076880" y="3307680"/>
              <a:ext cx="710280" cy="33156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8800" bIns="28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04560" y="428400"/>
            <a:ext cx="5007240" cy="5317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Definition of Terms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77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10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101ff"/>
                </a:solidFill>
                <a:uFillTx/>
                <a:latin typeface="Arial"/>
              </a:rPr>
              <a:t>Failure Mode</a:t>
            </a: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- the way in which a specific process input fails - if not detected and either corrected or removed, will cause Effect to occur.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Can be associated with a defect (in discrete manufacturing) or a process input variable that goes outside of target range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Anything that an operator can see that’s wrong is considered a Failure Mode.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10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101ff"/>
                </a:solidFill>
                <a:uFillTx/>
                <a:latin typeface="Arial"/>
              </a:rPr>
              <a:t>Effect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- impact on customer requirements.  Generally external customer focus, but can also include downstream processe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10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101ff"/>
                </a:solidFill>
                <a:uFillTx/>
                <a:latin typeface="Arial"/>
              </a:rPr>
              <a:t>Cause</a:t>
            </a: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Sources of process variation that causes the Failure Mode to occur. 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Identification of Causes should start with Failure Modes associated with the highest severity ratings.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10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101ff"/>
                </a:solidFill>
                <a:uFillTx/>
                <a:latin typeface="Arial"/>
              </a:rPr>
              <a:t>Current Controls</a:t>
            </a:r>
            <a:r>
              <a:rPr b="0" lang="en-GB" sz="1600" spc="-1" strike="noStrike" u="sng">
                <a:solidFill>
                  <a:srgbClr val="00ae00"/>
                </a:solidFill>
                <a:uFillTx/>
                <a:latin typeface="Arial"/>
              </a:rPr>
              <a:t> </a:t>
            </a: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systematized methods/devices in place to prevent or detect </a:t>
            </a:r>
            <a:r>
              <a:rPr b="1" i="1" lang="en-GB" sz="1600" spc="-1" strike="noStrike">
                <a:solidFill>
                  <a:srgbClr val="080808"/>
                </a:solidFill>
                <a:latin typeface="Arial"/>
              </a:rPr>
              <a:t>failure modes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1" i="1" lang="en-GB" sz="1600" spc="-1" strike="noStrike">
                <a:solidFill>
                  <a:srgbClr val="080808"/>
                </a:solidFill>
                <a:latin typeface="Arial"/>
              </a:rPr>
              <a:t>Causes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(before causing effects).   </a:t>
            </a:r>
            <a:r>
              <a:rPr b="1" i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Prevention consists of mistake-proofing, automated control and set-up verifications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246320" y="4299120"/>
            <a:ext cx="5972040" cy="118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741320" y="4429080"/>
            <a:ext cx="1513080" cy="29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Failure Mode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830240" y="4857840"/>
            <a:ext cx="1438560" cy="29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Failure Mode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19720" y="4819680"/>
            <a:ext cx="1492200" cy="29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Effec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483000" y="5068800"/>
            <a:ext cx="1000080" cy="119160"/>
          </a:xfrm>
          <a:prstGeom prst="rightArrow">
            <a:avLst>
              <a:gd name="adj1" fmla="val 50000"/>
              <a:gd name="adj2" fmla="val 419987"/>
            </a:avLst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3483000" y="4592520"/>
            <a:ext cx="1000080" cy="119160"/>
          </a:xfrm>
          <a:prstGeom prst="rightArrow">
            <a:avLst>
              <a:gd name="adj1" fmla="val 50000"/>
              <a:gd name="adj2" fmla="val 419987"/>
            </a:avLst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4494240" y="4871880"/>
            <a:ext cx="833400" cy="122400"/>
          </a:xfrm>
          <a:prstGeom prst="rightArrow">
            <a:avLst>
              <a:gd name="adj1" fmla="val 50000"/>
              <a:gd name="adj2" fmla="val 340725"/>
            </a:avLst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489560" y="4799160"/>
            <a:ext cx="0" cy="27612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4" name="Group 20"/>
          <p:cNvGrpSpPr/>
          <p:nvPr/>
        </p:nvGrpSpPr>
        <p:grpSpPr>
          <a:xfrm>
            <a:off x="1508040" y="2522520"/>
            <a:ext cx="7319520" cy="1327320"/>
            <a:chOff x="1508040" y="2522520"/>
            <a:chExt cx="7319520" cy="1327320"/>
          </a:xfrm>
        </p:grpSpPr>
        <p:sp>
          <p:nvSpPr>
            <p:cNvPr id="175" name="AutoShape 10"/>
            <p:cNvSpPr/>
            <p:nvPr/>
          </p:nvSpPr>
          <p:spPr>
            <a:xfrm>
              <a:off x="4767840" y="3323160"/>
              <a:ext cx="1001160" cy="117360"/>
            </a:xfrm>
            <a:prstGeom prst="rightArrow">
              <a:avLst>
                <a:gd name="adj1" fmla="val 50000"/>
                <a:gd name="adj2" fmla="val 426889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22680" bIns="226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184560" y="2651760"/>
              <a:ext cx="5643000" cy="117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3355920" y="3071520"/>
              <a:ext cx="1452600" cy="2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GB" sz="1400" spc="-1" strike="noStrike">
                  <a:solidFill>
                    <a:srgbClr val="4d4d4d"/>
                  </a:solidFill>
                  <a:latin typeface="Arial"/>
                </a:rPr>
                <a:t>Failure Mode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6775920" y="2832120"/>
              <a:ext cx="1485000" cy="2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GB" sz="1400" spc="-1" strike="noStrike">
                  <a:solidFill>
                    <a:srgbClr val="4d4d4d"/>
                  </a:solidFill>
                  <a:latin typeface="Arial"/>
                </a:rPr>
                <a:t>Effec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6775920" y="3309480"/>
              <a:ext cx="1503000" cy="2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GB" sz="1400" spc="-1" strike="noStrike">
                  <a:solidFill>
                    <a:srgbClr val="4d4d4d"/>
                  </a:solidFill>
                  <a:latin typeface="Arial"/>
                </a:rPr>
                <a:t>Effec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AutoShape 15"/>
            <p:cNvSpPr/>
            <p:nvPr/>
          </p:nvSpPr>
          <p:spPr>
            <a:xfrm>
              <a:off x="5781240" y="3366360"/>
              <a:ext cx="999360" cy="118800"/>
            </a:xfrm>
            <a:prstGeom prst="rightArrow">
              <a:avLst>
                <a:gd name="adj1" fmla="val 50000"/>
                <a:gd name="adj2" fmla="val 420957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23400" bIns="23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5781240" y="2888280"/>
              <a:ext cx="999360" cy="120240"/>
            </a:xfrm>
            <a:prstGeom prst="rightArrow">
              <a:avLst>
                <a:gd name="adj1" fmla="val 50000"/>
                <a:gd name="adj2" fmla="val 415915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24120" bIns="24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5774760" y="3052080"/>
              <a:ext cx="0" cy="319680"/>
            </a:xfrm>
            <a:prstGeom prst="line">
              <a:avLst/>
            </a:prstGeom>
            <a:ln w="507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AutoShape 18"/>
            <p:cNvSpPr/>
            <p:nvPr/>
          </p:nvSpPr>
          <p:spPr>
            <a:xfrm>
              <a:off x="4767840" y="3150360"/>
              <a:ext cx="1001160" cy="118800"/>
            </a:xfrm>
            <a:prstGeom prst="rightArrow">
              <a:avLst>
                <a:gd name="adj1" fmla="val 50000"/>
                <a:gd name="adj2" fmla="val 421715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23400" bIns="23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aphicFrame>
          <p:nvGraphicFramePr>
            <p:cNvPr id="184" name="Object 3"/>
            <p:cNvGraphicFramePr/>
            <p:nvPr/>
          </p:nvGraphicFramePr>
          <p:xfrm>
            <a:off x="1508040" y="2522520"/>
            <a:ext cx="1782720" cy="132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040" y="2522520"/>
                      <a:ext cx="1782720" cy="13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6" name="Group 28"/>
          <p:cNvGrpSpPr/>
          <p:nvPr/>
        </p:nvGrpSpPr>
        <p:grpSpPr>
          <a:xfrm>
            <a:off x="1049400" y="1095480"/>
            <a:ext cx="7200360" cy="1179360"/>
            <a:chOff x="1049400" y="1095480"/>
            <a:chExt cx="7200360" cy="1179360"/>
          </a:xfrm>
        </p:grpSpPr>
        <p:sp>
          <p:nvSpPr>
            <p:cNvPr id="187" name="Rectangle 21"/>
            <p:cNvSpPr/>
            <p:nvPr/>
          </p:nvSpPr>
          <p:spPr>
            <a:xfrm>
              <a:off x="1049400" y="1095480"/>
              <a:ext cx="5640480" cy="117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1298880" y="1391040"/>
              <a:ext cx="1457280" cy="2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GB" sz="1400" spc="-1" strike="noStrike">
                  <a:solidFill>
                    <a:srgbClr val="4d4d4d"/>
                  </a:solidFill>
                  <a:latin typeface="Arial"/>
                </a:rPr>
                <a:t>Failure Mode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Rectangle 23"/>
            <p:cNvSpPr/>
            <p:nvPr/>
          </p:nvSpPr>
          <p:spPr>
            <a:xfrm>
              <a:off x="1298880" y="1865880"/>
              <a:ext cx="1457280" cy="2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GB" sz="1400" spc="-1" strike="noStrike">
                  <a:solidFill>
                    <a:srgbClr val="4d4d4d"/>
                  </a:solidFill>
                  <a:latin typeface="Arial"/>
                </a:rPr>
                <a:t>Failure Mode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4825800" y="1391040"/>
              <a:ext cx="1534320" cy="34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Effect 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AutoShape 25"/>
            <p:cNvSpPr/>
            <p:nvPr/>
          </p:nvSpPr>
          <p:spPr>
            <a:xfrm>
              <a:off x="2800080" y="1447920"/>
              <a:ext cx="1928880" cy="160560"/>
            </a:xfrm>
            <a:prstGeom prst="rightArrow">
              <a:avLst>
                <a:gd name="adj1" fmla="val 75000"/>
                <a:gd name="adj2" fmla="val 601173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AutoShape 26"/>
            <p:cNvSpPr/>
            <p:nvPr/>
          </p:nvSpPr>
          <p:spPr>
            <a:xfrm>
              <a:off x="2800080" y="1925280"/>
              <a:ext cx="1928880" cy="160560"/>
            </a:xfrm>
            <a:prstGeom prst="rightArrow">
              <a:avLst>
                <a:gd name="adj1" fmla="val 75000"/>
                <a:gd name="adj2" fmla="val 601173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aphicFrame>
          <p:nvGraphicFramePr>
            <p:cNvPr id="193" name="Object 2"/>
            <p:cNvGraphicFramePr/>
            <p:nvPr/>
          </p:nvGraphicFramePr>
          <p:xfrm>
            <a:off x="7153920" y="1145520"/>
            <a:ext cx="1095840" cy="10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53920" y="1145520"/>
                      <a:ext cx="1095840" cy="10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40960" y="571680"/>
            <a:ext cx="5805720" cy="4507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Linking Failure Modes to Effects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336600" y="5559480"/>
            <a:ext cx="8394480" cy="70020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d9bf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2000" spc="-1" strike="noStrike">
                <a:solidFill>
                  <a:srgbClr val="4d4d4d"/>
                </a:solidFill>
                <a:latin typeface="Arial"/>
              </a:rPr>
              <a:t>Note that the relationship between the Failure Mode and the Effect is not always 1-to-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080" y="75960"/>
            <a:ext cx="6756480" cy="4381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Risk Priority Number (RPN)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714240"/>
            <a:ext cx="772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 output of an FMEA is the </a:t>
            </a:r>
            <a:r>
              <a:rPr b="0" lang="en-GB" sz="1800" spc="-1" strike="noStrike">
                <a:solidFill>
                  <a:srgbClr val="0101ff"/>
                </a:solidFill>
                <a:latin typeface="Arial"/>
              </a:rPr>
              <a:t>Risk Priority Number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 RPN is a calculated number based on information you provide regarding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e potential failure modes, 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e effects, and 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e current ability of the process to detect the failures before reaching the customer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is calculated as the product of three quantitative ratings, each one related to the effects, causes, and controls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 Risk Priority Numbers are then sorted and actions are recommended for the top issues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457200" y="4191120"/>
            <a:ext cx="7215120" cy="1366560"/>
            <a:chOff x="457200" y="4191120"/>
            <a:chExt cx="7215120" cy="1366560"/>
          </a:xfrm>
        </p:grpSpPr>
        <p:grpSp>
          <p:nvGrpSpPr>
            <p:cNvPr id="200" name="Group 9"/>
            <p:cNvGrpSpPr/>
            <p:nvPr/>
          </p:nvGrpSpPr>
          <p:grpSpPr>
            <a:xfrm>
              <a:off x="457200" y="4191120"/>
              <a:ext cx="7215120" cy="1366560"/>
              <a:chOff x="457200" y="4191120"/>
              <a:chExt cx="7215120" cy="1366560"/>
            </a:xfrm>
          </p:grpSpPr>
          <p:grpSp>
            <p:nvGrpSpPr>
              <p:cNvPr id="201" name="Group 7"/>
              <p:cNvGrpSpPr/>
              <p:nvPr/>
            </p:nvGrpSpPr>
            <p:grpSpPr>
              <a:xfrm>
                <a:off x="1702800" y="4993920"/>
                <a:ext cx="5489280" cy="351000"/>
                <a:chOff x="1702800" y="4993920"/>
                <a:chExt cx="5489280" cy="351000"/>
              </a:xfrm>
            </p:grpSpPr>
            <p:sp>
              <p:nvSpPr>
                <p:cNvPr id="202" name="Rectangle 4"/>
                <p:cNvSpPr/>
                <p:nvPr/>
              </p:nvSpPr>
              <p:spPr>
                <a:xfrm>
                  <a:off x="1702800" y="4993920"/>
                  <a:ext cx="1298520" cy="351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  <a:effectLst>
                  <a:outerShdw dist="107932" dir="2700000" blurRad="0" rotWithShape="0">
                    <a:srgbClr val="4d4d4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7400" rIns="77400" tIns="38160" bIns="3816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07920"/>
                      <a:tab algn="l" pos="1816200"/>
                      <a:tab algn="l" pos="2724120"/>
                      <a:tab algn="l" pos="3632040"/>
                      <a:tab algn="l" pos="4540320"/>
                      <a:tab algn="l" pos="5448240"/>
                      <a:tab algn="l" pos="6356520"/>
                      <a:tab algn="l" pos="7264440"/>
                      <a:tab algn="l" pos="8172360"/>
                      <a:tab algn="l" pos="9080640"/>
                      <a:tab algn="l" pos="9988560"/>
                      <a:tab algn="l" pos="10896480"/>
                    </a:tabLst>
                  </a:pPr>
                  <a:r>
                    <a:rPr b="0" lang="en-GB" sz="1800" spc="-1" strike="noStrike">
                      <a:solidFill>
                        <a:srgbClr val="4d4d4d"/>
                      </a:solidFill>
                      <a:latin typeface="Arial"/>
                    </a:rPr>
                    <a:t>Effects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"/>
                <p:cNvSpPr/>
                <p:nvPr/>
              </p:nvSpPr>
              <p:spPr>
                <a:xfrm>
                  <a:off x="3845160" y="4993920"/>
                  <a:ext cx="1145520" cy="351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  <a:effectLst>
                  <a:outerShdw dist="107932" dir="2700000" blurRad="0" rotWithShape="0">
                    <a:srgbClr val="4d4d4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7400" rIns="77400" tIns="38160" bIns="3816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07920"/>
                      <a:tab algn="l" pos="1816200"/>
                      <a:tab algn="l" pos="2724120"/>
                      <a:tab algn="l" pos="3632040"/>
                      <a:tab algn="l" pos="4540320"/>
                      <a:tab algn="l" pos="5448240"/>
                      <a:tab algn="l" pos="6356520"/>
                      <a:tab algn="l" pos="7264440"/>
                      <a:tab algn="l" pos="8172360"/>
                      <a:tab algn="l" pos="9080640"/>
                      <a:tab algn="l" pos="9988560"/>
                      <a:tab algn="l" pos="10896480"/>
                    </a:tabLst>
                  </a:pPr>
                  <a:r>
                    <a:rPr b="0" lang="en-GB" sz="1800" spc="-1" strike="noStrike">
                      <a:solidFill>
                        <a:srgbClr val="4d4d4d"/>
                      </a:solidFill>
                      <a:latin typeface="Arial"/>
                    </a:rPr>
                    <a:t>Causes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6"/>
                <p:cNvSpPr/>
                <p:nvPr/>
              </p:nvSpPr>
              <p:spPr>
                <a:xfrm>
                  <a:off x="5817960" y="4993920"/>
                  <a:ext cx="1374120" cy="351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  <a:effectLst>
                  <a:outerShdw dist="107932" dir="2700000" blurRad="0" rotWithShape="0">
                    <a:srgbClr val="4d4d4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7400" rIns="77400" tIns="38160" bIns="3816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07920"/>
                      <a:tab algn="l" pos="1816200"/>
                      <a:tab algn="l" pos="2724120"/>
                      <a:tab algn="l" pos="3632040"/>
                      <a:tab algn="l" pos="4540320"/>
                      <a:tab algn="l" pos="5448240"/>
                      <a:tab algn="l" pos="6356520"/>
                      <a:tab algn="l" pos="7264440"/>
                      <a:tab algn="l" pos="8172360"/>
                      <a:tab algn="l" pos="9080640"/>
                      <a:tab algn="l" pos="9988560"/>
                      <a:tab algn="l" pos="10896480"/>
                    </a:tabLst>
                  </a:pPr>
                  <a:r>
                    <a:rPr b="0" lang="en-GB" sz="1800" spc="-1" strike="noStrike">
                      <a:solidFill>
                        <a:srgbClr val="4d4d4d"/>
                      </a:solidFill>
                      <a:latin typeface="Arial"/>
                    </a:rPr>
                    <a:t>Controls</a:t>
                  </a: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Rectangle 8"/>
              <p:cNvSpPr/>
              <p:nvPr/>
            </p:nvSpPr>
            <p:spPr>
              <a:xfrm>
                <a:off x="457200" y="4191120"/>
                <a:ext cx="7215120" cy="1366560"/>
              </a:xfrm>
              <a:prstGeom prst="rect">
                <a:avLst/>
              </a:prstGeom>
              <a:noFill/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400" rIns="77400" tIns="38160" bIns="381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06" name="Rectangle 10"/>
            <p:cNvSpPr/>
            <p:nvPr/>
          </p:nvSpPr>
          <p:spPr>
            <a:xfrm>
              <a:off x="540360" y="4388760"/>
              <a:ext cx="70783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400" rIns="77400" tIns="38160" bIns="38160" anchor="t">
              <a:spAutoFit/>
            </a:bodyPr>
            <a:p>
              <a:pPr algn="ctr">
                <a:spcBef>
                  <a:spcPts val="675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GB" sz="2700" spc="-1" strike="noStrike">
                  <a:solidFill>
                    <a:srgbClr val="4d4d4d"/>
                  </a:solidFill>
                  <a:latin typeface="Arial"/>
                </a:rPr>
                <a:t>RPN = Severity X Occurrence X Detection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8720" y="152280"/>
            <a:ext cx="5937120" cy="5716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Definition of RPN Terms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247400"/>
            <a:ext cx="777384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Severity (of Effect)</a:t>
            </a:r>
            <a:r>
              <a:rPr b="0" lang="en-GB" sz="18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- importance of effect on customer requirements - could also be concerned with safety and other risks if failure occurs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1=Not Severe, 10=Very Sever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ccurrence (of Cause)</a:t>
            </a:r>
            <a:r>
              <a:rPr b="0" lang="en-GB" sz="18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- frequency with which a given Cause occurs and creates Failure Mode.  Can sometimes refer to the frequency of a Failure Mode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1=Not Likely, 10=Very Likely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Detection (capability of Current Controls)</a:t>
            </a:r>
            <a:r>
              <a:rPr b="0" lang="en-GB" sz="18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- ability of current control scheme to detect:  the causes before creating failure mode and or the failure modes before causing effect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1=Likely to Detect, 10=Not Likely to Detect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38360" y="4670280"/>
            <a:ext cx="6891120" cy="43488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GB" sz="2300" spc="-1" strike="noStrike">
                <a:solidFill>
                  <a:srgbClr val="4d4d4d"/>
                </a:solidFill>
                <a:latin typeface="Arial"/>
              </a:rPr>
              <a:t>Rating scales should be developed by the team.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22000" y="-360"/>
            <a:ext cx="4645080" cy="5317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FMEA Model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119160" y="704880"/>
            <a:ext cx="8905680" cy="600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04560" y="-360"/>
            <a:ext cx="5079960" cy="5065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Example Rating Scale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13" name="Object 2"/>
          <p:cNvGraphicFramePr/>
          <p:nvPr/>
        </p:nvGraphicFramePr>
        <p:xfrm>
          <a:off x="228600" y="685800"/>
          <a:ext cx="8304120" cy="46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0412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4"/>
          <p:cNvSpPr/>
          <p:nvPr/>
        </p:nvSpPr>
        <p:spPr>
          <a:xfrm>
            <a:off x="671400" y="5398920"/>
            <a:ext cx="7547040" cy="34956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7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1700" spc="-1" strike="noStrike">
                <a:solidFill>
                  <a:srgbClr val="0066cc"/>
                </a:solidFill>
                <a:latin typeface="Arial"/>
              </a:rPr>
              <a:t>The 1, 4, 7, 10 scale is generally considered to be the best option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58760" y="285840"/>
            <a:ext cx="5429160" cy="4284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Dynamics of the RPN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17" name="Object 2"/>
          <p:cNvGraphicFramePr/>
          <p:nvPr/>
        </p:nvGraphicFramePr>
        <p:xfrm>
          <a:off x="642960" y="928800"/>
          <a:ext cx="7972560" cy="49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928800"/>
                    <a:ext cx="7972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565200" y="5432400"/>
            <a:ext cx="8013600" cy="76356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7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2000" spc="-1" strike="noStrike">
                <a:solidFill>
                  <a:srgbClr val="114ffb"/>
                </a:solidFill>
                <a:latin typeface="Arial"/>
              </a:rPr>
              <a:t>Which ratings are most affected by design?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2000" spc="-1" strike="noStrike">
                <a:solidFill>
                  <a:srgbClr val="114ffb"/>
                </a:solidFill>
                <a:latin typeface="Arial"/>
              </a:rPr>
              <a:t>By manufacturing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90360" y="572760"/>
            <a:ext cx="5388120" cy="5223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3100" spc="-1" strike="noStrike">
                <a:solidFill>
                  <a:srgbClr val="080808"/>
                </a:solidFill>
                <a:latin typeface="Arial"/>
              </a:rPr>
              <a:t>General Steps in the FMEA</a:t>
            </a:r>
            <a:endParaRPr b="1" lang="en-US" sz="31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1062000"/>
            <a:ext cx="3679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0680" bIns="40680" anchor="t">
            <a:noAutofit/>
          </a:bodyPr>
          <a:p>
            <a:pPr marL="255600" indent="-255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04920" y="1262160"/>
            <a:ext cx="8550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0680" bIns="40680" anchor="t">
            <a:noAutofit/>
          </a:bodyPr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.  For each Process Input, list ways that it can vary or go wrong (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Failure Modes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2.  Identify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Effects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associated with each Failure Mo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.  List all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Causes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for each Failure Mo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4.  List the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Current Controls 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for each Caus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5.  Create Severity, Occurrence, and Detection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rating 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6.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ssign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Severity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Occurrence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Detection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ratings to each Caus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7.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Calculate the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risk priority number 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for each potential Failure mode scenari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8.  Determine 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recommended actions,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with responsible parties assigned and estimated date of completion,</a:t>
            </a:r>
            <a:r>
              <a:rPr b="1" lang="en-GB" sz="18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o reduce </a:t>
            </a: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High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 RPNs - Estimate effect of Actions on RPN (SEV, OCC, DET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9.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Take appropriate actions and re-calculate all RP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61720" y="571680"/>
            <a:ext cx="5085000" cy="36504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4560" bIns="34560" anchor="ctr">
            <a:noAutofit/>
          </a:bodyPr>
          <a:p>
            <a:pPr indent="0">
              <a:buNone/>
              <a:tabLst>
                <a:tab algn="l" pos="0"/>
                <a:tab algn="l" pos="563400"/>
                <a:tab algn="l" pos="1127160"/>
                <a:tab algn="l" pos="1690560"/>
                <a:tab algn="l" pos="2254320"/>
                <a:tab algn="l" pos="2817720"/>
                <a:tab algn="l" pos="3381480"/>
                <a:tab algn="l" pos="3944880"/>
                <a:tab algn="l" pos="4508640"/>
                <a:tab algn="l" pos="5072040"/>
                <a:tab algn="l" pos="5635800"/>
                <a:tab algn="l" pos="6199200"/>
                <a:tab algn="l" pos="6762600"/>
                <a:tab algn="l" pos="7326360"/>
                <a:tab algn="l" pos="7889760"/>
                <a:tab algn="l" pos="8453520"/>
                <a:tab algn="l" pos="9016920"/>
                <a:tab algn="l" pos="9580680"/>
                <a:tab algn="l" pos="10144080"/>
                <a:tab algn="l" pos="1070784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Application Exampl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7960" y="1258920"/>
            <a:ext cx="8164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0680" bIns="40680" anchor="t">
            <a:noAutofit/>
          </a:bodyPr>
          <a:p>
            <a:pPr marL="412920" indent="-204840">
              <a:spcBef>
                <a:spcPts val="1276"/>
              </a:spcBef>
              <a:buClr>
                <a:srgbClr val="4d4d4d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700" spc="-1" strike="noStrike" u="sng">
                <a:solidFill>
                  <a:srgbClr val="4d4d4d"/>
                </a:solidFill>
                <a:uFillTx/>
                <a:latin typeface="Arial"/>
              </a:rPr>
              <a:t>Design: </a:t>
            </a: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A designer needs to design a brake pad for a new caliper assembly. How do we identify the effect the new brake pad will have on the caliper assembly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412920" indent="-204840">
              <a:spcBef>
                <a:spcPts val="1276"/>
              </a:spcBef>
              <a:buClr>
                <a:srgbClr val="4d4d4d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700" spc="-1" strike="noStrike" u="sng">
                <a:solidFill>
                  <a:srgbClr val="4d4d4d"/>
                </a:solidFill>
                <a:uFillTx/>
                <a:latin typeface="Arial"/>
              </a:rPr>
              <a:t>Discrete Manufacturing: </a:t>
            </a: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A new screw machine with improved capability is going to be added to the manufacturing floor. What effect will this have?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412920" indent="-204840">
              <a:spcBef>
                <a:spcPts val="1276"/>
              </a:spcBef>
              <a:buClr>
                <a:srgbClr val="4d4d4d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700" spc="-1" strike="noStrike" u="sng">
                <a:solidFill>
                  <a:srgbClr val="4d4d4d"/>
                </a:solidFill>
                <a:uFillTx/>
                <a:latin typeface="Arial"/>
              </a:rPr>
              <a:t>Continuous Manufacturing</a:t>
            </a: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: A laminate customer has added a requirement for particulate contamination; how do we plan to measure and control it?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412920" indent="-204840">
              <a:spcBef>
                <a:spcPts val="1276"/>
              </a:spcBef>
              <a:buClr>
                <a:srgbClr val="4d4d4d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700" spc="-1" strike="noStrike" u="sng">
                <a:solidFill>
                  <a:srgbClr val="4d4d4d"/>
                </a:solidFill>
                <a:uFillTx/>
                <a:latin typeface="Arial"/>
              </a:rPr>
              <a:t>Administrative</a:t>
            </a: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: A shipping manager needs to determine how a new picking process will impact the movement of trucks within the distribution center.</a:t>
            </a: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 How would he know what factors to identify that would impact customer deliveries?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33360" y="1000080"/>
            <a:ext cx="6756480" cy="642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FMEA Form - Initial Assessment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46080" y="2046240"/>
          <a:ext cx="9063000" cy="31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046240"/>
                    <a:ext cx="906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60480" y="-12960"/>
            <a:ext cx="6756480" cy="5094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FMEA Form - Long Term History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380880" y="831960"/>
          <a:ext cx="791388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1960"/>
                    <a:ext cx="7913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39060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440" bIns="37440" anchor="ctr">
            <a:noAutofit/>
          </a:bodyPr>
          <a:p>
            <a:pPr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cess Map to be Used in Example</a:t>
            </a: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1920" y="728640"/>
            <a:ext cx="90201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58760" y="214200"/>
            <a:ext cx="5281560" cy="571680"/>
          </a:xfrm>
          <a:prstGeom prst="rect">
            <a:avLst/>
          </a:prstGeom>
          <a:noFill/>
          <a:ln w="0">
            <a:noFill/>
          </a:ln>
        </p:spPr>
        <p:txBody>
          <a:bodyPr lIns="75240" rIns="75240" tIns="37440" bIns="37440" anchor="ctr">
            <a:noAutofit/>
          </a:bodyPr>
          <a:p>
            <a:pPr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en-GB" sz="2500" spc="-1" strike="noStrike">
                <a:solidFill>
                  <a:srgbClr val="080808"/>
                </a:solidFill>
                <a:latin typeface="Arial"/>
              </a:rPr>
              <a:t>C&amp;E Matrix Approach to FMEA</a:t>
            </a:r>
            <a:endParaRPr b="1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09480" y="892080"/>
            <a:ext cx="79250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We will focus on the top priority items from the matrix for our FMEA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81120" indent="-227160">
              <a:lnSpc>
                <a:spcPct val="100000"/>
              </a:lnSpc>
              <a:spcBef>
                <a:spcPts val="1125"/>
              </a:spcBef>
              <a:buClr>
                <a:srgbClr val="4d4d4d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  <a:ea typeface="Arial"/>
              </a:rPr>
              <a:t>Scales Accuracy,   DMF Load Accuracy, DMF Cleanliness and DICY Environmental Factors are the most importa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19080" y="2171880"/>
            <a:ext cx="73058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42480" y="285480"/>
            <a:ext cx="71852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                              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FMEA Form - Initial Assessment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1.  For each input brainstorm what can vary or go wrong (Failure Modes)</a:t>
            </a: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2.  Identify effects for each Failure Mode.</a:t>
            </a: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3.  List potential causes for each Failure Mode.</a:t>
            </a: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4.  List current controls.</a:t>
            </a: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5.  Assign ratings based on agreed upon scale for severity, occurrence, and detection.</a:t>
            </a:r>
            <a:br>
              <a:rPr sz="1600"/>
            </a:b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6.  Calculate RPN by multiplication of severity, occurrence, and detection.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0" y="2733840"/>
            <a:ext cx="920124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4"/>
          <p:cNvGrpSpPr/>
          <p:nvPr/>
        </p:nvGrpSpPr>
        <p:grpSpPr>
          <a:xfrm>
            <a:off x="90360" y="2232000"/>
            <a:ext cx="9060120" cy="3267000"/>
            <a:chOff x="90360" y="2232000"/>
            <a:chExt cx="9060120" cy="3267000"/>
          </a:xfrm>
        </p:grpSpPr>
        <p:graphicFrame>
          <p:nvGraphicFramePr>
            <p:cNvPr id="237" name="Object 2"/>
            <p:cNvGraphicFramePr/>
            <p:nvPr/>
          </p:nvGraphicFramePr>
          <p:xfrm>
            <a:off x="90360" y="2232000"/>
            <a:ext cx="9060120" cy="88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360" y="2232000"/>
                      <a:ext cx="9060120" cy="88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Object 3"/>
            <p:cNvGraphicFramePr/>
            <p:nvPr/>
          </p:nvGraphicFramePr>
          <p:xfrm>
            <a:off x="90360" y="3178440"/>
            <a:ext cx="9060120" cy="2320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4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0360" y="3178440"/>
                      <a:ext cx="9060120" cy="23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49640" y="500040"/>
            <a:ext cx="47894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Prioritization of Actions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035000" y="1339920"/>
            <a:ext cx="7020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Sort by RPN and fill in recommended actions only for top RPN’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523880" y="5827680"/>
            <a:ext cx="6159600" cy="51696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d4d4d"/>
                </a:solidFill>
                <a:latin typeface="Arial"/>
              </a:rPr>
              <a:t>The key is </a:t>
            </a:r>
            <a:r>
              <a:rPr b="1" i="1" lang="en-GB" sz="2800" spc="-1" strike="noStrike">
                <a:solidFill>
                  <a:srgbClr val="fc0128"/>
                </a:solidFill>
                <a:latin typeface="Arial"/>
              </a:rPr>
              <a:t>FOCUS!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837560" y="2357280"/>
            <a:ext cx="1233360" cy="714600"/>
          </a:xfrm>
          <a:custGeom>
            <a:avLst/>
            <a:gdLst>
              <a:gd name="textAreaLeft" fmla="*/ 281520 w 1233360"/>
              <a:gd name="textAreaRight" fmla="*/ 951840 w 123336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49640" y="499680"/>
            <a:ext cx="478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FMEA</a:t>
            </a:r>
            <a:br>
              <a:rPr sz="2800"/>
            </a:b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 Living Documen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297000" y="1598760"/>
            <a:ext cx="8589960" cy="2936880"/>
            <a:chOff x="297000" y="1598760"/>
            <a:chExt cx="8589960" cy="2936880"/>
          </a:xfrm>
        </p:grpSpPr>
        <p:graphicFrame>
          <p:nvGraphicFramePr>
            <p:cNvPr id="247" name="Object 2"/>
            <p:cNvGraphicFramePr/>
            <p:nvPr/>
          </p:nvGraphicFramePr>
          <p:xfrm>
            <a:off x="297000" y="1598760"/>
            <a:ext cx="8589960" cy="840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4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000" y="1598760"/>
                      <a:ext cx="8589960" cy="84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3"/>
            <p:cNvGraphicFramePr/>
            <p:nvPr/>
          </p:nvGraphicFramePr>
          <p:xfrm>
            <a:off x="297000" y="2351880"/>
            <a:ext cx="8589960" cy="2183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5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000" y="2351880"/>
                      <a:ext cx="8589960" cy="21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1" name="Rectangle 6"/>
          <p:cNvSpPr/>
          <p:nvPr/>
        </p:nvSpPr>
        <p:spPr>
          <a:xfrm>
            <a:off x="458640" y="4726080"/>
            <a:ext cx="70088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We have recorded when the action was taken and the impact on the RPN.  The team rated Sev, Occ, and Det using the same scale developed previously.  Notice that this is a nice way to track past activities.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95080" y="213840"/>
            <a:ext cx="4426200" cy="5986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Approaches to FMEA’s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Approach One (C&amp;E Matrix Focus)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Start with Key Inputs with the highest scores from the C&amp;E Matrix analysis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Approach Two (Focused):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Fill out the Failure Mode and Effects columns of the worksheet.  Copy to FMEA form and rate Severity.  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For High Severity Ratings, List Causes and rate Occurrence for each Cause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For the highest Severity * Occurrence Ratings, evaluate Current Controls and develop actions for highest RPN’s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Approach Three (Comprehensive)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Fill out the FMEA worksheet beginning with the first process step and ending with the last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Approach Four (Super Focused)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Pick the top Pareto defect item (Fiber Breakouts) or Failure Mode (Variability in Temperature)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Focus the FMEA process on only that defect or Failure Mode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Purpose:  To “Kill” that Failure Mode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354560" y="1143000"/>
            <a:ext cx="4584600" cy="4276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5700600" y="5418000"/>
            <a:ext cx="2063880" cy="37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GB" sz="1900" spc="-1" strike="noStrike">
                <a:solidFill>
                  <a:srgbClr val="2b0956"/>
                </a:solidFill>
                <a:latin typeface="LB Helvetica Black"/>
              </a:rPr>
              <a:t>y=f(x)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444680" y="1482840"/>
            <a:ext cx="3101760" cy="1190160"/>
          </a:xfrm>
          <a:custGeom>
            <a:avLst/>
            <a:gdLst>
              <a:gd name="textAreaLeft" fmla="*/ 0 w 3101760"/>
              <a:gd name="textAreaRight" fmla="*/ 3102120 w 3101760"/>
              <a:gd name="textAreaTop" fmla="*/ 0 h 1190160"/>
              <a:gd name="textAreaBottom" fmla="*/ 1190520 h 119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7" y="0"/>
                </a:lnTo>
                <a:lnTo>
                  <a:pt x="21600" y="10800"/>
                </a:lnTo>
                <a:lnTo>
                  <a:pt x="174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ctr">
            <a:spAutoFit/>
          </a:bodyPr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Map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Measurement System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Capability Analysi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480960" indent="-1620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  <a:ea typeface="Arial"/>
              </a:rPr>
              <a:t>Histogram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480960" indent="-1620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  <a:ea typeface="Arial"/>
              </a:rPr>
              <a:t>Control Char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476360" y="2698920"/>
            <a:ext cx="3156120" cy="742680"/>
          </a:xfrm>
          <a:custGeom>
            <a:avLst/>
            <a:gdLst>
              <a:gd name="textAreaLeft" fmla="*/ 0 w 3156120"/>
              <a:gd name="textAreaRight" fmla="*/ 3156480 w 315612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16" y="0"/>
                </a:lnTo>
                <a:lnTo>
                  <a:pt x="21600" y="10800"/>
                </a:lnTo>
                <a:lnTo>
                  <a:pt x="175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ctr">
            <a:noAutofit/>
          </a:bodyPr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Fishbone Diagram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Cause and Effect Matrix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460520" y="3656160"/>
            <a:ext cx="3171960" cy="919080"/>
          </a:xfrm>
          <a:custGeom>
            <a:avLst/>
            <a:gdLst>
              <a:gd name="textAreaLeft" fmla="*/ 0 w 3171960"/>
              <a:gd name="textAreaRight" fmla="*/ 3172320 w 31719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51" y="0"/>
                </a:lnTo>
                <a:lnTo>
                  <a:pt x="21600" y="10800"/>
                </a:lnTo>
                <a:lnTo>
                  <a:pt x="165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ctr">
            <a:noAutofit/>
          </a:bodyPr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Failure Modes and Effects Analysi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Multi-Vari Studie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Design of Experiments (DOE)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1476360" y="4649760"/>
            <a:ext cx="3156120" cy="1052640"/>
          </a:xfrm>
          <a:custGeom>
            <a:avLst/>
            <a:gdLst>
              <a:gd name="textAreaLeft" fmla="*/ 0 w 3156120"/>
              <a:gd name="textAreaRight" fmla="*/ 3156480 w 315612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73" y="0"/>
                </a:lnTo>
                <a:lnTo>
                  <a:pt x="21600" y="10800"/>
                </a:lnTo>
                <a:lnTo>
                  <a:pt x="15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ctr">
            <a:noAutofit/>
          </a:bodyPr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DOE/</a:t>
            </a:r>
            <a:br>
              <a:rPr sz="1300"/>
            </a:b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Evolutionary Operation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Control Plan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marL="160200" indent="-160200">
              <a:lnSpc>
                <a:spcPct val="95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300" spc="-1" strike="noStrike">
                <a:solidFill>
                  <a:srgbClr val="4d4d4d"/>
                </a:solidFill>
                <a:latin typeface="Arial"/>
              </a:rPr>
              <a:t>Statistical Process Control Chart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363600" y="2698920"/>
            <a:ext cx="111600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900" spc="-1" strike="noStrike">
                <a:solidFill>
                  <a:srgbClr val="2b0956"/>
                </a:solidFill>
                <a:latin typeface="Arial"/>
              </a:rPr>
              <a:t>Analyze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63600" y="1500120"/>
            <a:ext cx="1111320" cy="1141560"/>
          </a:xfrm>
          <a:prstGeom prst="rect">
            <a:avLst/>
          </a:pr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900" spc="-1" strike="noStrike">
                <a:solidFill>
                  <a:srgbClr val="2b0956"/>
                </a:solidFill>
                <a:latin typeface="Arial"/>
              </a:rPr>
              <a:t>Measure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363600" y="4648320"/>
            <a:ext cx="1116000" cy="1054080"/>
          </a:xfrm>
          <a:prstGeom prst="rect">
            <a:avLst/>
          </a:prstGeom>
          <a:solidFill>
            <a:srgbClr val="ffff00"/>
          </a:solidFill>
          <a:ln w="25560">
            <a:solidFill>
              <a:srgbClr val="2b09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900" spc="-1" strike="noStrike">
                <a:solidFill>
                  <a:srgbClr val="2b0956"/>
                </a:solidFill>
                <a:latin typeface="Arial"/>
              </a:rPr>
              <a:t>Improve</a:t>
            </a:r>
            <a:br>
              <a:rPr sz="1900"/>
            </a:br>
            <a:r>
              <a:rPr b="1" lang="en-GB" sz="1900" spc="-1" strike="noStrike">
                <a:solidFill>
                  <a:srgbClr val="2b0956"/>
                </a:solidFill>
                <a:latin typeface="Arial"/>
              </a:rPr>
              <a:t>and</a:t>
            </a:r>
            <a:br>
              <a:rPr sz="1900"/>
            </a:br>
            <a:r>
              <a:rPr b="1" lang="en-GB" sz="1900" spc="-1" strike="noStrike">
                <a:solidFill>
                  <a:srgbClr val="2b0956"/>
                </a:solidFill>
                <a:latin typeface="Arial"/>
              </a:rPr>
              <a:t>Control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3" name="Group 13" descr=""/>
          <p:cNvPicPr/>
          <p:nvPr/>
        </p:nvPicPr>
        <p:blipFill>
          <a:blip r:embed="rId2"/>
          <a:stretch/>
        </p:blipFill>
        <p:spPr>
          <a:xfrm>
            <a:off x="2389320" y="5992920"/>
            <a:ext cx="4365360" cy="6094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4"/>
          <p:cNvSpPr/>
          <p:nvPr/>
        </p:nvSpPr>
        <p:spPr>
          <a:xfrm>
            <a:off x="1960560" y="358920"/>
            <a:ext cx="6093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2600" spc="-1" strike="noStrike">
                <a:solidFill>
                  <a:srgbClr val="4d4d4d"/>
                </a:solidFill>
                <a:latin typeface="Arial"/>
              </a:rPr>
              <a:t>Process Improvement Plan Review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12880" y="642960"/>
            <a:ext cx="4135680" cy="642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700" spc="-1" strike="noStrike">
                <a:solidFill>
                  <a:srgbClr val="080808"/>
                </a:solidFill>
                <a:latin typeface="Arial"/>
              </a:rPr>
              <a:t>Summary</a:t>
            </a:r>
            <a:endParaRPr b="1" lang="en-US" sz="2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We reviewed the importance of the FMEA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We discussed the link of the FMEA to the Process Map and C&amp;E Matrix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We performed some exercises to complete an FMEA using the worksheet and the final FMEA form 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80808"/>
                </a:solidFill>
                <a:latin typeface="Arial"/>
              </a:rPr>
              <a:t>The FMEA has been added as a tool to utilize in the prioritization of actions to go forward with on our search for understanding of our processes.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2840" y="763560"/>
            <a:ext cx="675648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Learning Objectives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280" y="1941120"/>
            <a:ext cx="772164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3"/>
              </a:spcBef>
              <a:buClr>
                <a:srgbClr val="080808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To understand the concepts of the Failure Mode and Effects Analysis (FMEA) and its applicability to the evaluation of all processes.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2013"/>
              </a:spcBef>
              <a:buClr>
                <a:srgbClr val="080808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To emphasize the importance of prioritizing process improvement opportunities.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2720880" y="5214960"/>
            <a:ext cx="37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5915160" y="5214960"/>
            <a:ext cx="368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317840" y="5214960"/>
            <a:ext cx="3686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1608120" y="5013360"/>
            <a:ext cx="1065240" cy="404640"/>
            <a:chOff x="1608120" y="5013360"/>
            <a:chExt cx="1065240" cy="404640"/>
          </a:xfrm>
        </p:grpSpPr>
        <p:sp>
          <p:nvSpPr>
            <p:cNvPr id="91" name="Rectangle 7"/>
            <p:cNvSpPr/>
            <p:nvPr/>
          </p:nvSpPr>
          <p:spPr>
            <a:xfrm>
              <a:off x="1608120" y="5013360"/>
              <a:ext cx="1065240" cy="404640"/>
            </a:xfrm>
            <a:prstGeom prst="rect">
              <a:avLst/>
            </a:prstGeom>
            <a:solidFill>
              <a:srgbClr val="0101ff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1659600" y="5059440"/>
              <a:ext cx="947880" cy="3128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120" bIns="42120" anchor="t">
              <a:spAutoFit/>
            </a:bodyPr>
            <a:p>
              <a:pPr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Measure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3122640" y="5013360"/>
            <a:ext cx="1147320" cy="404640"/>
            <a:chOff x="3122640" y="5013360"/>
            <a:chExt cx="1147320" cy="404640"/>
          </a:xfrm>
        </p:grpSpPr>
        <p:sp>
          <p:nvSpPr>
            <p:cNvPr id="94" name="Rectangle 10"/>
            <p:cNvSpPr/>
            <p:nvPr/>
          </p:nvSpPr>
          <p:spPr>
            <a:xfrm>
              <a:off x="3133080" y="5013360"/>
              <a:ext cx="1136880" cy="404640"/>
            </a:xfrm>
            <a:prstGeom prst="rect">
              <a:avLst/>
            </a:prstGeom>
            <a:solidFill>
              <a:srgbClr val="063de8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3122640" y="5074200"/>
              <a:ext cx="1085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120" bIns="4212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4716360" y="5013360"/>
            <a:ext cx="1138320" cy="404640"/>
            <a:chOff x="4716360" y="5013360"/>
            <a:chExt cx="1138320" cy="404640"/>
          </a:xfrm>
        </p:grpSpPr>
        <p:sp>
          <p:nvSpPr>
            <p:cNvPr id="97" name="Rectangle 13"/>
            <p:cNvSpPr/>
            <p:nvPr/>
          </p:nvSpPr>
          <p:spPr>
            <a:xfrm>
              <a:off x="4716360" y="5013360"/>
              <a:ext cx="1138320" cy="404640"/>
            </a:xfrm>
            <a:prstGeom prst="rect">
              <a:avLst/>
            </a:prstGeom>
            <a:solidFill>
              <a:srgbClr val="063de8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" name="Rectangle 14"/>
            <p:cNvSpPr/>
            <p:nvPr/>
          </p:nvSpPr>
          <p:spPr>
            <a:xfrm>
              <a:off x="4822200" y="5059440"/>
              <a:ext cx="97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120" bIns="4212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Improve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9" name="Group 18"/>
          <p:cNvGrpSpPr/>
          <p:nvPr/>
        </p:nvGrpSpPr>
        <p:grpSpPr>
          <a:xfrm>
            <a:off x="6326280" y="5013360"/>
            <a:ext cx="1136520" cy="404640"/>
            <a:chOff x="6326280" y="5013360"/>
            <a:chExt cx="1136520" cy="404640"/>
          </a:xfrm>
        </p:grpSpPr>
        <p:sp>
          <p:nvSpPr>
            <p:cNvPr id="100" name="Rectangle 16"/>
            <p:cNvSpPr/>
            <p:nvPr/>
          </p:nvSpPr>
          <p:spPr>
            <a:xfrm>
              <a:off x="6326280" y="5013360"/>
              <a:ext cx="1136520" cy="404640"/>
            </a:xfrm>
            <a:prstGeom prst="rect">
              <a:avLst/>
            </a:prstGeom>
            <a:solidFill>
              <a:srgbClr val="0101ff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1" name="Rectangle 17"/>
            <p:cNvSpPr/>
            <p:nvPr/>
          </p:nvSpPr>
          <p:spPr>
            <a:xfrm>
              <a:off x="6470640" y="5059440"/>
              <a:ext cx="848880" cy="312840"/>
            </a:xfrm>
            <a:prstGeom prst="rect">
              <a:avLst/>
            </a:prstGeom>
            <a:solidFill>
              <a:srgbClr val="010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120" bIns="4212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5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7705800" cy="4943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members-card.jpg"/>
          <p:cNvPicPr/>
          <p:nvPr/>
        </p:nvPicPr>
        <p:blipFill>
          <a:blip r:embed="rId2"/>
          <a:stretch/>
        </p:blipFill>
        <p:spPr>
          <a:xfrm>
            <a:off x="3581280" y="4210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sw-box.jpg"/>
          <p:cNvPicPr/>
          <p:nvPr/>
        </p:nvPicPr>
        <p:blipFill>
          <a:blip r:embed="rId3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66440" y="642600"/>
            <a:ext cx="58834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FMEA - Definition and Purpose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1360" y="131436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Definition-A structured approach to: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identifying the ways in which a product or process can fail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estimating the risk of specific causes with regard to these failures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prioritizing the actions that should be taken to reduce the chance of Failure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evaluating the design validation plan (Product) or the current control plan (Process) for preventing these failures from occurring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Identify potential failure modes and rate the severity of their effects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o rank order potential deficiencies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o help focus on prevention</a:t>
            </a:r>
            <a:endParaRPr b="1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219320" y="5410080"/>
            <a:ext cx="6092640" cy="54108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GB" sz="1500" spc="-1" strike="noStrike">
                <a:solidFill>
                  <a:srgbClr val="4d4d4d"/>
                </a:solidFill>
                <a:latin typeface="Arial"/>
              </a:rPr>
              <a:t>This tool is best used in a proactive manner, but may also be used in a reactive situation.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58760" y="499680"/>
            <a:ext cx="54435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Where do Risks Come From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548160" y="1214280"/>
            <a:ext cx="1686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Health, Safety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&amp; Environmental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478840" y="1870200"/>
            <a:ext cx="176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Market Pressur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977440" y="2894040"/>
            <a:ext cx="231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Management Pressur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307200" y="4322880"/>
            <a:ext cx="1369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Development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563360" y="5132520"/>
            <a:ext cx="1519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Public Liability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515960" y="4262400"/>
            <a:ext cx="144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Customer 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Requirement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127600" y="5238720"/>
            <a:ext cx="184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Warranty Servi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27040" y="3143160"/>
            <a:ext cx="1752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Legal &amp; Statutory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Requirement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161720" y="1785960"/>
            <a:ext cx="1283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500" spc="-1" strike="noStrike">
                <a:solidFill>
                  <a:srgbClr val="4d4d4d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2092320" y="2179800"/>
            <a:ext cx="1373040" cy="909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432320" y="1833480"/>
            <a:ext cx="0" cy="982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5176800" y="2251080"/>
            <a:ext cx="936720" cy="719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5551560" y="3262320"/>
            <a:ext cx="961920" cy="11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H="1" flipV="1">
            <a:off x="5354280" y="3724200"/>
            <a:ext cx="888840" cy="7668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 flipV="1">
            <a:off x="4653000" y="3962520"/>
            <a:ext cx="466560" cy="11239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V="1">
            <a:off x="3516480" y="3877920"/>
            <a:ext cx="477720" cy="1422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778120" y="3711240"/>
            <a:ext cx="768240" cy="816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 flipV="1">
            <a:off x="2077920" y="3449160"/>
            <a:ext cx="1251000" cy="6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3325680" y="2857680"/>
            <a:ext cx="2298960" cy="1155600"/>
            <a:chOff x="3325680" y="2857680"/>
            <a:chExt cx="2298960" cy="1155600"/>
          </a:xfrm>
        </p:grpSpPr>
        <p:sp>
          <p:nvSpPr>
            <p:cNvPr id="125" name="Oval 21"/>
            <p:cNvSpPr/>
            <p:nvPr/>
          </p:nvSpPr>
          <p:spPr>
            <a:xfrm>
              <a:off x="3325680" y="2857680"/>
              <a:ext cx="2298960" cy="1155600"/>
            </a:xfrm>
            <a:prstGeom prst="ellipse">
              <a:avLst/>
            </a:prstGeom>
            <a:solidFill>
              <a:srgbClr val="da0000"/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3534840" y="3229560"/>
              <a:ext cx="183168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120" bIns="4212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GB" sz="1700" spc="-1" strike="noStrike">
                  <a:solidFill>
                    <a:srgbClr val="4d4d4d"/>
                  </a:solidFill>
                  <a:latin typeface="Arial"/>
                </a:rPr>
                <a:t>Perceived Risks</a:t>
              </a:r>
              <a:endParaRPr b="0" lang="en-US" sz="17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6600" y="655200"/>
            <a:ext cx="56768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FMEA Benefits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538280"/>
            <a:ext cx="77234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General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mproves the quality, reliability and safety of products and processes in a proactive manner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elps to increase customer satisfaction, by addressing failures that keep us from meeting critical customer requirements in processes or products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Reduces product development timing and cos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cuments and tracks actions taken to reduce risk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dentifies potential process risks (e.g. HS&amp;E, rework, late deliveries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382840" y="5167440"/>
            <a:ext cx="4341960" cy="476280"/>
          </a:xfrm>
          <a:prstGeom prst="rect">
            <a:avLst/>
          </a:prstGeom>
          <a:solidFill>
            <a:srgbClr val="da0000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8440" y="642600"/>
            <a:ext cx="5811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When is an FMEA Started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1360" y="1319040"/>
            <a:ext cx="772128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2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Early in the process improvement investigation, after a process map has been developed. 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42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en new systems, products and processes are being designed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42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en existing designs or processes are being changed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42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en carry-over designs are used in new applications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42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After system, product or process functions are defined, but before specific hardware is selected or released to manufacturing (ideally)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44840" y="5213520"/>
            <a:ext cx="4007880" cy="374040"/>
          </a:xfrm>
          <a:prstGeom prst="rect">
            <a:avLst/>
          </a:pr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GB" sz="1900" spc="-1" strike="noStrike">
                <a:solidFill>
                  <a:srgbClr val="4d4d4d"/>
                </a:solidFill>
                <a:latin typeface="Arial"/>
              </a:rPr>
              <a:t>Did we think of </a:t>
            </a:r>
            <a:r>
              <a:rPr b="1" i="1" lang="en-GB" sz="1900" spc="-1" strike="noStrike">
                <a:solidFill>
                  <a:srgbClr val="4d4d4d"/>
                </a:solidFill>
                <a:latin typeface="Arial"/>
              </a:rPr>
              <a:t>Safety</a:t>
            </a:r>
            <a:r>
              <a:rPr b="1" i="1" lang="en-GB" sz="1900" spc="-1" strike="noStrike">
                <a:solidFill>
                  <a:srgbClr val="4d4d4d"/>
                </a:solidFill>
                <a:latin typeface="Arial"/>
              </a:rPr>
              <a:t> Concerns?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2840" y="642600"/>
            <a:ext cx="67564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When to Update an FMEA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1360" y="138600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</a:rPr>
              <a:t>Whenever a change is being considered to a product’s design, application, environment, material, or to a product's manufacturing or assembly processes.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0808"/>
                </a:solidFill>
                <a:latin typeface="Arial"/>
              </a:rPr>
              <a:t>On a regular basis: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88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to review completion of action items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88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recalculate RPN’s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1188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to develop actions and assign responsibilities to the new highest ranking RPNs.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743120" y="5418000"/>
            <a:ext cx="6019920" cy="434880"/>
          </a:xfrm>
          <a:prstGeom prst="rect">
            <a:avLst/>
          </a:prstGeom>
          <a:solidFill>
            <a:srgbClr val="da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GB" sz="2300" spc="-1" strike="noStrike">
                <a:solidFill>
                  <a:srgbClr val="4d4d4d"/>
                </a:solidFill>
                <a:latin typeface="Arial"/>
              </a:rPr>
              <a:t>The FMEA is a living document.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95440" y="500040"/>
            <a:ext cx="4572000" cy="5716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40680" bIns="4068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600" spc="-1" strike="noStrike">
                <a:solidFill>
                  <a:srgbClr val="080808"/>
                </a:solidFill>
                <a:latin typeface="Arial"/>
              </a:rPr>
              <a:t>FMEA Team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53680" y="1357200"/>
            <a:ext cx="772164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Team approach is necessary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281160" indent="-281160">
              <a:spcBef>
                <a:spcPts val="9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The Black Belt leads the team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281160" indent="-281160">
              <a:spcBef>
                <a:spcPts val="9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Recommended representatives (depending on project scope):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Design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Manufacturing Operators/Supervisors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Quality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Reliability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Materials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Testing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Supplier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609120" indent="-234360">
              <a:spcBef>
                <a:spcPts val="9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80808"/>
                </a:solidFill>
                <a:latin typeface="Arial"/>
              </a:rPr>
              <a:t>Internal Customers (external where appropriate)</a:t>
            </a:r>
            <a:endParaRPr b="1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4-09-02T20:42:25Z</dcterms:modified>
  <cp:revision>34</cp:revision>
  <dc:subject/>
  <dc:title>Lean Six Sigma</dc:title>
</cp:coreProperties>
</file>