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4.wmf" ContentType="image/x-wmf"/>
  <Override PartName="/ppt/media/image9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38C5-32EC-4F47-85AD-7A5E653362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2614-3E68-4631-B6CA-26BC262B5059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ACFE-8204-45D7-8C2D-401E7A52AF0E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78AA-CBAD-4440-A989-0C0B33F7C97B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9A41-0BC9-49B3-86FB-12E87597F732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D989-A350-4C16-BC9E-644F07C5BA10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85D9-714B-420A-9910-FFB7732AC42A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W5 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571F-BB54-42DD-8979-591A519C4466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 Bono was a lateral thinking guru who said people think in different ways and that people have preferred thinking sty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ople that wear white hats think based on what is f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r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re people that think based on their emo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f81bd"/>
                </a:solidFill>
                <a:latin typeface="Arial"/>
              </a:rPr>
              <a:t>gree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the creative think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re those people that like to analyse things and provide constructive critic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re those people that are plann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ople that were the yellow hat are the optimi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D240-C120-4A94-A33A-50ECCAF5D82D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Rectangle 1028"/>
          <p:cNvSpPr/>
          <p:nvPr/>
        </p:nvSpPr>
        <p:spPr>
          <a:xfrm>
            <a:off x="838080" y="381312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Rectangle 1029"/>
          <p:cNvSpPr/>
          <p:nvPr/>
        </p:nvSpPr>
        <p:spPr>
          <a:xfrm>
            <a:off x="863640" y="4535640"/>
            <a:ext cx="5656320" cy="38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Using the Hat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You don’t need to use them all the ti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You don’t need to use every colour but teams might all have to wear th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ame at hat at the same time during different phases of the produc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What colour hat should we be wearing in define?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They can become part of an organisation’s common languag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They can be used with other techni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0353-EE5F-452C-A7A8-1D25D992EE78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5DF3-3961-4EDB-ABBD-8658E2BEDB10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57CB-1B0B-4F87-92E0-10137EBCD417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14040" y="4344840"/>
            <a:ext cx="521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what's the current situation is it rumour opinion or fact or is it unknow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what the objective for improve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what are the key inputs and output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who are the custome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what is the spec and how often are we on target?</a:t>
            </a: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0977-E8DD-4D58-9A85-1D8CDF6C27A6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A9A8-22F2-4BE2-8301-9E0386708EE6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7EAF-FD06-4CA2-AEB3-2D2DADF83D35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06440" y="684360"/>
            <a:ext cx="2206800" cy="1654200"/>
          </a:xfrm>
          <a:prstGeom prst="rect">
            <a:avLst/>
          </a:prstGeom>
          <a:ln w="0">
            <a:noFill/>
          </a:ln>
        </p:spPr>
      </p:sp>
      <p:sp>
        <p:nvSpPr>
          <p:cNvPr id="154" name="Rectangle 1029"/>
          <p:cNvSpPr/>
          <p:nvPr/>
        </p:nvSpPr>
        <p:spPr>
          <a:xfrm>
            <a:off x="990720" y="4792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63280" y="2622240"/>
            <a:ext cx="54198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A charter is a contract between the project sponsor the belt the improvement te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It also lays out a business case </a:t>
            </a: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Business Impact Analysis Sells the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it gives a clearly defined problem statement so the project is foc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it sets out what is the aim of the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it bounds the scope of the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what and when the major milestones will be achieved it makes the project time b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it sets out clear roles and responsibilities for sponsors and team members ali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DA98-B486-4E3B-A26A-D5DC35FC23A2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What is this problem costing u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Are we likely to lose business as a resul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Look at all the potential problems and classify or rank in ter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of financial impact (increased costs, revenue lost or at risk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Recast this, referencing stakeholders’ requirements - for exampl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cost reduction,improved customer satisfaction, and market share impl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3255-0FFE-41E5-9357-D100950FC1D7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42480" y="4777920"/>
            <a:ext cx="526284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Some Questions to Consider About Your 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Is it based on fact or gut feel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Does it already suggest the root caus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Can the team collect data to verify i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Is the description too narrow or too vagu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Is the solution already implie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Would your customers be pleased you’re planning to work on thi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F85F-0BB5-48D0-B643-001474B40797}" type="slidenum">
              <a:rPr b="0" lang="en-GB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893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39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893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39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6840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93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939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436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93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939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6840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TextBox 3"/>
          <p:cNvSpPr/>
          <p:nvPr/>
        </p:nvSpPr>
        <p:spPr>
          <a:xfrm>
            <a:off x="281952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Copyright © 2005- 2010 Beyond Lean Ltd. All Rights Reserved. </a:t>
            </a:r>
            <a:br>
              <a:rPr sz="900"/>
            </a:b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www.beyondlean.com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TextBox 4"/>
          <p:cNvSpPr/>
          <p:nvPr/>
        </p:nvSpPr>
        <p:spPr>
          <a:xfrm>
            <a:off x="685800" y="62467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V2.45 04/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3"/>
          <p:cNvSpPr/>
          <p:nvPr/>
        </p:nvSpPr>
        <p:spPr>
          <a:xfrm>
            <a:off x="281952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Copyright © 2005- 2010 Beyond Lean Ltd. All Rights Reserved. </a:t>
            </a:r>
            <a:br>
              <a:rPr sz="900"/>
            </a:b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www.beyondlean.com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TextBox 4"/>
          <p:cNvSpPr/>
          <p:nvPr/>
        </p:nvSpPr>
        <p:spPr>
          <a:xfrm>
            <a:off x="685800" y="62467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V2.45 04/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beyondlean.com/products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beyondlean.com/products" TargetMode="Externa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723888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b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Lean Six Sigma Certification &amp; Training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41972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odule  001 Section 00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114800" y="609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Defin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Looking at the The Goal Elemen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192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Defining what you’re looking to achiev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SMART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pecific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easurable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greed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ealistic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med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Recognise, as with the description of the problem, things may change as data clarifies the pictur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Scoping the Projec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Which process?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What are the boundaries?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e start point?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and the stop point?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What resources are available?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Are there no goes or restrictions?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What time commitment is expected?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What happens to existing roles and goals?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Milestones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 high level plan for the project based on current knowledg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ied to the phases of your improvement cyc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 balanced view recognising the need to get on with it against the reality of other pressures, demands and limitation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You might use a Gantt chart .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Roles and Responsibilities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We touched on time commitments and existing roles as part of the project scop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How should the champion work with the team?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s the team’s role to implement or recommend?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What authority do the team members have?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The who’s who of teams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Lean Sigma Excellence Specialis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upporting the programme overall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ternal consultants and experts on the process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provide advice and guidance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Operational Staff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ternal customers of the improvement project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get involved as required during the project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actively involved at the Improve Phase, 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particularly in the Piloting and Implementing steps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3" name="Object 4" descr=""/>
          <p:cNvPicPr/>
          <p:nvPr/>
        </p:nvPicPr>
        <p:blipFill>
          <a:blip r:embed="rId1"/>
          <a:stretch/>
        </p:blipFill>
        <p:spPr>
          <a:xfrm>
            <a:off x="7162920" y="1600200"/>
            <a:ext cx="1717560" cy="1981080"/>
          </a:xfrm>
          <a:prstGeom prst="rect">
            <a:avLst/>
          </a:prstGeom>
          <a:ln w="0">
            <a:noFill/>
          </a:ln>
        </p:spPr>
      </p:pic>
      <p:pic>
        <p:nvPicPr>
          <p:cNvPr id="124" name="Object 5" descr=""/>
          <p:cNvPicPr/>
          <p:nvPr/>
        </p:nvPicPr>
        <p:blipFill>
          <a:blip r:embed="rId2"/>
          <a:stretch/>
        </p:blipFill>
        <p:spPr>
          <a:xfrm>
            <a:off x="7010280" y="3809880"/>
            <a:ext cx="190512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Kipling’s Guide to Successful Teams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eople need to know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What to do</a:t>
            </a:r>
            <a:endParaRPr b="1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Why it’s being done</a:t>
            </a:r>
            <a:endParaRPr b="1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How to do it</a:t>
            </a:r>
            <a:endParaRPr b="1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nd when it needs to be completed</a:t>
            </a:r>
            <a:endParaRPr b="1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You’ll find Kipling’s serving men provide a helpful set of questions throughout the project and beyond…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509840" y="4154400"/>
            <a:ext cx="1460520" cy="1594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5707080" y="3807000"/>
            <a:ext cx="2077920" cy="1415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3"/>
          <a:stretch/>
        </p:blipFill>
        <p:spPr>
          <a:xfrm>
            <a:off x="3639960" y="4776840"/>
            <a:ext cx="1793880" cy="1395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4"/>
          <a:stretch/>
        </p:blipFill>
        <p:spPr>
          <a:xfrm>
            <a:off x="3514680" y="1938240"/>
            <a:ext cx="1765440" cy="1197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5"/>
          <a:stretch/>
        </p:blipFill>
        <p:spPr>
          <a:xfrm>
            <a:off x="1447920" y="1868400"/>
            <a:ext cx="1576440" cy="1327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6"/>
          <a:stretch/>
        </p:blipFill>
        <p:spPr>
          <a:xfrm>
            <a:off x="2889360" y="3184560"/>
            <a:ext cx="1950840" cy="167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10080" y="182880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De Bono’s thinking hat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950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The Way We Think …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Thinking About Thinking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90720" y="1676520"/>
            <a:ext cx="716256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te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- fac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Red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- emotio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ellow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- optimis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cc33"/>
                </a:solidFill>
                <a:latin typeface="Arial"/>
              </a:rPr>
              <a:t>Green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- creativ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lack - analysis &amp; constructive criticis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- plannin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Using the Hats in Define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0808"/>
                </a:solidFill>
                <a:latin typeface="Arial"/>
              </a:rPr>
              <a:t>A good start up session could be: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80808"/>
                </a:solidFill>
                <a:latin typeface="Arial"/>
              </a:rPr>
              <a:t>White</a:t>
            </a:r>
            <a:endParaRPr b="1" lang="en-US" sz="2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80808"/>
                </a:solidFill>
                <a:latin typeface="Arial"/>
              </a:rPr>
              <a:t>What’s the situation?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80808"/>
                </a:solidFill>
                <a:latin typeface="Arial"/>
              </a:rPr>
              <a:t>What facts do we have?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80808"/>
                </a:solidFill>
                <a:latin typeface="Arial"/>
              </a:rPr>
              <a:t>What facts do we need?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80808"/>
                </a:solidFill>
                <a:latin typeface="Arial"/>
              </a:rPr>
              <a:t>Business case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80808"/>
                </a:solidFill>
                <a:latin typeface="Arial"/>
              </a:rPr>
              <a:t>Red</a:t>
            </a:r>
            <a:endParaRPr b="1" lang="en-US" sz="2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80808"/>
                </a:solidFill>
                <a:latin typeface="Arial"/>
              </a:rPr>
              <a:t>What do we think is wrong?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80808"/>
                </a:solidFill>
                <a:latin typeface="Arial"/>
              </a:rPr>
              <a:t>What do we feel should be happening?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80808"/>
                </a:solidFill>
                <a:latin typeface="Arial"/>
              </a:rPr>
              <a:t>Problem description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80808"/>
                </a:solidFill>
                <a:latin typeface="Arial"/>
              </a:rPr>
              <a:t>Yellow</a:t>
            </a:r>
            <a:endParaRPr b="1" lang="en-US" sz="2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80808"/>
                </a:solidFill>
                <a:latin typeface="Arial"/>
              </a:rPr>
              <a:t>What are the benefits of sorting it out?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80808"/>
                </a:solidFill>
                <a:latin typeface="Arial"/>
              </a:rPr>
              <a:t>Goal description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80808"/>
                </a:solidFill>
                <a:latin typeface="Arial"/>
              </a:rPr>
              <a:t>Exercise - Developing the Improvement Charter With the Hats</a:t>
            </a:r>
            <a:endParaRPr b="1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57200" y="1523880"/>
            <a:ext cx="80773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Time to put on your thinking hats and try it ou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So, using the white, red, and yellow hats, think about your project and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develop a list of known facts, or information needed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get ‘the emotion’ on the table and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identify the benefit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Use the above to draft your chart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68295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Beyond Lean Online Resources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476000"/>
            <a:ext cx="77040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ertification Courses and Exam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Workbook Download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Membership Online Training Video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LeanSigma Fast Action Implementation Guid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2" name="Picture 4" descr="members-card.jpg"/>
          <p:cNvPicPr/>
          <p:nvPr/>
        </p:nvPicPr>
        <p:blipFill>
          <a:blip r:embed="rId1"/>
          <a:stretch/>
        </p:blipFill>
        <p:spPr>
          <a:xfrm>
            <a:off x="3581280" y="3886200"/>
            <a:ext cx="2590920" cy="196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sw-box.jpg"/>
          <p:cNvPicPr/>
          <p:nvPr/>
        </p:nvPicPr>
        <p:blipFill>
          <a:blip r:embed="rId2"/>
          <a:stretch/>
        </p:blipFill>
        <p:spPr>
          <a:xfrm>
            <a:off x="228600" y="1447920"/>
            <a:ext cx="2278080" cy="2590560"/>
          </a:xfrm>
          <a:prstGeom prst="rect">
            <a:avLst/>
          </a:prstGeom>
          <a:ln w="0">
            <a:noFill/>
          </a:ln>
        </p:spPr>
      </p:pic>
      <p:grpSp>
        <p:nvGrpSpPr>
          <p:cNvPr id="94" name="TextBox 7"/>
          <p:cNvGrpSpPr/>
          <p:nvPr/>
        </p:nvGrpSpPr>
        <p:grpSpPr>
          <a:xfrm>
            <a:off x="2792520" y="3164040"/>
            <a:ext cx="4383000" cy="817560"/>
            <a:chOff x="2792520" y="3164040"/>
            <a:chExt cx="4383000" cy="817560"/>
          </a:xfrm>
        </p:grpSpPr>
        <p:pic>
          <p:nvPicPr>
            <p:cNvPr id="95" name="TextBox 7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2792520" y="3164040"/>
              <a:ext cx="438300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200400" y="320040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d9bfc0"/>
                  </a:solidFill>
                  <a:uFillTx/>
                  <a:latin typeface="Arial"/>
                  <a:hlinkClick r:id="rId5"/>
                </a:rPr>
                <a:t>Order Support Products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284720" y="1844640"/>
            <a:ext cx="3948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www.BeyondLean.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WordArt 3"/>
          <p:cNvSpPr txBox="1"/>
          <p:nvPr/>
        </p:nvSpPr>
        <p:spPr>
          <a:xfrm>
            <a:off x="4356000" y="1197000"/>
            <a:ext cx="37450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d9bfc0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d9bfc0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90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Understand the Problem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hat's the current situation is it rumour opinion or fact or is it unknown?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hat is the objective for improvement?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hat are the key inputs and outputs?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ho are the customers?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hat is the spec and how often are we on target?</a:t>
            </a:r>
            <a:r>
              <a:rPr b="0" lang="en-GB" sz="36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799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80808"/>
                </a:solidFill>
                <a:latin typeface="Arial"/>
              </a:rPr>
              <a:t>Where Are We Going - How Will We Know When We Get There? </a:t>
            </a:r>
            <a:br>
              <a:rPr sz="2500"/>
            </a:br>
            <a:endParaRPr b="1" lang="en-US" sz="25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Key question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What’s the purpose of this project?</a:t>
            </a:r>
            <a:endParaRPr b="1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What prompted it? </a:t>
            </a:r>
            <a:endParaRPr b="1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Why is it  important to work on this now?</a:t>
            </a:r>
            <a:endParaRPr b="1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How much improvement are we looking to make and by when?</a:t>
            </a:r>
            <a:endParaRPr b="1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Who needs to be involved?</a:t>
            </a:r>
            <a:endParaRPr b="1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How will customers be affected?</a:t>
            </a:r>
            <a:endParaRPr b="1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How will we know if things improve?</a:t>
            </a:r>
            <a:endParaRPr b="1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What data or information is needed?</a:t>
            </a:r>
            <a:endParaRPr b="1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What’s the broad plan?</a:t>
            </a:r>
            <a:endParaRPr b="1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Tools for Define Include ...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mprovement Charter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Lateral Thinkin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Voice of the Customer / CTQ matrix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IPOC diagra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+ Other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15364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The Improvement Charter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09480" y="1981080"/>
            <a:ext cx="65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An agreed document defining the purpose and goals for an improvement tea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But, keep it simpl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5" name="Picture 4" descr="pe01616_"/>
          <p:cNvPicPr/>
          <p:nvPr/>
        </p:nvPicPr>
        <p:blipFill>
          <a:blip r:embed="rId1"/>
          <a:stretch/>
        </p:blipFill>
        <p:spPr>
          <a:xfrm>
            <a:off x="4267080" y="2971800"/>
            <a:ext cx="369756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The Business Case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Why is it worth doing?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Who will benefit and how?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What are the consequences of not doing it?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How does it fit with the business plan?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Looking at the Problem Statemen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5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f you’re tackling a problem, what’s wrong?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What’s not meeting our customer’s requirements?</a:t>
            </a:r>
            <a:endParaRPr b="1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When and where does the problem occur?</a:t>
            </a:r>
            <a:endParaRPr b="1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How big is it?</a:t>
            </a:r>
            <a:endParaRPr b="1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What’s the impact on the business?</a:t>
            </a:r>
            <a:endParaRPr b="1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Without the data we need, the issue statement and the description of what’s wrong may be our best guess perceptio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Example of the Problem Element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Our customers are angry with us and late in paying their bil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ut..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How angry?</a:t>
            </a:r>
            <a:endParaRPr b="1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How late?</a:t>
            </a:r>
            <a:endParaRPr b="1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How many?</a:t>
            </a:r>
            <a:endParaRPr b="1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When did it start?</a:t>
            </a:r>
            <a:endParaRPr b="1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What’s the impact on us?</a:t>
            </a:r>
            <a:endParaRPr b="1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34120" y="2971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0:56Z</dcterms:created>
  <dc:creator>kampester</dc:creator>
  <dc:description/>
  <dc:language>en-US</dc:language>
  <cp:lastModifiedBy>Swifty</cp:lastModifiedBy>
  <dcterms:modified xsi:type="dcterms:W3CDTF">2012-07-18T18:02:12Z</dcterms:modified>
  <cp:revision>15</cp:revision>
  <dc:subject/>
  <dc:title>Lean Six Sigma</dc:title>
</cp:coreProperties>
</file>