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46E6-ECA7-4024-B495-2720F5621D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6C4A-1C39-4A26-A588-E382226CDBA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45EA-5E63-4024-88F0-1B9173BB147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47D5-295C-406D-A107-B1010490197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C58E-8F06-4098-BB51-843D4024C9B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9224-944D-4035-8F10-A29DAC7FAF4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A484-8E0B-4C90-8F8D-21D5527F994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D713-328F-455C-B2B8-103ED7455A1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F348-E262-4FE9-8438-546FB094CAE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6343-7EB5-419E-9FA6-DCB6A5C67F9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5F11-2C3D-438F-A664-D1C2A58CA55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B257-B2F5-4685-BA87-9B8E3AE7A89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9B66-677F-4E5D-903F-8C4963F4777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93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3920" y="141264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436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93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3920" y="4046400"/>
            <a:ext cx="24804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6840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404640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412640"/>
            <a:ext cx="3759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046400"/>
            <a:ext cx="77040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3"/>
          <p:cNvSpPr/>
          <p:nvPr/>
        </p:nvSpPr>
        <p:spPr>
          <a:xfrm>
            <a:off x="281952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Copyright © 2005- 2010 Beyond Lean Ltd. All Rights Reserved. </a:t>
            </a:r>
            <a:br>
              <a:rPr sz="900"/>
            </a:br>
            <a:r>
              <a:rPr b="0" lang="en-US" sz="900" spc="-1" strike="noStrike">
                <a:solidFill>
                  <a:srgbClr val="4d4d4d"/>
                </a:solidFill>
                <a:latin typeface="Arial"/>
              </a:rPr>
              <a:t>www.beyondlean.com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685800" y="62467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V2.45 04/201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412640"/>
            <a:ext cx="770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beyondlean.com/products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beyondlean.com/products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2388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Lean Six Sigma Certification &amp; Training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41972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odule 001 Section 00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3809880" y="1600200"/>
            <a:ext cx="441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orld Class Manufacturing Methodologies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Lean Six Sigma Overvie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833400" y="554040"/>
            <a:ext cx="6593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eanSixSigma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Coordinated Efforts. . .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88" name="Object 2"/>
          <p:cNvGraphicFramePr/>
          <p:nvPr/>
        </p:nvGraphicFramePr>
        <p:xfrm>
          <a:off x="896760" y="2079720"/>
          <a:ext cx="554220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2079720"/>
                    <a:ext cx="554220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AutoShape 1028"/>
          <p:cNvSpPr/>
          <p:nvPr/>
        </p:nvSpPr>
        <p:spPr>
          <a:xfrm rot="2661600">
            <a:off x="5805000" y="2433240"/>
            <a:ext cx="277920" cy="268200"/>
          </a:xfrm>
          <a:prstGeom prst="triangle">
            <a:avLst>
              <a:gd name="adj" fmla="val 62958"/>
            </a:avLst>
          </a:prstGeom>
          <a:solidFill>
            <a:srgbClr val="4d4d4d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Text Box 1029"/>
          <p:cNvSpPr/>
          <p:nvPr/>
        </p:nvSpPr>
        <p:spPr>
          <a:xfrm>
            <a:off x="1338120" y="3441600"/>
            <a:ext cx="2632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Calibri"/>
              </a:rPr>
              <a:t>Lean Effort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204840" indent="-101520">
              <a:lnSpc>
                <a:spcPct val="100000"/>
              </a:lnSpc>
              <a:spcBef>
                <a:spcPts val="326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  <a:ea typeface="Arial"/>
              </a:rPr>
              <a:t>baselin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204840" indent="-101520">
              <a:lnSpc>
                <a:spcPct val="100000"/>
              </a:lnSpc>
              <a:spcBef>
                <a:spcPts val="326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  <a:ea typeface="Arial"/>
              </a:rPr>
              <a:t>prioritization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Text Box 1030"/>
          <p:cNvSpPr/>
          <p:nvPr/>
        </p:nvSpPr>
        <p:spPr>
          <a:xfrm>
            <a:off x="2168640" y="2298600"/>
            <a:ext cx="2633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Calibri"/>
              </a:rPr>
              <a:t>Improvement Ceil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204840" indent="-101520">
              <a:lnSpc>
                <a:spcPct val="100000"/>
              </a:lnSpc>
              <a:spcBef>
                <a:spcPts val="326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  <a:ea typeface="Arial"/>
              </a:rPr>
              <a:t>low hanging fruit gon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204840" indent="-101520">
              <a:lnSpc>
                <a:spcPct val="100000"/>
              </a:lnSpc>
              <a:spcBef>
                <a:spcPts val="326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  <a:ea typeface="Arial"/>
              </a:rPr>
              <a:t>many small ‘projects’ remain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Text Box 1031"/>
          <p:cNvSpPr/>
          <p:nvPr/>
        </p:nvSpPr>
        <p:spPr>
          <a:xfrm>
            <a:off x="4454640" y="1762200"/>
            <a:ext cx="2633400" cy="75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Calibri"/>
              </a:rPr>
              <a:t>Six Sigma + Lean Effort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204840" indent="-101520">
              <a:lnSpc>
                <a:spcPct val="100000"/>
              </a:lnSpc>
              <a:spcBef>
                <a:spcPts val="326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  <a:ea typeface="Arial"/>
              </a:rPr>
              <a:t>new major project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204840" indent="-101520">
              <a:lnSpc>
                <a:spcPct val="100000"/>
              </a:lnSpc>
              <a:spcBef>
                <a:spcPts val="326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  <a:ea typeface="Arial"/>
              </a:rPr>
              <a:t>variability reduction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Text Box 1032"/>
          <p:cNvSpPr/>
          <p:nvPr/>
        </p:nvSpPr>
        <p:spPr>
          <a:xfrm>
            <a:off x="5049720" y="3471840"/>
            <a:ext cx="2632320" cy="7592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Lean Effort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204840" indent="-101520">
              <a:lnSpc>
                <a:spcPct val="100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  <a:ea typeface="Arial"/>
              </a:rPr>
              <a:t>standardized processe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204840" indent="-101520">
              <a:lnSpc>
                <a:spcPct val="100000"/>
              </a:lnSpc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  <a:ea typeface="Arial"/>
              </a:rPr>
              <a:t>mistake proofin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Text Box 1033"/>
          <p:cNvSpPr/>
          <p:nvPr/>
        </p:nvSpPr>
        <p:spPr>
          <a:xfrm>
            <a:off x="3692520" y="4213080"/>
            <a:ext cx="26337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Calibri"/>
              </a:rPr>
              <a:t>Six Sigma Effort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204840" indent="-101520">
              <a:lnSpc>
                <a:spcPct val="100000"/>
              </a:lnSpc>
              <a:spcBef>
                <a:spcPts val="326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  <a:ea typeface="Arial"/>
              </a:rPr>
              <a:t>quality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lvl="1" marL="204840" indent="-101520">
              <a:lnSpc>
                <a:spcPct val="100000"/>
              </a:lnSpc>
              <a:spcBef>
                <a:spcPts val="326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  <a:ea typeface="Arial"/>
              </a:rPr>
              <a:t>productivity through cost reduction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Line 1034"/>
          <p:cNvSpPr/>
          <p:nvPr/>
        </p:nvSpPr>
        <p:spPr>
          <a:xfrm>
            <a:off x="2030400" y="4113360"/>
            <a:ext cx="208080" cy="40464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Line 1035"/>
          <p:cNvSpPr/>
          <p:nvPr/>
        </p:nvSpPr>
        <p:spPr>
          <a:xfrm>
            <a:off x="3832200" y="2970360"/>
            <a:ext cx="414360" cy="26964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Line 1036"/>
          <p:cNvSpPr/>
          <p:nvPr/>
        </p:nvSpPr>
        <p:spPr>
          <a:xfrm flipH="1">
            <a:off x="5216400" y="2557440"/>
            <a:ext cx="139680" cy="53676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Line 1037"/>
          <p:cNvSpPr/>
          <p:nvPr/>
        </p:nvSpPr>
        <p:spPr>
          <a:xfrm flipH="1" flipV="1">
            <a:off x="4597200" y="3441600"/>
            <a:ext cx="554040" cy="40320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Line 1038"/>
          <p:cNvSpPr/>
          <p:nvPr/>
        </p:nvSpPr>
        <p:spPr>
          <a:xfrm flipH="1" flipV="1">
            <a:off x="3346200" y="3979440"/>
            <a:ext cx="345960" cy="33660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Text Box 1039"/>
          <p:cNvSpPr/>
          <p:nvPr/>
        </p:nvSpPr>
        <p:spPr>
          <a:xfrm>
            <a:off x="3011400" y="5514840"/>
            <a:ext cx="5135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en-US" sz="2200" spc="-1" strike="noStrike">
                <a:solidFill>
                  <a:srgbClr val="000099"/>
                </a:solidFill>
                <a:latin typeface="Calibri"/>
              </a:rPr>
              <a:t>. . . .Process Improvement Efforts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Rectangle 1040"/>
          <p:cNvSpPr/>
          <p:nvPr/>
        </p:nvSpPr>
        <p:spPr>
          <a:xfrm>
            <a:off x="2930400" y="1368360"/>
            <a:ext cx="3488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Organization Maturit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Text Box 1041"/>
          <p:cNvSpPr/>
          <p:nvPr/>
        </p:nvSpPr>
        <p:spPr>
          <a:xfrm rot="16200000">
            <a:off x="-466200" y="3184560"/>
            <a:ext cx="235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Calibri"/>
              </a:rPr>
              <a:t>Sigm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643"/>
          <p:cNvSpPr/>
          <p:nvPr/>
        </p:nvSpPr>
        <p:spPr>
          <a:xfrm>
            <a:off x="579600" y="1625760"/>
            <a:ext cx="8555040" cy="4843440"/>
          </a:xfrm>
          <a:custGeom>
            <a:avLst/>
            <a:gdLst>
              <a:gd name="textAreaLeft" fmla="*/ 0 w 8555040"/>
              <a:gd name="textAreaRight" fmla="*/ 8555040 w 8555040"/>
              <a:gd name="textAreaTop" fmla="*/ 0 h 4843440"/>
              <a:gd name="textAreaBottom" fmla="*/ 4843800 h 4843440"/>
            </a:gdLst>
            <a:ahLst/>
            <a:rect l="textAreaLeft" t="textAreaTop" r="textAreaRight" b="textAreaBottom"/>
            <a:pathLst>
              <a:path w="5928" h="3458">
                <a:moveTo>
                  <a:pt x="5928" y="3458"/>
                </a:moveTo>
                <a:lnTo>
                  <a:pt x="0" y="0"/>
                </a:lnTo>
                <a:lnTo>
                  <a:pt x="0" y="3458"/>
                </a:lnTo>
                <a:lnTo>
                  <a:pt x="5928" y="3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Freeform 647"/>
          <p:cNvSpPr/>
          <p:nvPr/>
        </p:nvSpPr>
        <p:spPr>
          <a:xfrm>
            <a:off x="2290680" y="2311560"/>
            <a:ext cx="5130720" cy="2896920"/>
          </a:xfrm>
          <a:custGeom>
            <a:avLst/>
            <a:gdLst>
              <a:gd name="textAreaLeft" fmla="*/ 0 w 5130720"/>
              <a:gd name="textAreaRight" fmla="*/ 5131080 w 5130720"/>
              <a:gd name="textAreaTop" fmla="*/ 0 h 2896920"/>
              <a:gd name="textAreaBottom" fmla="*/ 2897280 h 2896920"/>
            </a:gdLst>
            <a:ahLst/>
            <a:rect l="textAreaLeft" t="textAreaTop" r="textAreaRight" b="textAreaBottom"/>
            <a:pathLst>
              <a:path w="3556" h="2069">
                <a:moveTo>
                  <a:pt x="0" y="2069"/>
                </a:moveTo>
                <a:lnTo>
                  <a:pt x="3556" y="2069"/>
                </a:lnTo>
                <a:lnTo>
                  <a:pt x="3556" y="0"/>
                </a:lnTo>
                <a:lnTo>
                  <a:pt x="0" y="0"/>
                </a:lnTo>
                <a:lnTo>
                  <a:pt x="0" y="206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Rectangle 648"/>
          <p:cNvSpPr/>
          <p:nvPr/>
        </p:nvSpPr>
        <p:spPr>
          <a:xfrm>
            <a:off x="4646160" y="5402160"/>
            <a:ext cx="8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Rectangle 649"/>
          <p:cNvSpPr/>
          <p:nvPr/>
        </p:nvSpPr>
        <p:spPr>
          <a:xfrm>
            <a:off x="4731120" y="5402160"/>
            <a:ext cx="3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Rectangle 650"/>
          <p:cNvSpPr/>
          <p:nvPr/>
        </p:nvSpPr>
        <p:spPr>
          <a:xfrm>
            <a:off x="4768200" y="5402160"/>
            <a:ext cx="13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Rectangle 651"/>
          <p:cNvSpPr/>
          <p:nvPr/>
        </p:nvSpPr>
        <p:spPr>
          <a:xfrm>
            <a:off x="4908960" y="5402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Line 652"/>
          <p:cNvSpPr/>
          <p:nvPr/>
        </p:nvSpPr>
        <p:spPr>
          <a:xfrm>
            <a:off x="2374920" y="5208480"/>
            <a:ext cx="4960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38880" bIns="-38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Rectangle 653"/>
          <p:cNvSpPr/>
          <p:nvPr/>
        </p:nvSpPr>
        <p:spPr>
          <a:xfrm rot="16200000">
            <a:off x="1454760" y="4070880"/>
            <a:ext cx="8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Rectangle 654"/>
          <p:cNvSpPr/>
          <p:nvPr/>
        </p:nvSpPr>
        <p:spPr>
          <a:xfrm rot="16200000">
            <a:off x="1456200" y="3980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Rectangle 655"/>
          <p:cNvSpPr/>
          <p:nvPr/>
        </p:nvSpPr>
        <p:spPr>
          <a:xfrm rot="16200000">
            <a:off x="1468440" y="391464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Rectangle 656"/>
          <p:cNvSpPr/>
          <p:nvPr/>
        </p:nvSpPr>
        <p:spPr>
          <a:xfrm rot="16200000">
            <a:off x="1472040" y="3869640"/>
            <a:ext cx="51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Rectangle 657"/>
          <p:cNvSpPr/>
          <p:nvPr/>
        </p:nvSpPr>
        <p:spPr>
          <a:xfrm rot="16200000">
            <a:off x="1454040" y="3807720"/>
            <a:ext cx="8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Rectangle 658"/>
          <p:cNvSpPr/>
          <p:nvPr/>
        </p:nvSpPr>
        <p:spPr>
          <a:xfrm rot="16200000">
            <a:off x="1468440" y="37422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Rectangle 659"/>
          <p:cNvSpPr/>
          <p:nvPr/>
        </p:nvSpPr>
        <p:spPr>
          <a:xfrm rot="16200000">
            <a:off x="1431720" y="3651840"/>
            <a:ext cx="13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Rectangle 660"/>
          <p:cNvSpPr/>
          <p:nvPr/>
        </p:nvSpPr>
        <p:spPr>
          <a:xfrm rot="16200000">
            <a:off x="1457640" y="3543840"/>
            <a:ext cx="7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Rectangle 661"/>
          <p:cNvSpPr/>
          <p:nvPr/>
        </p:nvSpPr>
        <p:spPr>
          <a:xfrm rot="16200000">
            <a:off x="1454040" y="3462840"/>
            <a:ext cx="8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Rectangle 662"/>
          <p:cNvSpPr/>
          <p:nvPr/>
        </p:nvSpPr>
        <p:spPr>
          <a:xfrm rot="16200000">
            <a:off x="1462320" y="3386520"/>
            <a:ext cx="7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Rectangle 663"/>
          <p:cNvSpPr/>
          <p:nvPr/>
        </p:nvSpPr>
        <p:spPr>
          <a:xfrm rot="16200000">
            <a:off x="1456200" y="3302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Line 664"/>
          <p:cNvSpPr/>
          <p:nvPr/>
        </p:nvSpPr>
        <p:spPr>
          <a:xfrm flipV="1">
            <a:off x="2290680" y="2350800"/>
            <a:ext cx="1800" cy="2817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Freeform 665"/>
          <p:cNvSpPr/>
          <p:nvPr/>
        </p:nvSpPr>
        <p:spPr>
          <a:xfrm>
            <a:off x="7326360" y="454176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Freeform 666"/>
          <p:cNvSpPr/>
          <p:nvPr/>
        </p:nvSpPr>
        <p:spPr>
          <a:xfrm>
            <a:off x="7313760" y="4530600"/>
            <a:ext cx="12600" cy="30240"/>
          </a:xfrm>
          <a:custGeom>
            <a:avLst/>
            <a:gdLst>
              <a:gd name="textAreaLeft" fmla="*/ 0 w 12600"/>
              <a:gd name="textAreaRight" fmla="*/ 12960 w 12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1">
                <a:moveTo>
                  <a:pt x="8" y="21"/>
                </a:moveTo>
                <a:lnTo>
                  <a:pt x="0" y="0"/>
                </a:lnTo>
                <a:lnTo>
                  <a:pt x="8" y="7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Freeform 667"/>
          <p:cNvSpPr/>
          <p:nvPr/>
        </p:nvSpPr>
        <p:spPr>
          <a:xfrm>
            <a:off x="7313760" y="4530600"/>
            <a:ext cx="12600" cy="41400"/>
          </a:xfrm>
          <a:custGeom>
            <a:avLst/>
            <a:gdLst>
              <a:gd name="textAreaLeft" fmla="*/ 0 w 12600"/>
              <a:gd name="textAreaRight" fmla="*/ 12960 w 126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1"/>
                </a:moveTo>
                <a:lnTo>
                  <a:pt x="0" y="0"/>
                </a:lnTo>
                <a:lnTo>
                  <a:pt x="0" y="29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Freeform 668"/>
          <p:cNvSpPr/>
          <p:nvPr/>
        </p:nvSpPr>
        <p:spPr>
          <a:xfrm>
            <a:off x="7304040" y="4530600"/>
            <a:ext cx="9720" cy="41400"/>
          </a:xfrm>
          <a:custGeom>
            <a:avLst/>
            <a:gdLst>
              <a:gd name="textAreaLeft" fmla="*/ 0 w 9720"/>
              <a:gd name="textAreaRight" fmla="*/ 10080 w 97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Freeform 669"/>
          <p:cNvSpPr/>
          <p:nvPr/>
        </p:nvSpPr>
        <p:spPr>
          <a:xfrm>
            <a:off x="7304040" y="4541760"/>
            <a:ext cx="9720" cy="30240"/>
          </a:xfrm>
          <a:custGeom>
            <a:avLst/>
            <a:gdLst>
              <a:gd name="textAreaLeft" fmla="*/ 0 w 9720"/>
              <a:gd name="textAreaRight" fmla="*/ 10080 w 9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4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Freeform 670"/>
          <p:cNvSpPr/>
          <p:nvPr/>
        </p:nvSpPr>
        <p:spPr>
          <a:xfrm>
            <a:off x="7294680" y="454176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14"/>
                </a:moveTo>
                <a:lnTo>
                  <a:pt x="0" y="7"/>
                </a:lnTo>
                <a:lnTo>
                  <a:pt x="7" y="0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Freeform 671"/>
          <p:cNvSpPr/>
          <p:nvPr/>
        </p:nvSpPr>
        <p:spPr>
          <a:xfrm>
            <a:off x="7294680" y="471312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Freeform 672"/>
          <p:cNvSpPr/>
          <p:nvPr/>
        </p:nvSpPr>
        <p:spPr>
          <a:xfrm>
            <a:off x="7281720" y="4703760"/>
            <a:ext cx="12960" cy="28440"/>
          </a:xfrm>
          <a:custGeom>
            <a:avLst/>
            <a:gdLst>
              <a:gd name="textAreaLeft" fmla="*/ 0 w 12960"/>
              <a:gd name="textAreaRight" fmla="*/ 13320 w 129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" h="21">
                <a:moveTo>
                  <a:pt x="8" y="21"/>
                </a:moveTo>
                <a:lnTo>
                  <a:pt x="0" y="0"/>
                </a:lnTo>
                <a:lnTo>
                  <a:pt x="8" y="7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1880" bIns="-11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Freeform 673"/>
          <p:cNvSpPr/>
          <p:nvPr/>
        </p:nvSpPr>
        <p:spPr>
          <a:xfrm>
            <a:off x="7281720" y="4703760"/>
            <a:ext cx="12960" cy="41400"/>
          </a:xfrm>
          <a:custGeom>
            <a:avLst/>
            <a:gdLst>
              <a:gd name="textAreaLeft" fmla="*/ 0 w 12960"/>
              <a:gd name="textAreaRight" fmla="*/ 13320 w 129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1"/>
                </a:moveTo>
                <a:lnTo>
                  <a:pt x="0" y="0"/>
                </a:lnTo>
                <a:lnTo>
                  <a:pt x="0" y="29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Freeform 674"/>
          <p:cNvSpPr/>
          <p:nvPr/>
        </p:nvSpPr>
        <p:spPr>
          <a:xfrm>
            <a:off x="7272360" y="4703760"/>
            <a:ext cx="9360" cy="41400"/>
          </a:xfrm>
          <a:custGeom>
            <a:avLst/>
            <a:gdLst>
              <a:gd name="textAreaLeft" fmla="*/ 0 w 9360"/>
              <a:gd name="textAreaRight" fmla="*/ 9720 w 9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Freeform 675"/>
          <p:cNvSpPr/>
          <p:nvPr/>
        </p:nvSpPr>
        <p:spPr>
          <a:xfrm>
            <a:off x="7272360" y="4713120"/>
            <a:ext cx="9360" cy="32040"/>
          </a:xfrm>
          <a:custGeom>
            <a:avLst/>
            <a:gdLst>
              <a:gd name="textAreaLeft" fmla="*/ 0 w 9360"/>
              <a:gd name="textAreaRight" fmla="*/ 9720 w 936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4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280" bIns="-82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Freeform 676"/>
          <p:cNvSpPr/>
          <p:nvPr/>
        </p:nvSpPr>
        <p:spPr>
          <a:xfrm>
            <a:off x="7261200" y="471312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" h="14">
                <a:moveTo>
                  <a:pt x="8" y="14"/>
                </a:moveTo>
                <a:lnTo>
                  <a:pt x="0" y="7"/>
                </a:lnTo>
                <a:lnTo>
                  <a:pt x="8" y="0"/>
                </a:lnTo>
                <a:lnTo>
                  <a:pt x="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5" name="Freeform 677"/>
          <p:cNvSpPr/>
          <p:nvPr/>
        </p:nvSpPr>
        <p:spPr>
          <a:xfrm>
            <a:off x="7250040" y="475452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6" name="Freeform 678"/>
          <p:cNvSpPr/>
          <p:nvPr/>
        </p:nvSpPr>
        <p:spPr>
          <a:xfrm>
            <a:off x="7238880" y="4745160"/>
            <a:ext cx="11160" cy="28440"/>
          </a:xfrm>
          <a:custGeom>
            <a:avLst/>
            <a:gdLst>
              <a:gd name="textAreaLeft" fmla="*/ 0 w 11160"/>
              <a:gd name="textAreaRight" fmla="*/ 11520 w 111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" h="21">
                <a:moveTo>
                  <a:pt x="8" y="21"/>
                </a:moveTo>
                <a:lnTo>
                  <a:pt x="0" y="0"/>
                </a:lnTo>
                <a:lnTo>
                  <a:pt x="8" y="7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1880" bIns="-11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Freeform 679"/>
          <p:cNvSpPr/>
          <p:nvPr/>
        </p:nvSpPr>
        <p:spPr>
          <a:xfrm>
            <a:off x="7238880" y="4745160"/>
            <a:ext cx="11160" cy="37800"/>
          </a:xfrm>
          <a:custGeom>
            <a:avLst/>
            <a:gdLst>
              <a:gd name="textAreaLeft" fmla="*/ 0 w 11160"/>
              <a:gd name="textAreaRight" fmla="*/ 11520 w 1116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8" h="28">
                <a:moveTo>
                  <a:pt x="8" y="21"/>
                </a:moveTo>
                <a:lnTo>
                  <a:pt x="0" y="0"/>
                </a:lnTo>
                <a:lnTo>
                  <a:pt x="0" y="28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520" bIns="-25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Freeform 680"/>
          <p:cNvSpPr/>
          <p:nvPr/>
        </p:nvSpPr>
        <p:spPr>
          <a:xfrm>
            <a:off x="7229520" y="4745160"/>
            <a:ext cx="9360" cy="37800"/>
          </a:xfrm>
          <a:custGeom>
            <a:avLst/>
            <a:gdLst>
              <a:gd name="textAreaLeft" fmla="*/ 0 w 9360"/>
              <a:gd name="textAreaRight" fmla="*/ 9720 w 936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7" h="28">
                <a:moveTo>
                  <a:pt x="7" y="28"/>
                </a:moveTo>
                <a:lnTo>
                  <a:pt x="0" y="7"/>
                </a:lnTo>
                <a:lnTo>
                  <a:pt x="7" y="0"/>
                </a:lnTo>
                <a:lnTo>
                  <a:pt x="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520" bIns="-25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Freeform 681"/>
          <p:cNvSpPr/>
          <p:nvPr/>
        </p:nvSpPr>
        <p:spPr>
          <a:xfrm>
            <a:off x="7229520" y="4754520"/>
            <a:ext cx="9360" cy="28440"/>
          </a:xfrm>
          <a:custGeom>
            <a:avLst/>
            <a:gdLst>
              <a:gd name="textAreaLeft" fmla="*/ 0 w 9360"/>
              <a:gd name="textAreaRight" fmla="*/ 9720 w 93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7" h="21">
                <a:moveTo>
                  <a:pt x="7" y="21"/>
                </a:moveTo>
                <a:lnTo>
                  <a:pt x="0" y="0"/>
                </a:lnTo>
                <a:lnTo>
                  <a:pt x="0" y="14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1880" bIns="-11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Freeform 682"/>
          <p:cNvSpPr/>
          <p:nvPr/>
        </p:nvSpPr>
        <p:spPr>
          <a:xfrm>
            <a:off x="7216920" y="4754520"/>
            <a:ext cx="12600" cy="19080"/>
          </a:xfrm>
          <a:custGeom>
            <a:avLst/>
            <a:gdLst>
              <a:gd name="textAreaLeft" fmla="*/ 0 w 12600"/>
              <a:gd name="textAreaRight" fmla="*/ 12960 w 12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" h="14">
                <a:moveTo>
                  <a:pt x="8" y="14"/>
                </a:moveTo>
                <a:lnTo>
                  <a:pt x="0" y="7"/>
                </a:lnTo>
                <a:lnTo>
                  <a:pt x="8" y="0"/>
                </a:lnTo>
                <a:lnTo>
                  <a:pt x="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Freeform 683"/>
          <p:cNvSpPr/>
          <p:nvPr/>
        </p:nvSpPr>
        <p:spPr>
          <a:xfrm>
            <a:off x="7216920" y="4886280"/>
            <a:ext cx="12600" cy="19080"/>
          </a:xfrm>
          <a:custGeom>
            <a:avLst/>
            <a:gdLst>
              <a:gd name="textAreaLeft" fmla="*/ 0 w 12600"/>
              <a:gd name="textAreaRight" fmla="*/ 12960 w 12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" h="14">
                <a:moveTo>
                  <a:pt x="8" y="7"/>
                </a:moveTo>
                <a:lnTo>
                  <a:pt x="0" y="0"/>
                </a:lnTo>
                <a:lnTo>
                  <a:pt x="0" y="14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Freeform 684"/>
          <p:cNvSpPr/>
          <p:nvPr/>
        </p:nvSpPr>
        <p:spPr>
          <a:xfrm>
            <a:off x="7207200" y="4875120"/>
            <a:ext cx="9720" cy="30240"/>
          </a:xfrm>
          <a:custGeom>
            <a:avLst/>
            <a:gdLst>
              <a:gd name="textAreaLeft" fmla="*/ 0 w 9720"/>
              <a:gd name="textAreaRight" fmla="*/ 10080 w 9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7" h="21">
                <a:moveTo>
                  <a:pt x="7" y="21"/>
                </a:moveTo>
                <a:lnTo>
                  <a:pt x="0" y="0"/>
                </a:lnTo>
                <a:lnTo>
                  <a:pt x="7" y="7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Freeform 685"/>
          <p:cNvSpPr/>
          <p:nvPr/>
        </p:nvSpPr>
        <p:spPr>
          <a:xfrm>
            <a:off x="7207200" y="4875120"/>
            <a:ext cx="9720" cy="41400"/>
          </a:xfrm>
          <a:custGeom>
            <a:avLst/>
            <a:gdLst>
              <a:gd name="textAreaLeft" fmla="*/ 0 w 9720"/>
              <a:gd name="textAreaRight" fmla="*/ 10080 w 97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1"/>
                </a:moveTo>
                <a:lnTo>
                  <a:pt x="0" y="0"/>
                </a:lnTo>
                <a:lnTo>
                  <a:pt x="0" y="29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4" name="Freeform 686"/>
          <p:cNvSpPr/>
          <p:nvPr/>
        </p:nvSpPr>
        <p:spPr>
          <a:xfrm>
            <a:off x="7196040" y="4875120"/>
            <a:ext cx="11160" cy="41400"/>
          </a:xfrm>
          <a:custGeom>
            <a:avLst/>
            <a:gdLst>
              <a:gd name="textAreaLeft" fmla="*/ 0 w 11160"/>
              <a:gd name="textAreaRight" fmla="*/ 11520 w 11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7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Freeform 687"/>
          <p:cNvSpPr/>
          <p:nvPr/>
        </p:nvSpPr>
        <p:spPr>
          <a:xfrm>
            <a:off x="7196040" y="4886280"/>
            <a:ext cx="11160" cy="30240"/>
          </a:xfrm>
          <a:custGeom>
            <a:avLst/>
            <a:gdLst>
              <a:gd name="textAreaLeft" fmla="*/ 0 w 11160"/>
              <a:gd name="textAreaRight" fmla="*/ 11520 w 11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0" y="14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Freeform 688"/>
          <p:cNvSpPr/>
          <p:nvPr/>
        </p:nvSpPr>
        <p:spPr>
          <a:xfrm>
            <a:off x="7184880" y="488628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14"/>
                </a:moveTo>
                <a:lnTo>
                  <a:pt x="0" y="7"/>
                </a:lnTo>
                <a:lnTo>
                  <a:pt x="7" y="0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Freeform 689"/>
          <p:cNvSpPr/>
          <p:nvPr/>
        </p:nvSpPr>
        <p:spPr>
          <a:xfrm>
            <a:off x="7175520" y="4946760"/>
            <a:ext cx="9360" cy="20520"/>
          </a:xfrm>
          <a:custGeom>
            <a:avLst/>
            <a:gdLst>
              <a:gd name="textAreaLeft" fmla="*/ 0 w 9360"/>
              <a:gd name="textAreaRight" fmla="*/ 9720 w 93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5">
                <a:moveTo>
                  <a:pt x="7" y="7"/>
                </a:moveTo>
                <a:lnTo>
                  <a:pt x="0" y="0"/>
                </a:lnTo>
                <a:lnTo>
                  <a:pt x="0" y="15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Freeform 690"/>
          <p:cNvSpPr/>
          <p:nvPr/>
        </p:nvSpPr>
        <p:spPr>
          <a:xfrm>
            <a:off x="7164360" y="4935600"/>
            <a:ext cx="11160" cy="31680"/>
          </a:xfrm>
          <a:custGeom>
            <a:avLst/>
            <a:gdLst>
              <a:gd name="textAreaLeft" fmla="*/ 0 w 11160"/>
              <a:gd name="textAreaRight" fmla="*/ 11520 w 11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7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9" name="Freeform 691"/>
          <p:cNvSpPr/>
          <p:nvPr/>
        </p:nvSpPr>
        <p:spPr>
          <a:xfrm>
            <a:off x="7164360" y="4935600"/>
            <a:ext cx="11160" cy="41040"/>
          </a:xfrm>
          <a:custGeom>
            <a:avLst/>
            <a:gdLst>
              <a:gd name="textAreaLeft" fmla="*/ 0 w 11160"/>
              <a:gd name="textAreaRight" fmla="*/ 11520 w 111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20" bIns="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0" name="Freeform 692"/>
          <p:cNvSpPr/>
          <p:nvPr/>
        </p:nvSpPr>
        <p:spPr>
          <a:xfrm>
            <a:off x="7153200" y="4935600"/>
            <a:ext cx="11160" cy="41040"/>
          </a:xfrm>
          <a:custGeom>
            <a:avLst/>
            <a:gdLst>
              <a:gd name="textAreaLeft" fmla="*/ 0 w 11160"/>
              <a:gd name="textAreaRight" fmla="*/ 11520 w 111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20" bIns="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Freeform 693"/>
          <p:cNvSpPr/>
          <p:nvPr/>
        </p:nvSpPr>
        <p:spPr>
          <a:xfrm>
            <a:off x="7153200" y="494676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5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Freeform 694"/>
          <p:cNvSpPr/>
          <p:nvPr/>
        </p:nvSpPr>
        <p:spPr>
          <a:xfrm>
            <a:off x="7142040" y="494676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" h="15">
                <a:moveTo>
                  <a:pt x="8" y="15"/>
                </a:moveTo>
                <a:lnTo>
                  <a:pt x="0" y="7"/>
                </a:lnTo>
                <a:lnTo>
                  <a:pt x="8" y="0"/>
                </a:lnTo>
                <a:lnTo>
                  <a:pt x="8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Freeform 695"/>
          <p:cNvSpPr/>
          <p:nvPr/>
        </p:nvSpPr>
        <p:spPr>
          <a:xfrm>
            <a:off x="7132680" y="504828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Freeform 696"/>
          <p:cNvSpPr/>
          <p:nvPr/>
        </p:nvSpPr>
        <p:spPr>
          <a:xfrm>
            <a:off x="7120080" y="5037120"/>
            <a:ext cx="12600" cy="30240"/>
          </a:xfrm>
          <a:custGeom>
            <a:avLst/>
            <a:gdLst>
              <a:gd name="textAreaLeft" fmla="*/ 0 w 12600"/>
              <a:gd name="textAreaRight" fmla="*/ 12960 w 12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8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Freeform 697"/>
          <p:cNvSpPr/>
          <p:nvPr/>
        </p:nvSpPr>
        <p:spPr>
          <a:xfrm>
            <a:off x="7120080" y="5037120"/>
            <a:ext cx="12600" cy="41400"/>
          </a:xfrm>
          <a:custGeom>
            <a:avLst/>
            <a:gdLst>
              <a:gd name="textAreaLeft" fmla="*/ 0 w 12600"/>
              <a:gd name="textAreaRight" fmla="*/ 12960 w 126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Freeform 698"/>
          <p:cNvSpPr/>
          <p:nvPr/>
        </p:nvSpPr>
        <p:spPr>
          <a:xfrm>
            <a:off x="7110360" y="5037120"/>
            <a:ext cx="9720" cy="41400"/>
          </a:xfrm>
          <a:custGeom>
            <a:avLst/>
            <a:gdLst>
              <a:gd name="textAreaLeft" fmla="*/ 0 w 9720"/>
              <a:gd name="textAreaRight" fmla="*/ 10080 w 97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8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Freeform 699"/>
          <p:cNvSpPr/>
          <p:nvPr/>
        </p:nvSpPr>
        <p:spPr>
          <a:xfrm>
            <a:off x="7110360" y="5048280"/>
            <a:ext cx="9720" cy="30240"/>
          </a:xfrm>
          <a:custGeom>
            <a:avLst/>
            <a:gdLst>
              <a:gd name="textAreaLeft" fmla="*/ 0 w 9720"/>
              <a:gd name="textAreaRight" fmla="*/ 10080 w 9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7" h="21">
                <a:moveTo>
                  <a:pt x="7" y="21"/>
                </a:moveTo>
                <a:lnTo>
                  <a:pt x="0" y="0"/>
                </a:lnTo>
                <a:lnTo>
                  <a:pt x="0" y="14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Freeform 700"/>
          <p:cNvSpPr/>
          <p:nvPr/>
        </p:nvSpPr>
        <p:spPr>
          <a:xfrm>
            <a:off x="7099200" y="504828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" h="14">
                <a:moveTo>
                  <a:pt x="8" y="14"/>
                </a:moveTo>
                <a:lnTo>
                  <a:pt x="0" y="7"/>
                </a:lnTo>
                <a:lnTo>
                  <a:pt x="8" y="0"/>
                </a:lnTo>
                <a:lnTo>
                  <a:pt x="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Freeform 701"/>
          <p:cNvSpPr/>
          <p:nvPr/>
        </p:nvSpPr>
        <p:spPr>
          <a:xfrm>
            <a:off x="7099200" y="481500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" h="15">
                <a:moveTo>
                  <a:pt x="8" y="7"/>
                </a:moveTo>
                <a:lnTo>
                  <a:pt x="0" y="0"/>
                </a:lnTo>
                <a:lnTo>
                  <a:pt x="0" y="15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Freeform 702"/>
          <p:cNvSpPr/>
          <p:nvPr/>
        </p:nvSpPr>
        <p:spPr>
          <a:xfrm>
            <a:off x="7088040" y="4803840"/>
            <a:ext cx="11160" cy="31680"/>
          </a:xfrm>
          <a:custGeom>
            <a:avLst/>
            <a:gdLst>
              <a:gd name="textAreaLeft" fmla="*/ 0 w 11160"/>
              <a:gd name="textAreaRight" fmla="*/ 11520 w 11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7" y="7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Freeform 703"/>
          <p:cNvSpPr/>
          <p:nvPr/>
        </p:nvSpPr>
        <p:spPr>
          <a:xfrm>
            <a:off x="7088040" y="4803840"/>
            <a:ext cx="11160" cy="41040"/>
          </a:xfrm>
          <a:custGeom>
            <a:avLst/>
            <a:gdLst>
              <a:gd name="textAreaLeft" fmla="*/ 0 w 11160"/>
              <a:gd name="textAreaRight" fmla="*/ 11520 w 111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7" h="29">
                <a:moveTo>
                  <a:pt x="7" y="22"/>
                </a:moveTo>
                <a:lnTo>
                  <a:pt x="0" y="0"/>
                </a:lnTo>
                <a:lnTo>
                  <a:pt x="0" y="29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20" bIns="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Freeform 704"/>
          <p:cNvSpPr/>
          <p:nvPr/>
        </p:nvSpPr>
        <p:spPr>
          <a:xfrm>
            <a:off x="7077240" y="4803840"/>
            <a:ext cx="10800" cy="41040"/>
          </a:xfrm>
          <a:custGeom>
            <a:avLst/>
            <a:gdLst>
              <a:gd name="textAreaLeft" fmla="*/ 0 w 10800"/>
              <a:gd name="textAreaRight" fmla="*/ 11160 w 108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7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20" bIns="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Freeform 705"/>
          <p:cNvSpPr/>
          <p:nvPr/>
        </p:nvSpPr>
        <p:spPr>
          <a:xfrm>
            <a:off x="7077240" y="4815000"/>
            <a:ext cx="10800" cy="29880"/>
          </a:xfrm>
          <a:custGeom>
            <a:avLst/>
            <a:gdLst>
              <a:gd name="textAreaLeft" fmla="*/ 0 w 10800"/>
              <a:gd name="textAreaRight" fmla="*/ 11160 w 108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0" y="15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Freeform 706"/>
          <p:cNvSpPr/>
          <p:nvPr/>
        </p:nvSpPr>
        <p:spPr>
          <a:xfrm>
            <a:off x="7067520" y="4815000"/>
            <a:ext cx="9720" cy="20520"/>
          </a:xfrm>
          <a:custGeom>
            <a:avLst/>
            <a:gdLst>
              <a:gd name="textAreaLeft" fmla="*/ 0 w 9720"/>
              <a:gd name="textAreaRight" fmla="*/ 10080 w 97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5">
                <a:moveTo>
                  <a:pt x="7" y="15"/>
                </a:moveTo>
                <a:lnTo>
                  <a:pt x="0" y="7"/>
                </a:lnTo>
                <a:lnTo>
                  <a:pt x="7" y="0"/>
                </a:lnTo>
                <a:lnTo>
                  <a:pt x="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Freeform 707"/>
          <p:cNvSpPr/>
          <p:nvPr/>
        </p:nvSpPr>
        <p:spPr>
          <a:xfrm>
            <a:off x="7056360" y="480384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Freeform 708"/>
          <p:cNvSpPr/>
          <p:nvPr/>
        </p:nvSpPr>
        <p:spPr>
          <a:xfrm>
            <a:off x="7045200" y="4794120"/>
            <a:ext cx="11160" cy="30240"/>
          </a:xfrm>
          <a:custGeom>
            <a:avLst/>
            <a:gdLst>
              <a:gd name="textAreaLeft" fmla="*/ 0 w 11160"/>
              <a:gd name="textAreaRight" fmla="*/ 11520 w 11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1">
                <a:moveTo>
                  <a:pt x="8" y="21"/>
                </a:moveTo>
                <a:lnTo>
                  <a:pt x="0" y="0"/>
                </a:lnTo>
                <a:lnTo>
                  <a:pt x="8" y="7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Freeform 709"/>
          <p:cNvSpPr/>
          <p:nvPr/>
        </p:nvSpPr>
        <p:spPr>
          <a:xfrm>
            <a:off x="7045200" y="4794120"/>
            <a:ext cx="11160" cy="41400"/>
          </a:xfrm>
          <a:custGeom>
            <a:avLst/>
            <a:gdLst>
              <a:gd name="textAreaLeft" fmla="*/ 0 w 11160"/>
              <a:gd name="textAreaRight" fmla="*/ 11520 w 11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1"/>
                </a:moveTo>
                <a:lnTo>
                  <a:pt x="0" y="0"/>
                </a:lnTo>
                <a:lnTo>
                  <a:pt x="0" y="29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Freeform 710"/>
          <p:cNvSpPr/>
          <p:nvPr/>
        </p:nvSpPr>
        <p:spPr>
          <a:xfrm>
            <a:off x="7035840" y="4794120"/>
            <a:ext cx="9360" cy="41400"/>
          </a:xfrm>
          <a:custGeom>
            <a:avLst/>
            <a:gdLst>
              <a:gd name="textAreaLeft" fmla="*/ 0 w 9360"/>
              <a:gd name="textAreaRight" fmla="*/ 9720 w 9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Freeform 711"/>
          <p:cNvSpPr/>
          <p:nvPr/>
        </p:nvSpPr>
        <p:spPr>
          <a:xfrm>
            <a:off x="7035840" y="4803840"/>
            <a:ext cx="9360" cy="31680"/>
          </a:xfrm>
          <a:custGeom>
            <a:avLst/>
            <a:gdLst>
              <a:gd name="textAreaLeft" fmla="*/ 0 w 9360"/>
              <a:gd name="textAreaRight" fmla="*/ 9720 w 93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4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Freeform 712"/>
          <p:cNvSpPr/>
          <p:nvPr/>
        </p:nvSpPr>
        <p:spPr>
          <a:xfrm>
            <a:off x="7024680" y="480384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" h="14">
                <a:moveTo>
                  <a:pt x="8" y="14"/>
                </a:moveTo>
                <a:lnTo>
                  <a:pt x="0" y="7"/>
                </a:lnTo>
                <a:lnTo>
                  <a:pt x="8" y="0"/>
                </a:lnTo>
                <a:lnTo>
                  <a:pt x="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1" name="Freeform 713"/>
          <p:cNvSpPr/>
          <p:nvPr/>
        </p:nvSpPr>
        <p:spPr>
          <a:xfrm>
            <a:off x="7024680" y="4863960"/>
            <a:ext cx="11160" cy="22320"/>
          </a:xfrm>
          <a:custGeom>
            <a:avLst/>
            <a:gdLst>
              <a:gd name="textAreaLeft" fmla="*/ 0 w 11160"/>
              <a:gd name="textAreaRight" fmla="*/ 11520 w 11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5">
                <a:moveTo>
                  <a:pt x="8" y="8"/>
                </a:moveTo>
                <a:lnTo>
                  <a:pt x="0" y="0"/>
                </a:lnTo>
                <a:lnTo>
                  <a:pt x="0" y="15"/>
                </a:lnTo>
                <a:lnTo>
                  <a:pt x="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8000" bIns="-18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Freeform 714"/>
          <p:cNvSpPr/>
          <p:nvPr/>
        </p:nvSpPr>
        <p:spPr>
          <a:xfrm>
            <a:off x="7013520" y="4854600"/>
            <a:ext cx="11160" cy="31680"/>
          </a:xfrm>
          <a:custGeom>
            <a:avLst/>
            <a:gdLst>
              <a:gd name="textAreaLeft" fmla="*/ 0 w 11160"/>
              <a:gd name="textAreaRight" fmla="*/ 11520 w 11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7" y="7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Freeform 715"/>
          <p:cNvSpPr/>
          <p:nvPr/>
        </p:nvSpPr>
        <p:spPr>
          <a:xfrm>
            <a:off x="7013520" y="4854600"/>
            <a:ext cx="11160" cy="41400"/>
          </a:xfrm>
          <a:custGeom>
            <a:avLst/>
            <a:gdLst>
              <a:gd name="textAreaLeft" fmla="*/ 0 w 11160"/>
              <a:gd name="textAreaRight" fmla="*/ 11520 w 11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2"/>
                </a:moveTo>
                <a:lnTo>
                  <a:pt x="0" y="0"/>
                </a:lnTo>
                <a:lnTo>
                  <a:pt x="0" y="29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Freeform 716"/>
          <p:cNvSpPr/>
          <p:nvPr/>
        </p:nvSpPr>
        <p:spPr>
          <a:xfrm>
            <a:off x="7002360" y="4854600"/>
            <a:ext cx="11160" cy="41400"/>
          </a:xfrm>
          <a:custGeom>
            <a:avLst/>
            <a:gdLst>
              <a:gd name="textAreaLeft" fmla="*/ 0 w 11160"/>
              <a:gd name="textAreaRight" fmla="*/ 11520 w 11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7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Freeform 717"/>
          <p:cNvSpPr/>
          <p:nvPr/>
        </p:nvSpPr>
        <p:spPr>
          <a:xfrm>
            <a:off x="7002360" y="4863960"/>
            <a:ext cx="11160" cy="32040"/>
          </a:xfrm>
          <a:custGeom>
            <a:avLst/>
            <a:gdLst>
              <a:gd name="textAreaLeft" fmla="*/ 0 w 11160"/>
              <a:gd name="textAreaRight" fmla="*/ 11520 w 1116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0" y="15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280" bIns="-82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Freeform 718"/>
          <p:cNvSpPr/>
          <p:nvPr/>
        </p:nvSpPr>
        <p:spPr>
          <a:xfrm>
            <a:off x="6993000" y="4863960"/>
            <a:ext cx="9360" cy="22320"/>
          </a:xfrm>
          <a:custGeom>
            <a:avLst/>
            <a:gdLst>
              <a:gd name="textAreaLeft" fmla="*/ 0 w 9360"/>
              <a:gd name="textAreaRight" fmla="*/ 9720 w 93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7" h="15">
                <a:moveTo>
                  <a:pt x="7" y="15"/>
                </a:moveTo>
                <a:lnTo>
                  <a:pt x="0" y="8"/>
                </a:lnTo>
                <a:lnTo>
                  <a:pt x="7" y="0"/>
                </a:lnTo>
                <a:lnTo>
                  <a:pt x="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8000" bIns="-18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Freeform 719"/>
          <p:cNvSpPr/>
          <p:nvPr/>
        </p:nvSpPr>
        <p:spPr>
          <a:xfrm>
            <a:off x="6980400" y="4551480"/>
            <a:ext cx="12600" cy="20520"/>
          </a:xfrm>
          <a:custGeom>
            <a:avLst/>
            <a:gdLst>
              <a:gd name="textAreaLeft" fmla="*/ 0 w 12600"/>
              <a:gd name="textAreaRight" fmla="*/ 12960 w 126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" h="15">
                <a:moveTo>
                  <a:pt x="8" y="7"/>
                </a:moveTo>
                <a:lnTo>
                  <a:pt x="0" y="0"/>
                </a:lnTo>
                <a:lnTo>
                  <a:pt x="0" y="15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Freeform 720"/>
          <p:cNvSpPr/>
          <p:nvPr/>
        </p:nvSpPr>
        <p:spPr>
          <a:xfrm>
            <a:off x="6970680" y="4541760"/>
            <a:ext cx="9720" cy="30240"/>
          </a:xfrm>
          <a:custGeom>
            <a:avLst/>
            <a:gdLst>
              <a:gd name="textAreaLeft" fmla="*/ 0 w 9720"/>
              <a:gd name="textAreaRight" fmla="*/ 10080 w 9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7" y="7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9" name="Freeform 721"/>
          <p:cNvSpPr/>
          <p:nvPr/>
        </p:nvSpPr>
        <p:spPr>
          <a:xfrm>
            <a:off x="6970680" y="4541760"/>
            <a:ext cx="9720" cy="39600"/>
          </a:xfrm>
          <a:custGeom>
            <a:avLst/>
            <a:gdLst>
              <a:gd name="textAreaLeft" fmla="*/ 0 w 9720"/>
              <a:gd name="textAreaRight" fmla="*/ 10080 w 97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29">
                <a:moveTo>
                  <a:pt x="7" y="22"/>
                </a:moveTo>
                <a:lnTo>
                  <a:pt x="0" y="0"/>
                </a:lnTo>
                <a:lnTo>
                  <a:pt x="0" y="29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Freeform 722"/>
          <p:cNvSpPr/>
          <p:nvPr/>
        </p:nvSpPr>
        <p:spPr>
          <a:xfrm>
            <a:off x="6959520" y="4541760"/>
            <a:ext cx="11160" cy="39600"/>
          </a:xfrm>
          <a:custGeom>
            <a:avLst/>
            <a:gdLst>
              <a:gd name="textAreaLeft" fmla="*/ 0 w 11160"/>
              <a:gd name="textAreaRight" fmla="*/ 11520 w 11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7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Freeform 723"/>
          <p:cNvSpPr/>
          <p:nvPr/>
        </p:nvSpPr>
        <p:spPr>
          <a:xfrm>
            <a:off x="6959520" y="455148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0" y="15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Freeform 724"/>
          <p:cNvSpPr/>
          <p:nvPr/>
        </p:nvSpPr>
        <p:spPr>
          <a:xfrm>
            <a:off x="6948360" y="455148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5">
                <a:moveTo>
                  <a:pt x="7" y="15"/>
                </a:moveTo>
                <a:lnTo>
                  <a:pt x="0" y="7"/>
                </a:lnTo>
                <a:lnTo>
                  <a:pt x="7" y="0"/>
                </a:lnTo>
                <a:lnTo>
                  <a:pt x="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Freeform 725"/>
          <p:cNvSpPr/>
          <p:nvPr/>
        </p:nvSpPr>
        <p:spPr>
          <a:xfrm>
            <a:off x="6948360" y="462276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Freeform 726"/>
          <p:cNvSpPr/>
          <p:nvPr/>
        </p:nvSpPr>
        <p:spPr>
          <a:xfrm>
            <a:off x="6939000" y="4613400"/>
            <a:ext cx="9360" cy="28440"/>
          </a:xfrm>
          <a:custGeom>
            <a:avLst/>
            <a:gdLst>
              <a:gd name="textAreaLeft" fmla="*/ 0 w 9360"/>
              <a:gd name="textAreaRight" fmla="*/ 9720 w 93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7" h="21">
                <a:moveTo>
                  <a:pt x="7" y="21"/>
                </a:moveTo>
                <a:lnTo>
                  <a:pt x="0" y="0"/>
                </a:lnTo>
                <a:lnTo>
                  <a:pt x="7" y="7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1880" bIns="-11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5" name="Freeform 727"/>
          <p:cNvSpPr/>
          <p:nvPr/>
        </p:nvSpPr>
        <p:spPr>
          <a:xfrm>
            <a:off x="6939000" y="4613400"/>
            <a:ext cx="9360" cy="37800"/>
          </a:xfrm>
          <a:custGeom>
            <a:avLst/>
            <a:gdLst>
              <a:gd name="textAreaLeft" fmla="*/ 0 w 9360"/>
              <a:gd name="textAreaRight" fmla="*/ 9720 w 936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7" h="28">
                <a:moveTo>
                  <a:pt x="7" y="21"/>
                </a:moveTo>
                <a:lnTo>
                  <a:pt x="0" y="0"/>
                </a:lnTo>
                <a:lnTo>
                  <a:pt x="0" y="28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520" bIns="-25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Freeform 728"/>
          <p:cNvSpPr/>
          <p:nvPr/>
        </p:nvSpPr>
        <p:spPr>
          <a:xfrm>
            <a:off x="6927840" y="4613400"/>
            <a:ext cx="11160" cy="37800"/>
          </a:xfrm>
          <a:custGeom>
            <a:avLst/>
            <a:gdLst>
              <a:gd name="textAreaLeft" fmla="*/ 0 w 11160"/>
              <a:gd name="textAreaRight" fmla="*/ 11520 w 1116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8" h="28">
                <a:moveTo>
                  <a:pt x="8" y="28"/>
                </a:moveTo>
                <a:lnTo>
                  <a:pt x="0" y="7"/>
                </a:lnTo>
                <a:lnTo>
                  <a:pt x="8" y="0"/>
                </a:lnTo>
                <a:lnTo>
                  <a:pt x="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520" bIns="-25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7" name="Freeform 729"/>
          <p:cNvSpPr/>
          <p:nvPr/>
        </p:nvSpPr>
        <p:spPr>
          <a:xfrm>
            <a:off x="6927840" y="4622760"/>
            <a:ext cx="11160" cy="28440"/>
          </a:xfrm>
          <a:custGeom>
            <a:avLst/>
            <a:gdLst>
              <a:gd name="textAreaLeft" fmla="*/ 0 w 11160"/>
              <a:gd name="textAreaRight" fmla="*/ 11520 w 111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" h="21">
                <a:moveTo>
                  <a:pt x="8" y="21"/>
                </a:moveTo>
                <a:lnTo>
                  <a:pt x="0" y="0"/>
                </a:lnTo>
                <a:lnTo>
                  <a:pt x="0" y="14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1880" bIns="-11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Freeform 730"/>
          <p:cNvSpPr/>
          <p:nvPr/>
        </p:nvSpPr>
        <p:spPr>
          <a:xfrm>
            <a:off x="6916680" y="462276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14"/>
                </a:moveTo>
                <a:lnTo>
                  <a:pt x="0" y="7"/>
                </a:lnTo>
                <a:lnTo>
                  <a:pt x="7" y="0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Freeform 731"/>
          <p:cNvSpPr/>
          <p:nvPr/>
        </p:nvSpPr>
        <p:spPr>
          <a:xfrm>
            <a:off x="6905520" y="496728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" h="14">
                <a:moveTo>
                  <a:pt x="8" y="7"/>
                </a:moveTo>
                <a:lnTo>
                  <a:pt x="0" y="0"/>
                </a:lnTo>
                <a:lnTo>
                  <a:pt x="0" y="14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0" name="Freeform 732"/>
          <p:cNvSpPr/>
          <p:nvPr/>
        </p:nvSpPr>
        <p:spPr>
          <a:xfrm>
            <a:off x="6896160" y="4956120"/>
            <a:ext cx="9360" cy="30240"/>
          </a:xfrm>
          <a:custGeom>
            <a:avLst/>
            <a:gdLst>
              <a:gd name="textAreaLeft" fmla="*/ 0 w 9360"/>
              <a:gd name="textAreaRight" fmla="*/ 9720 w 9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7" y="8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Freeform 733"/>
          <p:cNvSpPr/>
          <p:nvPr/>
        </p:nvSpPr>
        <p:spPr>
          <a:xfrm>
            <a:off x="6896160" y="4956120"/>
            <a:ext cx="9360" cy="39600"/>
          </a:xfrm>
          <a:custGeom>
            <a:avLst/>
            <a:gdLst>
              <a:gd name="textAreaLeft" fmla="*/ 0 w 9360"/>
              <a:gd name="textAreaRight" fmla="*/ 9720 w 9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29">
                <a:moveTo>
                  <a:pt x="7" y="22"/>
                </a:moveTo>
                <a:lnTo>
                  <a:pt x="0" y="0"/>
                </a:lnTo>
                <a:lnTo>
                  <a:pt x="0" y="29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Freeform 734"/>
          <p:cNvSpPr/>
          <p:nvPr/>
        </p:nvSpPr>
        <p:spPr>
          <a:xfrm>
            <a:off x="6883560" y="4956120"/>
            <a:ext cx="12600" cy="39600"/>
          </a:xfrm>
          <a:custGeom>
            <a:avLst/>
            <a:gdLst>
              <a:gd name="textAreaLeft" fmla="*/ 0 w 12600"/>
              <a:gd name="textAreaRight" fmla="*/ 12960 w 12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8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Freeform 735"/>
          <p:cNvSpPr/>
          <p:nvPr/>
        </p:nvSpPr>
        <p:spPr>
          <a:xfrm>
            <a:off x="6883560" y="4967280"/>
            <a:ext cx="12600" cy="28440"/>
          </a:xfrm>
          <a:custGeom>
            <a:avLst/>
            <a:gdLst>
              <a:gd name="textAreaLeft" fmla="*/ 0 w 12600"/>
              <a:gd name="textAreaRight" fmla="*/ 12960 w 126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" h="21">
                <a:moveTo>
                  <a:pt x="8" y="21"/>
                </a:moveTo>
                <a:lnTo>
                  <a:pt x="0" y="0"/>
                </a:lnTo>
                <a:lnTo>
                  <a:pt x="0" y="14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1880" bIns="-11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Freeform 736"/>
          <p:cNvSpPr/>
          <p:nvPr/>
        </p:nvSpPr>
        <p:spPr>
          <a:xfrm>
            <a:off x="6873840" y="4967280"/>
            <a:ext cx="9720" cy="19080"/>
          </a:xfrm>
          <a:custGeom>
            <a:avLst/>
            <a:gdLst>
              <a:gd name="textAreaLeft" fmla="*/ 0 w 9720"/>
              <a:gd name="textAreaRight" fmla="*/ 10080 w 9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14"/>
                </a:moveTo>
                <a:lnTo>
                  <a:pt x="0" y="7"/>
                </a:lnTo>
                <a:lnTo>
                  <a:pt x="7" y="0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Freeform 737"/>
          <p:cNvSpPr/>
          <p:nvPr/>
        </p:nvSpPr>
        <p:spPr>
          <a:xfrm>
            <a:off x="6873840" y="4844880"/>
            <a:ext cx="9720" cy="19080"/>
          </a:xfrm>
          <a:custGeom>
            <a:avLst/>
            <a:gdLst>
              <a:gd name="textAreaLeft" fmla="*/ 0 w 9720"/>
              <a:gd name="textAreaRight" fmla="*/ 10080 w 9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6" name="Freeform 738"/>
          <p:cNvSpPr/>
          <p:nvPr/>
        </p:nvSpPr>
        <p:spPr>
          <a:xfrm>
            <a:off x="6862680" y="4835520"/>
            <a:ext cx="11160" cy="28440"/>
          </a:xfrm>
          <a:custGeom>
            <a:avLst/>
            <a:gdLst>
              <a:gd name="textAreaLeft" fmla="*/ 0 w 11160"/>
              <a:gd name="textAreaRight" fmla="*/ 11520 w 111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" h="21">
                <a:moveTo>
                  <a:pt x="8" y="21"/>
                </a:moveTo>
                <a:lnTo>
                  <a:pt x="0" y="0"/>
                </a:lnTo>
                <a:lnTo>
                  <a:pt x="8" y="7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1880" bIns="-11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7" name="Freeform 739"/>
          <p:cNvSpPr/>
          <p:nvPr/>
        </p:nvSpPr>
        <p:spPr>
          <a:xfrm>
            <a:off x="6862680" y="4835520"/>
            <a:ext cx="11160" cy="39600"/>
          </a:xfrm>
          <a:custGeom>
            <a:avLst/>
            <a:gdLst>
              <a:gd name="textAreaLeft" fmla="*/ 0 w 11160"/>
              <a:gd name="textAreaRight" fmla="*/ 11520 w 11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" h="29">
                <a:moveTo>
                  <a:pt x="8" y="21"/>
                </a:moveTo>
                <a:lnTo>
                  <a:pt x="0" y="0"/>
                </a:lnTo>
                <a:lnTo>
                  <a:pt x="0" y="29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Freeform 740"/>
          <p:cNvSpPr/>
          <p:nvPr/>
        </p:nvSpPr>
        <p:spPr>
          <a:xfrm>
            <a:off x="6851520" y="4835520"/>
            <a:ext cx="11160" cy="39600"/>
          </a:xfrm>
          <a:custGeom>
            <a:avLst/>
            <a:gdLst>
              <a:gd name="textAreaLeft" fmla="*/ 0 w 11160"/>
              <a:gd name="textAreaRight" fmla="*/ 11520 w 11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Freeform 741"/>
          <p:cNvSpPr/>
          <p:nvPr/>
        </p:nvSpPr>
        <p:spPr>
          <a:xfrm>
            <a:off x="6851520" y="4844880"/>
            <a:ext cx="11160" cy="30240"/>
          </a:xfrm>
          <a:custGeom>
            <a:avLst/>
            <a:gdLst>
              <a:gd name="textAreaLeft" fmla="*/ 0 w 11160"/>
              <a:gd name="textAreaRight" fmla="*/ 11520 w 11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4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Freeform 742"/>
          <p:cNvSpPr/>
          <p:nvPr/>
        </p:nvSpPr>
        <p:spPr>
          <a:xfrm>
            <a:off x="6840360" y="484488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" h="14">
                <a:moveTo>
                  <a:pt x="8" y="14"/>
                </a:moveTo>
                <a:lnTo>
                  <a:pt x="0" y="7"/>
                </a:lnTo>
                <a:lnTo>
                  <a:pt x="8" y="0"/>
                </a:lnTo>
                <a:lnTo>
                  <a:pt x="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Freeform 743"/>
          <p:cNvSpPr/>
          <p:nvPr/>
        </p:nvSpPr>
        <p:spPr>
          <a:xfrm>
            <a:off x="6831000" y="4863960"/>
            <a:ext cx="9360" cy="22320"/>
          </a:xfrm>
          <a:custGeom>
            <a:avLst/>
            <a:gdLst>
              <a:gd name="textAreaLeft" fmla="*/ 0 w 9360"/>
              <a:gd name="textAreaRight" fmla="*/ 9720 w 93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7" h="15">
                <a:moveTo>
                  <a:pt x="7" y="8"/>
                </a:moveTo>
                <a:lnTo>
                  <a:pt x="0" y="0"/>
                </a:lnTo>
                <a:lnTo>
                  <a:pt x="0" y="15"/>
                </a:lnTo>
                <a:lnTo>
                  <a:pt x="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8000" bIns="-18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Freeform 744"/>
          <p:cNvSpPr/>
          <p:nvPr/>
        </p:nvSpPr>
        <p:spPr>
          <a:xfrm>
            <a:off x="6818400" y="4854600"/>
            <a:ext cx="12600" cy="31680"/>
          </a:xfrm>
          <a:custGeom>
            <a:avLst/>
            <a:gdLst>
              <a:gd name="textAreaLeft" fmla="*/ 0 w 12600"/>
              <a:gd name="textAreaRight" fmla="*/ 12960 w 12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7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Freeform 745"/>
          <p:cNvSpPr/>
          <p:nvPr/>
        </p:nvSpPr>
        <p:spPr>
          <a:xfrm>
            <a:off x="6818400" y="4854600"/>
            <a:ext cx="12600" cy="41400"/>
          </a:xfrm>
          <a:custGeom>
            <a:avLst/>
            <a:gdLst>
              <a:gd name="textAreaLeft" fmla="*/ 0 w 12600"/>
              <a:gd name="textAreaRight" fmla="*/ 12960 w 126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Freeform 746"/>
          <p:cNvSpPr/>
          <p:nvPr/>
        </p:nvSpPr>
        <p:spPr>
          <a:xfrm>
            <a:off x="6808680" y="4854600"/>
            <a:ext cx="9720" cy="41400"/>
          </a:xfrm>
          <a:custGeom>
            <a:avLst/>
            <a:gdLst>
              <a:gd name="textAreaLeft" fmla="*/ 0 w 9720"/>
              <a:gd name="textAreaRight" fmla="*/ 10080 w 97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5" name="Freeform 747"/>
          <p:cNvSpPr/>
          <p:nvPr/>
        </p:nvSpPr>
        <p:spPr>
          <a:xfrm>
            <a:off x="6808680" y="4863960"/>
            <a:ext cx="9720" cy="32040"/>
          </a:xfrm>
          <a:custGeom>
            <a:avLst/>
            <a:gdLst>
              <a:gd name="textAreaLeft" fmla="*/ 0 w 9720"/>
              <a:gd name="textAreaRight" fmla="*/ 10080 w 97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5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280" bIns="-82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6" name="Freeform 748"/>
          <p:cNvSpPr/>
          <p:nvPr/>
        </p:nvSpPr>
        <p:spPr>
          <a:xfrm>
            <a:off x="6799320" y="4863960"/>
            <a:ext cx="9360" cy="22320"/>
          </a:xfrm>
          <a:custGeom>
            <a:avLst/>
            <a:gdLst>
              <a:gd name="textAreaLeft" fmla="*/ 0 w 9360"/>
              <a:gd name="textAreaRight" fmla="*/ 9720 w 93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7" h="15">
                <a:moveTo>
                  <a:pt x="7" y="15"/>
                </a:moveTo>
                <a:lnTo>
                  <a:pt x="0" y="8"/>
                </a:lnTo>
                <a:lnTo>
                  <a:pt x="7" y="0"/>
                </a:lnTo>
                <a:lnTo>
                  <a:pt x="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8000" bIns="-18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Freeform 749"/>
          <p:cNvSpPr/>
          <p:nvPr/>
        </p:nvSpPr>
        <p:spPr>
          <a:xfrm>
            <a:off x="6799320" y="4803840"/>
            <a:ext cx="9360" cy="20520"/>
          </a:xfrm>
          <a:custGeom>
            <a:avLst/>
            <a:gdLst>
              <a:gd name="textAreaLeft" fmla="*/ 0 w 9360"/>
              <a:gd name="textAreaRight" fmla="*/ 9720 w 93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Freeform 750"/>
          <p:cNvSpPr/>
          <p:nvPr/>
        </p:nvSpPr>
        <p:spPr>
          <a:xfrm>
            <a:off x="6786720" y="4794120"/>
            <a:ext cx="12600" cy="30240"/>
          </a:xfrm>
          <a:custGeom>
            <a:avLst/>
            <a:gdLst>
              <a:gd name="textAreaLeft" fmla="*/ 0 w 12600"/>
              <a:gd name="textAreaRight" fmla="*/ 12960 w 12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1">
                <a:moveTo>
                  <a:pt x="8" y="21"/>
                </a:moveTo>
                <a:lnTo>
                  <a:pt x="0" y="0"/>
                </a:lnTo>
                <a:lnTo>
                  <a:pt x="8" y="7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Freeform 751"/>
          <p:cNvSpPr/>
          <p:nvPr/>
        </p:nvSpPr>
        <p:spPr>
          <a:xfrm>
            <a:off x="6786720" y="4794120"/>
            <a:ext cx="12600" cy="41400"/>
          </a:xfrm>
          <a:custGeom>
            <a:avLst/>
            <a:gdLst>
              <a:gd name="textAreaLeft" fmla="*/ 0 w 12600"/>
              <a:gd name="textAreaRight" fmla="*/ 12960 w 126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1"/>
                </a:moveTo>
                <a:lnTo>
                  <a:pt x="0" y="0"/>
                </a:lnTo>
                <a:lnTo>
                  <a:pt x="0" y="29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Freeform 752"/>
          <p:cNvSpPr/>
          <p:nvPr/>
        </p:nvSpPr>
        <p:spPr>
          <a:xfrm>
            <a:off x="6777000" y="4794120"/>
            <a:ext cx="9720" cy="41400"/>
          </a:xfrm>
          <a:custGeom>
            <a:avLst/>
            <a:gdLst>
              <a:gd name="textAreaLeft" fmla="*/ 0 w 9720"/>
              <a:gd name="textAreaRight" fmla="*/ 10080 w 97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Freeform 753"/>
          <p:cNvSpPr/>
          <p:nvPr/>
        </p:nvSpPr>
        <p:spPr>
          <a:xfrm>
            <a:off x="6777000" y="4803840"/>
            <a:ext cx="9720" cy="31680"/>
          </a:xfrm>
          <a:custGeom>
            <a:avLst/>
            <a:gdLst>
              <a:gd name="textAreaLeft" fmla="*/ 0 w 9720"/>
              <a:gd name="textAreaRight" fmla="*/ 10080 w 97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4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Freeform 754"/>
          <p:cNvSpPr/>
          <p:nvPr/>
        </p:nvSpPr>
        <p:spPr>
          <a:xfrm>
            <a:off x="6765840" y="480384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" h="14">
                <a:moveTo>
                  <a:pt x="8" y="14"/>
                </a:moveTo>
                <a:lnTo>
                  <a:pt x="0" y="7"/>
                </a:lnTo>
                <a:lnTo>
                  <a:pt x="8" y="0"/>
                </a:lnTo>
                <a:lnTo>
                  <a:pt x="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Freeform 755"/>
          <p:cNvSpPr/>
          <p:nvPr/>
        </p:nvSpPr>
        <p:spPr>
          <a:xfrm>
            <a:off x="6754680" y="4782960"/>
            <a:ext cx="11160" cy="20880"/>
          </a:xfrm>
          <a:custGeom>
            <a:avLst/>
            <a:gdLst>
              <a:gd name="textAreaLeft" fmla="*/ 0 w 11160"/>
              <a:gd name="textAreaRight" fmla="*/ 11520 w 111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7" h="15">
                <a:moveTo>
                  <a:pt x="7" y="8"/>
                </a:moveTo>
                <a:lnTo>
                  <a:pt x="0" y="0"/>
                </a:lnTo>
                <a:lnTo>
                  <a:pt x="0" y="15"/>
                </a:lnTo>
                <a:lnTo>
                  <a:pt x="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440" bIns="-19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Freeform 756"/>
          <p:cNvSpPr/>
          <p:nvPr/>
        </p:nvSpPr>
        <p:spPr>
          <a:xfrm>
            <a:off x="6743880" y="4773600"/>
            <a:ext cx="10800" cy="30240"/>
          </a:xfrm>
          <a:custGeom>
            <a:avLst/>
            <a:gdLst>
              <a:gd name="textAreaLeft" fmla="*/ 0 w 10800"/>
              <a:gd name="textAreaRight" fmla="*/ 11160 w 108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7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Freeform 757"/>
          <p:cNvSpPr/>
          <p:nvPr/>
        </p:nvSpPr>
        <p:spPr>
          <a:xfrm>
            <a:off x="6743880" y="4773600"/>
            <a:ext cx="10800" cy="41400"/>
          </a:xfrm>
          <a:custGeom>
            <a:avLst/>
            <a:gdLst>
              <a:gd name="textAreaLeft" fmla="*/ 0 w 10800"/>
              <a:gd name="textAreaRight" fmla="*/ 11160 w 108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6" name="Freeform 758"/>
          <p:cNvSpPr/>
          <p:nvPr/>
        </p:nvSpPr>
        <p:spPr>
          <a:xfrm>
            <a:off x="6734160" y="4773600"/>
            <a:ext cx="9720" cy="41400"/>
          </a:xfrm>
          <a:custGeom>
            <a:avLst/>
            <a:gdLst>
              <a:gd name="textAreaLeft" fmla="*/ 0 w 9720"/>
              <a:gd name="textAreaRight" fmla="*/ 10080 w 97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Freeform 759"/>
          <p:cNvSpPr/>
          <p:nvPr/>
        </p:nvSpPr>
        <p:spPr>
          <a:xfrm>
            <a:off x="6734160" y="4782960"/>
            <a:ext cx="9720" cy="32040"/>
          </a:xfrm>
          <a:custGeom>
            <a:avLst/>
            <a:gdLst>
              <a:gd name="textAreaLeft" fmla="*/ 0 w 9720"/>
              <a:gd name="textAreaRight" fmla="*/ 10080 w 97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5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280" bIns="-82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Freeform 760"/>
          <p:cNvSpPr/>
          <p:nvPr/>
        </p:nvSpPr>
        <p:spPr>
          <a:xfrm>
            <a:off x="6723000" y="4782960"/>
            <a:ext cx="11160" cy="20880"/>
          </a:xfrm>
          <a:custGeom>
            <a:avLst/>
            <a:gdLst>
              <a:gd name="textAreaLeft" fmla="*/ 0 w 11160"/>
              <a:gd name="textAreaRight" fmla="*/ 11520 w 111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8" h="15">
                <a:moveTo>
                  <a:pt x="8" y="15"/>
                </a:moveTo>
                <a:lnTo>
                  <a:pt x="0" y="8"/>
                </a:lnTo>
                <a:lnTo>
                  <a:pt x="8" y="0"/>
                </a:lnTo>
                <a:lnTo>
                  <a:pt x="8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440" bIns="-19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Freeform 761"/>
          <p:cNvSpPr/>
          <p:nvPr/>
        </p:nvSpPr>
        <p:spPr>
          <a:xfrm>
            <a:off x="6711840" y="490536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5">
                <a:moveTo>
                  <a:pt x="7" y="8"/>
                </a:moveTo>
                <a:lnTo>
                  <a:pt x="0" y="0"/>
                </a:lnTo>
                <a:lnTo>
                  <a:pt x="0" y="15"/>
                </a:lnTo>
                <a:lnTo>
                  <a:pt x="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Freeform 762"/>
          <p:cNvSpPr/>
          <p:nvPr/>
        </p:nvSpPr>
        <p:spPr>
          <a:xfrm>
            <a:off x="6700680" y="489600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7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1" name="Freeform 763"/>
          <p:cNvSpPr/>
          <p:nvPr/>
        </p:nvSpPr>
        <p:spPr>
          <a:xfrm>
            <a:off x="6700680" y="4896000"/>
            <a:ext cx="11160" cy="39600"/>
          </a:xfrm>
          <a:custGeom>
            <a:avLst/>
            <a:gdLst>
              <a:gd name="textAreaLeft" fmla="*/ 0 w 11160"/>
              <a:gd name="textAreaRight" fmla="*/ 11520 w 11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Freeform 764"/>
          <p:cNvSpPr/>
          <p:nvPr/>
        </p:nvSpPr>
        <p:spPr>
          <a:xfrm>
            <a:off x="6691320" y="4896000"/>
            <a:ext cx="9360" cy="39600"/>
          </a:xfrm>
          <a:custGeom>
            <a:avLst/>
            <a:gdLst>
              <a:gd name="textAreaLeft" fmla="*/ 0 w 9360"/>
              <a:gd name="textAreaRight" fmla="*/ 9720 w 9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Freeform 765"/>
          <p:cNvSpPr/>
          <p:nvPr/>
        </p:nvSpPr>
        <p:spPr>
          <a:xfrm>
            <a:off x="6691320" y="4905360"/>
            <a:ext cx="9360" cy="30240"/>
          </a:xfrm>
          <a:custGeom>
            <a:avLst/>
            <a:gdLst>
              <a:gd name="textAreaLeft" fmla="*/ 0 w 9360"/>
              <a:gd name="textAreaRight" fmla="*/ 9720 w 9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5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Freeform 766"/>
          <p:cNvSpPr/>
          <p:nvPr/>
        </p:nvSpPr>
        <p:spPr>
          <a:xfrm>
            <a:off x="6680160" y="490536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5">
                <a:moveTo>
                  <a:pt x="7" y="15"/>
                </a:moveTo>
                <a:lnTo>
                  <a:pt x="0" y="8"/>
                </a:lnTo>
                <a:lnTo>
                  <a:pt x="7" y="0"/>
                </a:lnTo>
                <a:lnTo>
                  <a:pt x="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Freeform 767"/>
          <p:cNvSpPr/>
          <p:nvPr/>
        </p:nvSpPr>
        <p:spPr>
          <a:xfrm>
            <a:off x="6680160" y="502776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5">
                <a:moveTo>
                  <a:pt x="7" y="7"/>
                </a:moveTo>
                <a:lnTo>
                  <a:pt x="0" y="0"/>
                </a:lnTo>
                <a:lnTo>
                  <a:pt x="0" y="15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Freeform 768"/>
          <p:cNvSpPr/>
          <p:nvPr/>
        </p:nvSpPr>
        <p:spPr>
          <a:xfrm>
            <a:off x="6669000" y="5018040"/>
            <a:ext cx="11160" cy="30240"/>
          </a:xfrm>
          <a:custGeom>
            <a:avLst/>
            <a:gdLst>
              <a:gd name="textAreaLeft" fmla="*/ 0 w 11160"/>
              <a:gd name="textAreaRight" fmla="*/ 11520 w 11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7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reeform 769"/>
          <p:cNvSpPr/>
          <p:nvPr/>
        </p:nvSpPr>
        <p:spPr>
          <a:xfrm>
            <a:off x="6669000" y="5018040"/>
            <a:ext cx="11160" cy="39600"/>
          </a:xfrm>
          <a:custGeom>
            <a:avLst/>
            <a:gdLst>
              <a:gd name="textAreaLeft" fmla="*/ 0 w 11160"/>
              <a:gd name="textAreaRight" fmla="*/ 11520 w 11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8" name="Freeform 770"/>
          <p:cNvSpPr/>
          <p:nvPr/>
        </p:nvSpPr>
        <p:spPr>
          <a:xfrm>
            <a:off x="6659640" y="5018040"/>
            <a:ext cx="9360" cy="39600"/>
          </a:xfrm>
          <a:custGeom>
            <a:avLst/>
            <a:gdLst>
              <a:gd name="textAreaLeft" fmla="*/ 0 w 9360"/>
              <a:gd name="textAreaRight" fmla="*/ 9720 w 9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9" name="Freeform 771"/>
          <p:cNvSpPr/>
          <p:nvPr/>
        </p:nvSpPr>
        <p:spPr>
          <a:xfrm>
            <a:off x="6659640" y="5027760"/>
            <a:ext cx="9360" cy="29880"/>
          </a:xfrm>
          <a:custGeom>
            <a:avLst/>
            <a:gdLst>
              <a:gd name="textAreaLeft" fmla="*/ 0 w 9360"/>
              <a:gd name="textAreaRight" fmla="*/ 9720 w 93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5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reeform 772"/>
          <p:cNvSpPr/>
          <p:nvPr/>
        </p:nvSpPr>
        <p:spPr>
          <a:xfrm>
            <a:off x="6647040" y="5027760"/>
            <a:ext cx="12600" cy="20520"/>
          </a:xfrm>
          <a:custGeom>
            <a:avLst/>
            <a:gdLst>
              <a:gd name="textAreaLeft" fmla="*/ 0 w 12600"/>
              <a:gd name="textAreaRight" fmla="*/ 12960 w 126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" h="15">
                <a:moveTo>
                  <a:pt x="8" y="15"/>
                </a:moveTo>
                <a:lnTo>
                  <a:pt x="0" y="7"/>
                </a:lnTo>
                <a:lnTo>
                  <a:pt x="8" y="0"/>
                </a:lnTo>
                <a:lnTo>
                  <a:pt x="8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1" name="Freeform 773"/>
          <p:cNvSpPr/>
          <p:nvPr/>
        </p:nvSpPr>
        <p:spPr>
          <a:xfrm>
            <a:off x="6637320" y="4905360"/>
            <a:ext cx="9720" cy="20520"/>
          </a:xfrm>
          <a:custGeom>
            <a:avLst/>
            <a:gdLst>
              <a:gd name="textAreaLeft" fmla="*/ 0 w 9720"/>
              <a:gd name="textAreaRight" fmla="*/ 10080 w 97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5">
                <a:moveTo>
                  <a:pt x="7" y="8"/>
                </a:moveTo>
                <a:lnTo>
                  <a:pt x="0" y="0"/>
                </a:lnTo>
                <a:lnTo>
                  <a:pt x="0" y="15"/>
                </a:lnTo>
                <a:lnTo>
                  <a:pt x="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Freeform 774"/>
          <p:cNvSpPr/>
          <p:nvPr/>
        </p:nvSpPr>
        <p:spPr>
          <a:xfrm>
            <a:off x="6626160" y="489600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7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reeform 775"/>
          <p:cNvSpPr/>
          <p:nvPr/>
        </p:nvSpPr>
        <p:spPr>
          <a:xfrm>
            <a:off x="6626160" y="4896000"/>
            <a:ext cx="11160" cy="39600"/>
          </a:xfrm>
          <a:custGeom>
            <a:avLst/>
            <a:gdLst>
              <a:gd name="textAreaLeft" fmla="*/ 0 w 11160"/>
              <a:gd name="textAreaRight" fmla="*/ 11520 w 11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Freeform 776"/>
          <p:cNvSpPr/>
          <p:nvPr/>
        </p:nvSpPr>
        <p:spPr>
          <a:xfrm>
            <a:off x="6615000" y="4896000"/>
            <a:ext cx="11160" cy="39600"/>
          </a:xfrm>
          <a:custGeom>
            <a:avLst/>
            <a:gdLst>
              <a:gd name="textAreaLeft" fmla="*/ 0 w 11160"/>
              <a:gd name="textAreaRight" fmla="*/ 11520 w 11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Freeform 777"/>
          <p:cNvSpPr/>
          <p:nvPr/>
        </p:nvSpPr>
        <p:spPr>
          <a:xfrm>
            <a:off x="6615000" y="4905360"/>
            <a:ext cx="11160" cy="30240"/>
          </a:xfrm>
          <a:custGeom>
            <a:avLst/>
            <a:gdLst>
              <a:gd name="textAreaLeft" fmla="*/ 0 w 11160"/>
              <a:gd name="textAreaRight" fmla="*/ 11520 w 11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5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Freeform 778"/>
          <p:cNvSpPr/>
          <p:nvPr/>
        </p:nvSpPr>
        <p:spPr>
          <a:xfrm>
            <a:off x="6603840" y="490536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" h="15">
                <a:moveTo>
                  <a:pt x="8" y="15"/>
                </a:moveTo>
                <a:lnTo>
                  <a:pt x="0" y="8"/>
                </a:lnTo>
                <a:lnTo>
                  <a:pt x="8" y="0"/>
                </a:lnTo>
                <a:lnTo>
                  <a:pt x="8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Freeform 779"/>
          <p:cNvSpPr/>
          <p:nvPr/>
        </p:nvSpPr>
        <p:spPr>
          <a:xfrm>
            <a:off x="6603840" y="480384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" h="14">
                <a:moveTo>
                  <a:pt x="8" y="7"/>
                </a:moveTo>
                <a:lnTo>
                  <a:pt x="0" y="0"/>
                </a:lnTo>
                <a:lnTo>
                  <a:pt x="0" y="14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Freeform 780"/>
          <p:cNvSpPr/>
          <p:nvPr/>
        </p:nvSpPr>
        <p:spPr>
          <a:xfrm>
            <a:off x="6594480" y="4794120"/>
            <a:ext cx="9360" cy="30240"/>
          </a:xfrm>
          <a:custGeom>
            <a:avLst/>
            <a:gdLst>
              <a:gd name="textAreaLeft" fmla="*/ 0 w 9360"/>
              <a:gd name="textAreaRight" fmla="*/ 9720 w 9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7" h="21">
                <a:moveTo>
                  <a:pt x="7" y="21"/>
                </a:moveTo>
                <a:lnTo>
                  <a:pt x="0" y="0"/>
                </a:lnTo>
                <a:lnTo>
                  <a:pt x="7" y="7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Freeform 781"/>
          <p:cNvSpPr/>
          <p:nvPr/>
        </p:nvSpPr>
        <p:spPr>
          <a:xfrm>
            <a:off x="6594480" y="4794120"/>
            <a:ext cx="9360" cy="41400"/>
          </a:xfrm>
          <a:custGeom>
            <a:avLst/>
            <a:gdLst>
              <a:gd name="textAreaLeft" fmla="*/ 0 w 9360"/>
              <a:gd name="textAreaRight" fmla="*/ 9720 w 9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1"/>
                </a:moveTo>
                <a:lnTo>
                  <a:pt x="0" y="0"/>
                </a:lnTo>
                <a:lnTo>
                  <a:pt x="0" y="29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Freeform 782"/>
          <p:cNvSpPr/>
          <p:nvPr/>
        </p:nvSpPr>
        <p:spPr>
          <a:xfrm>
            <a:off x="6581880" y="4794120"/>
            <a:ext cx="12600" cy="41400"/>
          </a:xfrm>
          <a:custGeom>
            <a:avLst/>
            <a:gdLst>
              <a:gd name="textAreaLeft" fmla="*/ 0 w 12600"/>
              <a:gd name="textAreaRight" fmla="*/ 12960 w 126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7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reeform 783"/>
          <p:cNvSpPr/>
          <p:nvPr/>
        </p:nvSpPr>
        <p:spPr>
          <a:xfrm>
            <a:off x="6581880" y="4803840"/>
            <a:ext cx="12600" cy="31680"/>
          </a:xfrm>
          <a:custGeom>
            <a:avLst/>
            <a:gdLst>
              <a:gd name="textAreaLeft" fmla="*/ 0 w 12600"/>
              <a:gd name="textAreaRight" fmla="*/ 12960 w 12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0" y="14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Freeform 784"/>
          <p:cNvSpPr/>
          <p:nvPr/>
        </p:nvSpPr>
        <p:spPr>
          <a:xfrm>
            <a:off x="6572160" y="4803840"/>
            <a:ext cx="9720" cy="20520"/>
          </a:xfrm>
          <a:custGeom>
            <a:avLst/>
            <a:gdLst>
              <a:gd name="textAreaLeft" fmla="*/ 0 w 9720"/>
              <a:gd name="textAreaRight" fmla="*/ 10080 w 97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4">
                <a:moveTo>
                  <a:pt x="7" y="14"/>
                </a:moveTo>
                <a:lnTo>
                  <a:pt x="0" y="7"/>
                </a:lnTo>
                <a:lnTo>
                  <a:pt x="7" y="0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Freeform 785"/>
          <p:cNvSpPr/>
          <p:nvPr/>
        </p:nvSpPr>
        <p:spPr>
          <a:xfrm>
            <a:off x="6562800" y="4683240"/>
            <a:ext cx="9360" cy="20520"/>
          </a:xfrm>
          <a:custGeom>
            <a:avLst/>
            <a:gdLst>
              <a:gd name="textAreaLeft" fmla="*/ 0 w 9360"/>
              <a:gd name="textAreaRight" fmla="*/ 9720 w 93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5">
                <a:moveTo>
                  <a:pt x="7" y="7"/>
                </a:moveTo>
                <a:lnTo>
                  <a:pt x="0" y="0"/>
                </a:lnTo>
                <a:lnTo>
                  <a:pt x="0" y="15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Freeform 786"/>
          <p:cNvSpPr/>
          <p:nvPr/>
        </p:nvSpPr>
        <p:spPr>
          <a:xfrm>
            <a:off x="6550200" y="4673520"/>
            <a:ext cx="12600" cy="30240"/>
          </a:xfrm>
          <a:custGeom>
            <a:avLst/>
            <a:gdLst>
              <a:gd name="textAreaLeft" fmla="*/ 0 w 12600"/>
              <a:gd name="textAreaRight" fmla="*/ 12960 w 12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7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Freeform 787"/>
          <p:cNvSpPr/>
          <p:nvPr/>
        </p:nvSpPr>
        <p:spPr>
          <a:xfrm>
            <a:off x="6550200" y="4673520"/>
            <a:ext cx="12600" cy="39600"/>
          </a:xfrm>
          <a:custGeom>
            <a:avLst/>
            <a:gdLst>
              <a:gd name="textAreaLeft" fmla="*/ 0 w 12600"/>
              <a:gd name="textAreaRight" fmla="*/ 12960 w 12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Freeform 788"/>
          <p:cNvSpPr/>
          <p:nvPr/>
        </p:nvSpPr>
        <p:spPr>
          <a:xfrm>
            <a:off x="6540480" y="4673520"/>
            <a:ext cx="9720" cy="39600"/>
          </a:xfrm>
          <a:custGeom>
            <a:avLst/>
            <a:gdLst>
              <a:gd name="textAreaLeft" fmla="*/ 0 w 9720"/>
              <a:gd name="textAreaRight" fmla="*/ 10080 w 97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Freeform 789"/>
          <p:cNvSpPr/>
          <p:nvPr/>
        </p:nvSpPr>
        <p:spPr>
          <a:xfrm>
            <a:off x="6540480" y="4683240"/>
            <a:ext cx="9720" cy="29880"/>
          </a:xfrm>
          <a:custGeom>
            <a:avLst/>
            <a:gdLst>
              <a:gd name="textAreaLeft" fmla="*/ 0 w 9720"/>
              <a:gd name="textAreaRight" fmla="*/ 10080 w 972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5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Freeform 790"/>
          <p:cNvSpPr/>
          <p:nvPr/>
        </p:nvSpPr>
        <p:spPr>
          <a:xfrm>
            <a:off x="6529320" y="468324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" h="15">
                <a:moveTo>
                  <a:pt x="8" y="15"/>
                </a:moveTo>
                <a:lnTo>
                  <a:pt x="0" y="7"/>
                </a:lnTo>
                <a:lnTo>
                  <a:pt x="8" y="0"/>
                </a:lnTo>
                <a:lnTo>
                  <a:pt x="8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reeform 791"/>
          <p:cNvSpPr/>
          <p:nvPr/>
        </p:nvSpPr>
        <p:spPr>
          <a:xfrm>
            <a:off x="6529320" y="497664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" h="14">
                <a:moveTo>
                  <a:pt x="8" y="7"/>
                </a:moveTo>
                <a:lnTo>
                  <a:pt x="0" y="0"/>
                </a:lnTo>
                <a:lnTo>
                  <a:pt x="0" y="14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Freeform 792"/>
          <p:cNvSpPr/>
          <p:nvPr/>
        </p:nvSpPr>
        <p:spPr>
          <a:xfrm>
            <a:off x="6518160" y="4967280"/>
            <a:ext cx="11160" cy="28440"/>
          </a:xfrm>
          <a:custGeom>
            <a:avLst/>
            <a:gdLst>
              <a:gd name="textAreaLeft" fmla="*/ 0 w 11160"/>
              <a:gd name="textAreaRight" fmla="*/ 11520 w 111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7" h="21">
                <a:moveTo>
                  <a:pt x="7" y="21"/>
                </a:moveTo>
                <a:lnTo>
                  <a:pt x="0" y="0"/>
                </a:lnTo>
                <a:lnTo>
                  <a:pt x="7" y="7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1880" bIns="-11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Freeform 793"/>
          <p:cNvSpPr/>
          <p:nvPr/>
        </p:nvSpPr>
        <p:spPr>
          <a:xfrm>
            <a:off x="6518160" y="4967280"/>
            <a:ext cx="11160" cy="39600"/>
          </a:xfrm>
          <a:custGeom>
            <a:avLst/>
            <a:gdLst>
              <a:gd name="textAreaLeft" fmla="*/ 0 w 11160"/>
              <a:gd name="textAreaRight" fmla="*/ 11520 w 11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29">
                <a:moveTo>
                  <a:pt x="7" y="21"/>
                </a:moveTo>
                <a:lnTo>
                  <a:pt x="0" y="0"/>
                </a:lnTo>
                <a:lnTo>
                  <a:pt x="0" y="29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Freeform 794"/>
          <p:cNvSpPr/>
          <p:nvPr/>
        </p:nvSpPr>
        <p:spPr>
          <a:xfrm>
            <a:off x="6507000" y="4967280"/>
            <a:ext cx="11160" cy="39600"/>
          </a:xfrm>
          <a:custGeom>
            <a:avLst/>
            <a:gdLst>
              <a:gd name="textAreaLeft" fmla="*/ 0 w 11160"/>
              <a:gd name="textAreaRight" fmla="*/ 11520 w 11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7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Freeform 795"/>
          <p:cNvSpPr/>
          <p:nvPr/>
        </p:nvSpPr>
        <p:spPr>
          <a:xfrm>
            <a:off x="6507000" y="4976640"/>
            <a:ext cx="11160" cy="30240"/>
          </a:xfrm>
          <a:custGeom>
            <a:avLst/>
            <a:gdLst>
              <a:gd name="textAreaLeft" fmla="*/ 0 w 11160"/>
              <a:gd name="textAreaRight" fmla="*/ 11520 w 11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0" y="14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Freeform 796"/>
          <p:cNvSpPr/>
          <p:nvPr/>
        </p:nvSpPr>
        <p:spPr>
          <a:xfrm>
            <a:off x="6497640" y="497664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14"/>
                </a:moveTo>
                <a:lnTo>
                  <a:pt x="0" y="7"/>
                </a:lnTo>
                <a:lnTo>
                  <a:pt x="7" y="0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Freeform 797"/>
          <p:cNvSpPr/>
          <p:nvPr/>
        </p:nvSpPr>
        <p:spPr>
          <a:xfrm>
            <a:off x="6485040" y="4803840"/>
            <a:ext cx="12600" cy="20520"/>
          </a:xfrm>
          <a:custGeom>
            <a:avLst/>
            <a:gdLst>
              <a:gd name="textAreaLeft" fmla="*/ 0 w 12600"/>
              <a:gd name="textAreaRight" fmla="*/ 12960 w 126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" h="14">
                <a:moveTo>
                  <a:pt x="8" y="7"/>
                </a:moveTo>
                <a:lnTo>
                  <a:pt x="0" y="0"/>
                </a:lnTo>
                <a:lnTo>
                  <a:pt x="0" y="14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Freeform 798"/>
          <p:cNvSpPr/>
          <p:nvPr/>
        </p:nvSpPr>
        <p:spPr>
          <a:xfrm>
            <a:off x="6475320" y="4794120"/>
            <a:ext cx="9720" cy="30240"/>
          </a:xfrm>
          <a:custGeom>
            <a:avLst/>
            <a:gdLst>
              <a:gd name="textAreaLeft" fmla="*/ 0 w 9720"/>
              <a:gd name="textAreaRight" fmla="*/ 10080 w 9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7" h="21">
                <a:moveTo>
                  <a:pt x="7" y="21"/>
                </a:moveTo>
                <a:lnTo>
                  <a:pt x="0" y="0"/>
                </a:lnTo>
                <a:lnTo>
                  <a:pt x="7" y="7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reeform 799"/>
          <p:cNvSpPr/>
          <p:nvPr/>
        </p:nvSpPr>
        <p:spPr>
          <a:xfrm>
            <a:off x="6475320" y="4794120"/>
            <a:ext cx="9720" cy="41400"/>
          </a:xfrm>
          <a:custGeom>
            <a:avLst/>
            <a:gdLst>
              <a:gd name="textAreaLeft" fmla="*/ 0 w 9720"/>
              <a:gd name="textAreaRight" fmla="*/ 10080 w 97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1"/>
                </a:moveTo>
                <a:lnTo>
                  <a:pt x="0" y="0"/>
                </a:lnTo>
                <a:lnTo>
                  <a:pt x="0" y="29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Freeform 800"/>
          <p:cNvSpPr/>
          <p:nvPr/>
        </p:nvSpPr>
        <p:spPr>
          <a:xfrm>
            <a:off x="6464160" y="4794120"/>
            <a:ext cx="11160" cy="41400"/>
          </a:xfrm>
          <a:custGeom>
            <a:avLst/>
            <a:gdLst>
              <a:gd name="textAreaLeft" fmla="*/ 0 w 11160"/>
              <a:gd name="textAreaRight" fmla="*/ 11520 w 11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7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Freeform 801"/>
          <p:cNvSpPr/>
          <p:nvPr/>
        </p:nvSpPr>
        <p:spPr>
          <a:xfrm>
            <a:off x="6464160" y="4803840"/>
            <a:ext cx="11160" cy="31680"/>
          </a:xfrm>
          <a:custGeom>
            <a:avLst/>
            <a:gdLst>
              <a:gd name="textAreaLeft" fmla="*/ 0 w 11160"/>
              <a:gd name="textAreaRight" fmla="*/ 11520 w 11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0" y="14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Freeform 802"/>
          <p:cNvSpPr/>
          <p:nvPr/>
        </p:nvSpPr>
        <p:spPr>
          <a:xfrm>
            <a:off x="6453360" y="4803840"/>
            <a:ext cx="10800" cy="20520"/>
          </a:xfrm>
          <a:custGeom>
            <a:avLst/>
            <a:gdLst>
              <a:gd name="textAreaLeft" fmla="*/ 0 w 10800"/>
              <a:gd name="textAreaRight" fmla="*/ 11160 w 108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4">
                <a:moveTo>
                  <a:pt x="7" y="14"/>
                </a:moveTo>
                <a:lnTo>
                  <a:pt x="0" y="7"/>
                </a:lnTo>
                <a:lnTo>
                  <a:pt x="7" y="0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Freeform 803"/>
          <p:cNvSpPr/>
          <p:nvPr/>
        </p:nvSpPr>
        <p:spPr>
          <a:xfrm>
            <a:off x="6453360" y="4863960"/>
            <a:ext cx="10800" cy="22320"/>
          </a:xfrm>
          <a:custGeom>
            <a:avLst/>
            <a:gdLst>
              <a:gd name="textAreaLeft" fmla="*/ 0 w 10800"/>
              <a:gd name="textAreaRight" fmla="*/ 11160 w 10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7" h="15">
                <a:moveTo>
                  <a:pt x="7" y="8"/>
                </a:moveTo>
                <a:lnTo>
                  <a:pt x="0" y="0"/>
                </a:lnTo>
                <a:lnTo>
                  <a:pt x="0" y="15"/>
                </a:lnTo>
                <a:lnTo>
                  <a:pt x="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8000" bIns="-18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Freeform 804"/>
          <p:cNvSpPr/>
          <p:nvPr/>
        </p:nvSpPr>
        <p:spPr>
          <a:xfrm>
            <a:off x="6443640" y="4854600"/>
            <a:ext cx="9720" cy="31680"/>
          </a:xfrm>
          <a:custGeom>
            <a:avLst/>
            <a:gdLst>
              <a:gd name="textAreaLeft" fmla="*/ 0 w 9720"/>
              <a:gd name="textAreaRight" fmla="*/ 10080 w 97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7" y="7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Freeform 805"/>
          <p:cNvSpPr/>
          <p:nvPr/>
        </p:nvSpPr>
        <p:spPr>
          <a:xfrm>
            <a:off x="6443640" y="4854600"/>
            <a:ext cx="9720" cy="41400"/>
          </a:xfrm>
          <a:custGeom>
            <a:avLst/>
            <a:gdLst>
              <a:gd name="textAreaLeft" fmla="*/ 0 w 9720"/>
              <a:gd name="textAreaRight" fmla="*/ 10080 w 97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2"/>
                </a:moveTo>
                <a:lnTo>
                  <a:pt x="0" y="0"/>
                </a:lnTo>
                <a:lnTo>
                  <a:pt x="0" y="29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Freeform 806"/>
          <p:cNvSpPr/>
          <p:nvPr/>
        </p:nvSpPr>
        <p:spPr>
          <a:xfrm>
            <a:off x="6432480" y="4854600"/>
            <a:ext cx="11160" cy="41400"/>
          </a:xfrm>
          <a:custGeom>
            <a:avLst/>
            <a:gdLst>
              <a:gd name="textAreaLeft" fmla="*/ 0 w 11160"/>
              <a:gd name="textAreaRight" fmla="*/ 11520 w 11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7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Freeform 807"/>
          <p:cNvSpPr/>
          <p:nvPr/>
        </p:nvSpPr>
        <p:spPr>
          <a:xfrm>
            <a:off x="6432480" y="4863960"/>
            <a:ext cx="11160" cy="32040"/>
          </a:xfrm>
          <a:custGeom>
            <a:avLst/>
            <a:gdLst>
              <a:gd name="textAreaLeft" fmla="*/ 0 w 11160"/>
              <a:gd name="textAreaRight" fmla="*/ 11520 w 1116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0" y="15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280" bIns="-82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Freeform 808"/>
          <p:cNvSpPr/>
          <p:nvPr/>
        </p:nvSpPr>
        <p:spPr>
          <a:xfrm>
            <a:off x="6421320" y="4863960"/>
            <a:ext cx="11160" cy="22320"/>
          </a:xfrm>
          <a:custGeom>
            <a:avLst/>
            <a:gdLst>
              <a:gd name="textAreaLeft" fmla="*/ 0 w 11160"/>
              <a:gd name="textAreaRight" fmla="*/ 11520 w 11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7" h="15">
                <a:moveTo>
                  <a:pt x="7" y="15"/>
                </a:moveTo>
                <a:lnTo>
                  <a:pt x="0" y="8"/>
                </a:lnTo>
                <a:lnTo>
                  <a:pt x="7" y="0"/>
                </a:lnTo>
                <a:lnTo>
                  <a:pt x="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8000" bIns="-18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Freeform 809"/>
          <p:cNvSpPr/>
          <p:nvPr/>
        </p:nvSpPr>
        <p:spPr>
          <a:xfrm>
            <a:off x="6410160" y="477360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" h="15">
                <a:moveTo>
                  <a:pt x="8" y="7"/>
                </a:moveTo>
                <a:lnTo>
                  <a:pt x="0" y="0"/>
                </a:lnTo>
                <a:lnTo>
                  <a:pt x="0" y="15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Freeform 810"/>
          <p:cNvSpPr/>
          <p:nvPr/>
        </p:nvSpPr>
        <p:spPr>
          <a:xfrm>
            <a:off x="6400800" y="4764240"/>
            <a:ext cx="9360" cy="29880"/>
          </a:xfrm>
          <a:custGeom>
            <a:avLst/>
            <a:gdLst>
              <a:gd name="textAreaLeft" fmla="*/ 0 w 9360"/>
              <a:gd name="textAreaRight" fmla="*/ 9720 w 93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7" y="7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Freeform 811"/>
          <p:cNvSpPr/>
          <p:nvPr/>
        </p:nvSpPr>
        <p:spPr>
          <a:xfrm>
            <a:off x="6400800" y="4764240"/>
            <a:ext cx="9360" cy="39600"/>
          </a:xfrm>
          <a:custGeom>
            <a:avLst/>
            <a:gdLst>
              <a:gd name="textAreaLeft" fmla="*/ 0 w 9360"/>
              <a:gd name="textAreaRight" fmla="*/ 9720 w 9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29">
                <a:moveTo>
                  <a:pt x="7" y="22"/>
                </a:moveTo>
                <a:lnTo>
                  <a:pt x="0" y="0"/>
                </a:lnTo>
                <a:lnTo>
                  <a:pt x="0" y="29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Freeform 812"/>
          <p:cNvSpPr/>
          <p:nvPr/>
        </p:nvSpPr>
        <p:spPr>
          <a:xfrm>
            <a:off x="6389640" y="4764240"/>
            <a:ext cx="11160" cy="39600"/>
          </a:xfrm>
          <a:custGeom>
            <a:avLst/>
            <a:gdLst>
              <a:gd name="textAreaLeft" fmla="*/ 0 w 11160"/>
              <a:gd name="textAreaRight" fmla="*/ 11520 w 11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7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Freeform 813"/>
          <p:cNvSpPr/>
          <p:nvPr/>
        </p:nvSpPr>
        <p:spPr>
          <a:xfrm>
            <a:off x="6389640" y="4773600"/>
            <a:ext cx="11160" cy="30240"/>
          </a:xfrm>
          <a:custGeom>
            <a:avLst/>
            <a:gdLst>
              <a:gd name="textAreaLeft" fmla="*/ 0 w 11160"/>
              <a:gd name="textAreaRight" fmla="*/ 11520 w 11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0" y="15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Freeform 814"/>
          <p:cNvSpPr/>
          <p:nvPr/>
        </p:nvSpPr>
        <p:spPr>
          <a:xfrm>
            <a:off x="6378480" y="477360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5">
                <a:moveTo>
                  <a:pt x="7" y="15"/>
                </a:moveTo>
                <a:lnTo>
                  <a:pt x="0" y="7"/>
                </a:lnTo>
                <a:lnTo>
                  <a:pt x="7" y="0"/>
                </a:lnTo>
                <a:lnTo>
                  <a:pt x="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Freeform 815"/>
          <p:cNvSpPr/>
          <p:nvPr/>
        </p:nvSpPr>
        <p:spPr>
          <a:xfrm>
            <a:off x="6378480" y="4732200"/>
            <a:ext cx="11160" cy="22320"/>
          </a:xfrm>
          <a:custGeom>
            <a:avLst/>
            <a:gdLst>
              <a:gd name="textAreaLeft" fmla="*/ 0 w 11160"/>
              <a:gd name="textAreaRight" fmla="*/ 11520 w 11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7" h="15">
                <a:moveTo>
                  <a:pt x="7" y="8"/>
                </a:moveTo>
                <a:lnTo>
                  <a:pt x="0" y="0"/>
                </a:lnTo>
                <a:lnTo>
                  <a:pt x="0" y="15"/>
                </a:lnTo>
                <a:lnTo>
                  <a:pt x="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8000" bIns="-18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Freeform 816"/>
          <p:cNvSpPr/>
          <p:nvPr/>
        </p:nvSpPr>
        <p:spPr>
          <a:xfrm>
            <a:off x="6367320" y="4722840"/>
            <a:ext cx="11160" cy="31680"/>
          </a:xfrm>
          <a:custGeom>
            <a:avLst/>
            <a:gdLst>
              <a:gd name="textAreaLeft" fmla="*/ 0 w 11160"/>
              <a:gd name="textAreaRight" fmla="*/ 11520 w 11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7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Freeform 817"/>
          <p:cNvSpPr/>
          <p:nvPr/>
        </p:nvSpPr>
        <p:spPr>
          <a:xfrm>
            <a:off x="6367320" y="4722840"/>
            <a:ext cx="11160" cy="41400"/>
          </a:xfrm>
          <a:custGeom>
            <a:avLst/>
            <a:gdLst>
              <a:gd name="textAreaLeft" fmla="*/ 0 w 11160"/>
              <a:gd name="textAreaRight" fmla="*/ 11520 w 11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Freeform 818"/>
          <p:cNvSpPr/>
          <p:nvPr/>
        </p:nvSpPr>
        <p:spPr>
          <a:xfrm>
            <a:off x="6357960" y="4722840"/>
            <a:ext cx="9360" cy="41400"/>
          </a:xfrm>
          <a:custGeom>
            <a:avLst/>
            <a:gdLst>
              <a:gd name="textAreaLeft" fmla="*/ 0 w 9360"/>
              <a:gd name="textAreaRight" fmla="*/ 9720 w 9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Freeform 819"/>
          <p:cNvSpPr/>
          <p:nvPr/>
        </p:nvSpPr>
        <p:spPr>
          <a:xfrm>
            <a:off x="6357960" y="4732200"/>
            <a:ext cx="9360" cy="32040"/>
          </a:xfrm>
          <a:custGeom>
            <a:avLst/>
            <a:gdLst>
              <a:gd name="textAreaLeft" fmla="*/ 0 w 9360"/>
              <a:gd name="textAreaRight" fmla="*/ 9720 w 936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5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280" bIns="-82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Freeform 820"/>
          <p:cNvSpPr/>
          <p:nvPr/>
        </p:nvSpPr>
        <p:spPr>
          <a:xfrm>
            <a:off x="6345360" y="4732200"/>
            <a:ext cx="12600" cy="22320"/>
          </a:xfrm>
          <a:custGeom>
            <a:avLst/>
            <a:gdLst>
              <a:gd name="textAreaLeft" fmla="*/ 0 w 12600"/>
              <a:gd name="textAreaRight" fmla="*/ 12960 w 12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5">
                <a:moveTo>
                  <a:pt x="8" y="15"/>
                </a:moveTo>
                <a:lnTo>
                  <a:pt x="0" y="8"/>
                </a:lnTo>
                <a:lnTo>
                  <a:pt x="8" y="0"/>
                </a:lnTo>
                <a:lnTo>
                  <a:pt x="8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8000" bIns="-18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Freeform 821"/>
          <p:cNvSpPr/>
          <p:nvPr/>
        </p:nvSpPr>
        <p:spPr>
          <a:xfrm>
            <a:off x="6335640" y="5006880"/>
            <a:ext cx="9720" cy="20880"/>
          </a:xfrm>
          <a:custGeom>
            <a:avLst/>
            <a:gdLst>
              <a:gd name="textAreaLeft" fmla="*/ 0 w 9720"/>
              <a:gd name="textAreaRight" fmla="*/ 10080 w 97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440" bIns="-19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Freeform 822"/>
          <p:cNvSpPr/>
          <p:nvPr/>
        </p:nvSpPr>
        <p:spPr>
          <a:xfrm>
            <a:off x="6326280" y="4995720"/>
            <a:ext cx="9360" cy="32040"/>
          </a:xfrm>
          <a:custGeom>
            <a:avLst/>
            <a:gdLst>
              <a:gd name="textAreaLeft" fmla="*/ 0 w 9360"/>
              <a:gd name="textAreaRight" fmla="*/ 9720 w 936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7" y="8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280" bIns="-82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Freeform 823"/>
          <p:cNvSpPr/>
          <p:nvPr/>
        </p:nvSpPr>
        <p:spPr>
          <a:xfrm>
            <a:off x="6326280" y="4995720"/>
            <a:ext cx="9360" cy="41400"/>
          </a:xfrm>
          <a:custGeom>
            <a:avLst/>
            <a:gdLst>
              <a:gd name="textAreaLeft" fmla="*/ 0 w 9360"/>
              <a:gd name="textAreaRight" fmla="*/ 9720 w 9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2"/>
                </a:moveTo>
                <a:lnTo>
                  <a:pt x="0" y="0"/>
                </a:lnTo>
                <a:lnTo>
                  <a:pt x="0" y="29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Freeform 824"/>
          <p:cNvSpPr/>
          <p:nvPr/>
        </p:nvSpPr>
        <p:spPr>
          <a:xfrm>
            <a:off x="6313320" y="4995720"/>
            <a:ext cx="12960" cy="41400"/>
          </a:xfrm>
          <a:custGeom>
            <a:avLst/>
            <a:gdLst>
              <a:gd name="textAreaLeft" fmla="*/ 0 w 12960"/>
              <a:gd name="textAreaRight" fmla="*/ 13320 w 129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8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Freeform 825"/>
          <p:cNvSpPr/>
          <p:nvPr/>
        </p:nvSpPr>
        <p:spPr>
          <a:xfrm>
            <a:off x="6313320" y="5006880"/>
            <a:ext cx="12960" cy="30240"/>
          </a:xfrm>
          <a:custGeom>
            <a:avLst/>
            <a:gdLst>
              <a:gd name="textAreaLeft" fmla="*/ 0 w 12960"/>
              <a:gd name="textAreaRight" fmla="*/ 13320 w 129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1">
                <a:moveTo>
                  <a:pt x="8" y="21"/>
                </a:moveTo>
                <a:lnTo>
                  <a:pt x="0" y="0"/>
                </a:lnTo>
                <a:lnTo>
                  <a:pt x="0" y="14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Freeform 826"/>
          <p:cNvSpPr/>
          <p:nvPr/>
        </p:nvSpPr>
        <p:spPr>
          <a:xfrm>
            <a:off x="6303960" y="5006880"/>
            <a:ext cx="9360" cy="20880"/>
          </a:xfrm>
          <a:custGeom>
            <a:avLst/>
            <a:gdLst>
              <a:gd name="textAreaLeft" fmla="*/ 0 w 9360"/>
              <a:gd name="textAreaRight" fmla="*/ 9720 w 93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7" h="14">
                <a:moveTo>
                  <a:pt x="7" y="14"/>
                </a:moveTo>
                <a:lnTo>
                  <a:pt x="0" y="7"/>
                </a:lnTo>
                <a:lnTo>
                  <a:pt x="7" y="0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440" bIns="-19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Freeform 827"/>
          <p:cNvSpPr/>
          <p:nvPr/>
        </p:nvSpPr>
        <p:spPr>
          <a:xfrm>
            <a:off x="6292800" y="4662360"/>
            <a:ext cx="11160" cy="20880"/>
          </a:xfrm>
          <a:custGeom>
            <a:avLst/>
            <a:gdLst>
              <a:gd name="textAreaLeft" fmla="*/ 0 w 11160"/>
              <a:gd name="textAreaRight" fmla="*/ 11520 w 111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8" h="14">
                <a:moveTo>
                  <a:pt x="8" y="7"/>
                </a:moveTo>
                <a:lnTo>
                  <a:pt x="0" y="0"/>
                </a:lnTo>
                <a:lnTo>
                  <a:pt x="0" y="14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440" bIns="-19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Freeform 828"/>
          <p:cNvSpPr/>
          <p:nvPr/>
        </p:nvSpPr>
        <p:spPr>
          <a:xfrm>
            <a:off x="6281640" y="4651200"/>
            <a:ext cx="11160" cy="32040"/>
          </a:xfrm>
          <a:custGeom>
            <a:avLst/>
            <a:gdLst>
              <a:gd name="textAreaLeft" fmla="*/ 0 w 11160"/>
              <a:gd name="textAreaRight" fmla="*/ 11520 w 1116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7" y="8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280" bIns="-82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Freeform 829"/>
          <p:cNvSpPr/>
          <p:nvPr/>
        </p:nvSpPr>
        <p:spPr>
          <a:xfrm>
            <a:off x="6281640" y="4651200"/>
            <a:ext cx="11160" cy="41400"/>
          </a:xfrm>
          <a:custGeom>
            <a:avLst/>
            <a:gdLst>
              <a:gd name="textAreaLeft" fmla="*/ 0 w 11160"/>
              <a:gd name="textAreaRight" fmla="*/ 11520 w 11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2"/>
                </a:moveTo>
                <a:lnTo>
                  <a:pt x="0" y="0"/>
                </a:lnTo>
                <a:lnTo>
                  <a:pt x="0" y="29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Freeform 830"/>
          <p:cNvSpPr/>
          <p:nvPr/>
        </p:nvSpPr>
        <p:spPr>
          <a:xfrm>
            <a:off x="6270480" y="4651200"/>
            <a:ext cx="11160" cy="41400"/>
          </a:xfrm>
          <a:custGeom>
            <a:avLst/>
            <a:gdLst>
              <a:gd name="textAreaLeft" fmla="*/ 0 w 11160"/>
              <a:gd name="textAreaRight" fmla="*/ 11520 w 11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8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Freeform 831"/>
          <p:cNvSpPr/>
          <p:nvPr/>
        </p:nvSpPr>
        <p:spPr>
          <a:xfrm>
            <a:off x="6270480" y="4662360"/>
            <a:ext cx="11160" cy="30240"/>
          </a:xfrm>
          <a:custGeom>
            <a:avLst/>
            <a:gdLst>
              <a:gd name="textAreaLeft" fmla="*/ 0 w 11160"/>
              <a:gd name="textAreaRight" fmla="*/ 11520 w 11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" h="21">
                <a:moveTo>
                  <a:pt x="8" y="21"/>
                </a:moveTo>
                <a:lnTo>
                  <a:pt x="0" y="0"/>
                </a:lnTo>
                <a:lnTo>
                  <a:pt x="0" y="14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Freeform 832"/>
          <p:cNvSpPr/>
          <p:nvPr/>
        </p:nvSpPr>
        <p:spPr>
          <a:xfrm>
            <a:off x="6261120" y="4662360"/>
            <a:ext cx="9360" cy="20880"/>
          </a:xfrm>
          <a:custGeom>
            <a:avLst/>
            <a:gdLst>
              <a:gd name="textAreaLeft" fmla="*/ 0 w 9360"/>
              <a:gd name="textAreaRight" fmla="*/ 9720 w 93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7" h="14">
                <a:moveTo>
                  <a:pt x="7" y="14"/>
                </a:moveTo>
                <a:lnTo>
                  <a:pt x="0" y="7"/>
                </a:lnTo>
                <a:lnTo>
                  <a:pt x="7" y="0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440" bIns="-19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Freeform 833"/>
          <p:cNvSpPr/>
          <p:nvPr/>
        </p:nvSpPr>
        <p:spPr>
          <a:xfrm>
            <a:off x="6261120" y="4875120"/>
            <a:ext cx="9360" cy="20880"/>
          </a:xfrm>
          <a:custGeom>
            <a:avLst/>
            <a:gdLst>
              <a:gd name="textAreaLeft" fmla="*/ 0 w 9360"/>
              <a:gd name="textAreaRight" fmla="*/ 9720 w 93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440" bIns="-19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Freeform 834"/>
          <p:cNvSpPr/>
          <p:nvPr/>
        </p:nvSpPr>
        <p:spPr>
          <a:xfrm>
            <a:off x="6248520" y="4863960"/>
            <a:ext cx="12600" cy="32040"/>
          </a:xfrm>
          <a:custGeom>
            <a:avLst/>
            <a:gdLst>
              <a:gd name="textAreaLeft" fmla="*/ 0 w 12600"/>
              <a:gd name="textAreaRight" fmla="*/ 12960 w 126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8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280" bIns="-82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Freeform 835"/>
          <p:cNvSpPr/>
          <p:nvPr/>
        </p:nvSpPr>
        <p:spPr>
          <a:xfrm>
            <a:off x="6248520" y="4863960"/>
            <a:ext cx="12600" cy="41400"/>
          </a:xfrm>
          <a:custGeom>
            <a:avLst/>
            <a:gdLst>
              <a:gd name="textAreaLeft" fmla="*/ 0 w 12600"/>
              <a:gd name="textAreaRight" fmla="*/ 12960 w 126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Freeform 836"/>
          <p:cNvSpPr/>
          <p:nvPr/>
        </p:nvSpPr>
        <p:spPr>
          <a:xfrm>
            <a:off x="6238800" y="4863960"/>
            <a:ext cx="9720" cy="41400"/>
          </a:xfrm>
          <a:custGeom>
            <a:avLst/>
            <a:gdLst>
              <a:gd name="textAreaLeft" fmla="*/ 0 w 9720"/>
              <a:gd name="textAreaRight" fmla="*/ 10080 w 97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8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Freeform 837"/>
          <p:cNvSpPr/>
          <p:nvPr/>
        </p:nvSpPr>
        <p:spPr>
          <a:xfrm>
            <a:off x="6238800" y="4875120"/>
            <a:ext cx="9720" cy="30240"/>
          </a:xfrm>
          <a:custGeom>
            <a:avLst/>
            <a:gdLst>
              <a:gd name="textAreaLeft" fmla="*/ 0 w 9720"/>
              <a:gd name="textAreaRight" fmla="*/ 10080 w 9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7" h="21">
                <a:moveTo>
                  <a:pt x="7" y="21"/>
                </a:moveTo>
                <a:lnTo>
                  <a:pt x="0" y="0"/>
                </a:lnTo>
                <a:lnTo>
                  <a:pt x="0" y="14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Freeform 838"/>
          <p:cNvSpPr/>
          <p:nvPr/>
        </p:nvSpPr>
        <p:spPr>
          <a:xfrm>
            <a:off x="6227640" y="4875120"/>
            <a:ext cx="11160" cy="20880"/>
          </a:xfrm>
          <a:custGeom>
            <a:avLst/>
            <a:gdLst>
              <a:gd name="textAreaLeft" fmla="*/ 0 w 11160"/>
              <a:gd name="textAreaRight" fmla="*/ 11520 w 111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8" h="14">
                <a:moveTo>
                  <a:pt x="8" y="14"/>
                </a:moveTo>
                <a:lnTo>
                  <a:pt x="0" y="7"/>
                </a:lnTo>
                <a:lnTo>
                  <a:pt x="8" y="0"/>
                </a:lnTo>
                <a:lnTo>
                  <a:pt x="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440" bIns="-19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Freeform 839"/>
          <p:cNvSpPr/>
          <p:nvPr/>
        </p:nvSpPr>
        <p:spPr>
          <a:xfrm>
            <a:off x="6216480" y="469260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5">
                <a:moveTo>
                  <a:pt x="7" y="8"/>
                </a:moveTo>
                <a:lnTo>
                  <a:pt x="0" y="0"/>
                </a:lnTo>
                <a:lnTo>
                  <a:pt x="0" y="15"/>
                </a:lnTo>
                <a:lnTo>
                  <a:pt x="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Freeform 840"/>
          <p:cNvSpPr/>
          <p:nvPr/>
        </p:nvSpPr>
        <p:spPr>
          <a:xfrm>
            <a:off x="6207120" y="4683240"/>
            <a:ext cx="9360" cy="29880"/>
          </a:xfrm>
          <a:custGeom>
            <a:avLst/>
            <a:gdLst>
              <a:gd name="textAreaLeft" fmla="*/ 0 w 9360"/>
              <a:gd name="textAreaRight" fmla="*/ 9720 w 93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7" y="7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Freeform 841"/>
          <p:cNvSpPr/>
          <p:nvPr/>
        </p:nvSpPr>
        <p:spPr>
          <a:xfrm>
            <a:off x="6207120" y="4683240"/>
            <a:ext cx="9360" cy="39600"/>
          </a:xfrm>
          <a:custGeom>
            <a:avLst/>
            <a:gdLst>
              <a:gd name="textAreaLeft" fmla="*/ 0 w 9360"/>
              <a:gd name="textAreaRight" fmla="*/ 9720 w 9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" h="29">
                <a:moveTo>
                  <a:pt x="7" y="22"/>
                </a:moveTo>
                <a:lnTo>
                  <a:pt x="0" y="0"/>
                </a:lnTo>
                <a:lnTo>
                  <a:pt x="0" y="29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Freeform 842"/>
          <p:cNvSpPr/>
          <p:nvPr/>
        </p:nvSpPr>
        <p:spPr>
          <a:xfrm>
            <a:off x="6195960" y="4683240"/>
            <a:ext cx="11160" cy="39600"/>
          </a:xfrm>
          <a:custGeom>
            <a:avLst/>
            <a:gdLst>
              <a:gd name="textAreaLeft" fmla="*/ 0 w 11160"/>
              <a:gd name="textAreaRight" fmla="*/ 11520 w 11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7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720" bIns="-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01" name="Group 1044"/>
          <p:cNvGrpSpPr/>
          <p:nvPr/>
        </p:nvGrpSpPr>
        <p:grpSpPr>
          <a:xfrm>
            <a:off x="3786120" y="2879640"/>
            <a:ext cx="2420640" cy="2138040"/>
            <a:chOff x="3786120" y="2879640"/>
            <a:chExt cx="2420640" cy="2138040"/>
          </a:xfrm>
        </p:grpSpPr>
        <p:sp>
          <p:nvSpPr>
            <p:cNvPr id="502" name="Freeform 844"/>
            <p:cNvSpPr/>
            <p:nvPr/>
          </p:nvSpPr>
          <p:spPr>
            <a:xfrm>
              <a:off x="6195600" y="469296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3" name="Freeform 845"/>
            <p:cNvSpPr/>
            <p:nvPr/>
          </p:nvSpPr>
          <p:spPr>
            <a:xfrm>
              <a:off x="6185520" y="469296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4" name="Freeform 846"/>
            <p:cNvSpPr/>
            <p:nvPr/>
          </p:nvSpPr>
          <p:spPr>
            <a:xfrm>
              <a:off x="6185520" y="488592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5" name="Freeform 847"/>
            <p:cNvSpPr/>
            <p:nvPr/>
          </p:nvSpPr>
          <p:spPr>
            <a:xfrm>
              <a:off x="6174000" y="4876200"/>
              <a:ext cx="11160" cy="29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6" name="Freeform 848"/>
            <p:cNvSpPr/>
            <p:nvPr/>
          </p:nvSpPr>
          <p:spPr>
            <a:xfrm>
              <a:off x="6174000" y="487620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7" name="Freeform 849"/>
            <p:cNvSpPr/>
            <p:nvPr/>
          </p:nvSpPr>
          <p:spPr>
            <a:xfrm>
              <a:off x="6163920" y="487620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8" name="Freeform 850"/>
            <p:cNvSpPr/>
            <p:nvPr/>
          </p:nvSpPr>
          <p:spPr>
            <a:xfrm>
              <a:off x="6163920" y="488592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9" name="Freeform 851"/>
            <p:cNvSpPr/>
            <p:nvPr/>
          </p:nvSpPr>
          <p:spPr>
            <a:xfrm>
              <a:off x="6152400" y="488592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0" name="Freeform 852"/>
            <p:cNvSpPr/>
            <p:nvPr/>
          </p:nvSpPr>
          <p:spPr>
            <a:xfrm>
              <a:off x="6142320" y="486504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1" name="Freeform 853"/>
            <p:cNvSpPr/>
            <p:nvPr/>
          </p:nvSpPr>
          <p:spPr>
            <a:xfrm>
              <a:off x="6130800" y="485532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2" name="Freeform 854"/>
            <p:cNvSpPr/>
            <p:nvPr/>
          </p:nvSpPr>
          <p:spPr>
            <a:xfrm>
              <a:off x="6130800" y="485532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3" name="Freeform 855"/>
            <p:cNvSpPr/>
            <p:nvPr/>
          </p:nvSpPr>
          <p:spPr>
            <a:xfrm>
              <a:off x="6120720" y="485532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4" name="Freeform 856"/>
            <p:cNvSpPr/>
            <p:nvPr/>
          </p:nvSpPr>
          <p:spPr>
            <a:xfrm>
              <a:off x="6120720" y="486504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5" name="Freeform 857"/>
            <p:cNvSpPr/>
            <p:nvPr/>
          </p:nvSpPr>
          <p:spPr>
            <a:xfrm>
              <a:off x="6108840" y="486504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6" name="Freeform 858"/>
            <p:cNvSpPr/>
            <p:nvPr/>
          </p:nvSpPr>
          <p:spPr>
            <a:xfrm>
              <a:off x="6108840" y="4500720"/>
              <a:ext cx="11520" cy="194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7" name="Freeform 859"/>
            <p:cNvSpPr/>
            <p:nvPr/>
          </p:nvSpPr>
          <p:spPr>
            <a:xfrm>
              <a:off x="6098760" y="4491000"/>
              <a:ext cx="10080" cy="291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8" name="Freeform 860"/>
            <p:cNvSpPr/>
            <p:nvPr/>
          </p:nvSpPr>
          <p:spPr>
            <a:xfrm>
              <a:off x="6098760" y="449100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9" name="Freeform 861"/>
            <p:cNvSpPr/>
            <p:nvPr/>
          </p:nvSpPr>
          <p:spPr>
            <a:xfrm>
              <a:off x="6087240" y="449100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0" name="Freeform 862"/>
            <p:cNvSpPr/>
            <p:nvPr/>
          </p:nvSpPr>
          <p:spPr>
            <a:xfrm>
              <a:off x="6087240" y="450072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1" name="Freeform 863"/>
            <p:cNvSpPr/>
            <p:nvPr/>
          </p:nvSpPr>
          <p:spPr>
            <a:xfrm>
              <a:off x="6077160" y="450072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2" name="Freeform 864"/>
            <p:cNvSpPr/>
            <p:nvPr/>
          </p:nvSpPr>
          <p:spPr>
            <a:xfrm>
              <a:off x="6067080" y="472356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3" name="Freeform 865"/>
            <p:cNvSpPr/>
            <p:nvPr/>
          </p:nvSpPr>
          <p:spPr>
            <a:xfrm>
              <a:off x="6055560" y="471384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4" name="Freeform 866"/>
            <p:cNvSpPr/>
            <p:nvPr/>
          </p:nvSpPr>
          <p:spPr>
            <a:xfrm>
              <a:off x="6055560" y="471384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5" name="Freeform 867"/>
            <p:cNvSpPr/>
            <p:nvPr/>
          </p:nvSpPr>
          <p:spPr>
            <a:xfrm>
              <a:off x="6045480" y="471384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6" name="Freeform 868"/>
            <p:cNvSpPr/>
            <p:nvPr/>
          </p:nvSpPr>
          <p:spPr>
            <a:xfrm>
              <a:off x="6045480" y="47235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7" name="Freeform 869"/>
            <p:cNvSpPr/>
            <p:nvPr/>
          </p:nvSpPr>
          <p:spPr>
            <a:xfrm>
              <a:off x="6033960" y="472356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8" name="Freeform 870"/>
            <p:cNvSpPr/>
            <p:nvPr/>
          </p:nvSpPr>
          <p:spPr>
            <a:xfrm>
              <a:off x="6033960" y="477396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9" name="Freeform 871"/>
            <p:cNvSpPr/>
            <p:nvPr/>
          </p:nvSpPr>
          <p:spPr>
            <a:xfrm>
              <a:off x="6023880" y="476388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0" name="Freeform 872"/>
            <p:cNvSpPr/>
            <p:nvPr/>
          </p:nvSpPr>
          <p:spPr>
            <a:xfrm>
              <a:off x="6023880" y="476388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1" name="Freeform 873"/>
            <p:cNvSpPr/>
            <p:nvPr/>
          </p:nvSpPr>
          <p:spPr>
            <a:xfrm>
              <a:off x="6012360" y="476388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2" name="Freeform 874"/>
            <p:cNvSpPr/>
            <p:nvPr/>
          </p:nvSpPr>
          <p:spPr>
            <a:xfrm>
              <a:off x="6012360" y="477396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3" name="Freeform 875"/>
            <p:cNvSpPr/>
            <p:nvPr/>
          </p:nvSpPr>
          <p:spPr>
            <a:xfrm>
              <a:off x="6002280" y="477396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4" name="Freeform 876"/>
            <p:cNvSpPr/>
            <p:nvPr/>
          </p:nvSpPr>
          <p:spPr>
            <a:xfrm>
              <a:off x="5990760" y="466344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5" name="Freeform 877"/>
            <p:cNvSpPr/>
            <p:nvPr/>
          </p:nvSpPr>
          <p:spPr>
            <a:xfrm>
              <a:off x="5980680" y="465228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6" name="Freeform 878"/>
            <p:cNvSpPr/>
            <p:nvPr/>
          </p:nvSpPr>
          <p:spPr>
            <a:xfrm>
              <a:off x="5980680" y="465228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7" name="Freeform 879"/>
            <p:cNvSpPr/>
            <p:nvPr/>
          </p:nvSpPr>
          <p:spPr>
            <a:xfrm>
              <a:off x="5969160" y="465228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8" name="Freeform 880"/>
            <p:cNvSpPr/>
            <p:nvPr/>
          </p:nvSpPr>
          <p:spPr>
            <a:xfrm>
              <a:off x="5969160" y="4663440"/>
              <a:ext cx="11160" cy="29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9" name="Freeform 881"/>
            <p:cNvSpPr/>
            <p:nvPr/>
          </p:nvSpPr>
          <p:spPr>
            <a:xfrm>
              <a:off x="5959080" y="466344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0" name="Freeform 882"/>
            <p:cNvSpPr/>
            <p:nvPr/>
          </p:nvSpPr>
          <p:spPr>
            <a:xfrm>
              <a:off x="5959080" y="477396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1" name="Freeform 883"/>
            <p:cNvSpPr/>
            <p:nvPr/>
          </p:nvSpPr>
          <p:spPr>
            <a:xfrm>
              <a:off x="5948640" y="476388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2" name="Freeform 884"/>
            <p:cNvSpPr/>
            <p:nvPr/>
          </p:nvSpPr>
          <p:spPr>
            <a:xfrm>
              <a:off x="5948640" y="476388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3" name="Freeform 885"/>
            <p:cNvSpPr/>
            <p:nvPr/>
          </p:nvSpPr>
          <p:spPr>
            <a:xfrm>
              <a:off x="5937480" y="476388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4" name="Freeform 886"/>
            <p:cNvSpPr/>
            <p:nvPr/>
          </p:nvSpPr>
          <p:spPr>
            <a:xfrm>
              <a:off x="5937480" y="477396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5" name="Freeform 887"/>
            <p:cNvSpPr/>
            <p:nvPr/>
          </p:nvSpPr>
          <p:spPr>
            <a:xfrm>
              <a:off x="5927040" y="477396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6" name="Freeform 888"/>
            <p:cNvSpPr/>
            <p:nvPr/>
          </p:nvSpPr>
          <p:spPr>
            <a:xfrm>
              <a:off x="5915520" y="4713840"/>
              <a:ext cx="11520" cy="190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7" name="Freeform 889"/>
            <p:cNvSpPr/>
            <p:nvPr/>
          </p:nvSpPr>
          <p:spPr>
            <a:xfrm>
              <a:off x="5905440" y="4704120"/>
              <a:ext cx="9720" cy="29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8" name="Freeform 890"/>
            <p:cNvSpPr/>
            <p:nvPr/>
          </p:nvSpPr>
          <p:spPr>
            <a:xfrm>
              <a:off x="5905440" y="4704120"/>
              <a:ext cx="9720" cy="403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9" name="Freeform 891"/>
            <p:cNvSpPr/>
            <p:nvPr/>
          </p:nvSpPr>
          <p:spPr>
            <a:xfrm>
              <a:off x="5893920" y="4704120"/>
              <a:ext cx="11520" cy="403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0" name="Freeform 892"/>
            <p:cNvSpPr/>
            <p:nvPr/>
          </p:nvSpPr>
          <p:spPr>
            <a:xfrm>
              <a:off x="5893920" y="4713840"/>
              <a:ext cx="11520" cy="30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1" name="Freeform 893"/>
            <p:cNvSpPr/>
            <p:nvPr/>
          </p:nvSpPr>
          <p:spPr>
            <a:xfrm>
              <a:off x="5883840" y="4713840"/>
              <a:ext cx="10080" cy="19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2" name="Freeform 894"/>
            <p:cNvSpPr/>
            <p:nvPr/>
          </p:nvSpPr>
          <p:spPr>
            <a:xfrm>
              <a:off x="5872320" y="461268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3" name="Freeform 895"/>
            <p:cNvSpPr/>
            <p:nvPr/>
          </p:nvSpPr>
          <p:spPr>
            <a:xfrm>
              <a:off x="5862240" y="460152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4" name="Freeform 896"/>
            <p:cNvSpPr/>
            <p:nvPr/>
          </p:nvSpPr>
          <p:spPr>
            <a:xfrm>
              <a:off x="5862240" y="460152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5" name="Freeform 897"/>
            <p:cNvSpPr/>
            <p:nvPr/>
          </p:nvSpPr>
          <p:spPr>
            <a:xfrm>
              <a:off x="5850720" y="460152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6" name="Freeform 898"/>
            <p:cNvSpPr/>
            <p:nvPr/>
          </p:nvSpPr>
          <p:spPr>
            <a:xfrm>
              <a:off x="5850720" y="4612680"/>
              <a:ext cx="11160" cy="29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7" name="Freeform 899"/>
            <p:cNvSpPr/>
            <p:nvPr/>
          </p:nvSpPr>
          <p:spPr>
            <a:xfrm>
              <a:off x="5840640" y="461268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8" name="Freeform 900"/>
            <p:cNvSpPr/>
            <p:nvPr/>
          </p:nvSpPr>
          <p:spPr>
            <a:xfrm>
              <a:off x="5840640" y="488592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9" name="Freeform 901"/>
            <p:cNvSpPr/>
            <p:nvPr/>
          </p:nvSpPr>
          <p:spPr>
            <a:xfrm>
              <a:off x="5830200" y="487620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0" name="Freeform 902"/>
            <p:cNvSpPr/>
            <p:nvPr/>
          </p:nvSpPr>
          <p:spPr>
            <a:xfrm>
              <a:off x="5830200" y="487620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1" name="Freeform 903"/>
            <p:cNvSpPr/>
            <p:nvPr/>
          </p:nvSpPr>
          <p:spPr>
            <a:xfrm>
              <a:off x="5819040" y="487620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2" name="Freeform 904"/>
            <p:cNvSpPr/>
            <p:nvPr/>
          </p:nvSpPr>
          <p:spPr>
            <a:xfrm>
              <a:off x="5819040" y="488592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3" name="Freeform 905"/>
            <p:cNvSpPr/>
            <p:nvPr/>
          </p:nvSpPr>
          <p:spPr>
            <a:xfrm>
              <a:off x="5808600" y="488592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4" name="Freeform 906"/>
            <p:cNvSpPr/>
            <p:nvPr/>
          </p:nvSpPr>
          <p:spPr>
            <a:xfrm>
              <a:off x="5797440" y="467316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5" name="Freeform 907"/>
            <p:cNvSpPr/>
            <p:nvPr/>
          </p:nvSpPr>
          <p:spPr>
            <a:xfrm>
              <a:off x="5787000" y="466344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6" name="Freeform 908"/>
            <p:cNvSpPr/>
            <p:nvPr/>
          </p:nvSpPr>
          <p:spPr>
            <a:xfrm>
              <a:off x="5787000" y="466344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7" name="Freeform 909"/>
            <p:cNvSpPr/>
            <p:nvPr/>
          </p:nvSpPr>
          <p:spPr>
            <a:xfrm>
              <a:off x="5775840" y="466344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8" name="Freeform 910"/>
            <p:cNvSpPr/>
            <p:nvPr/>
          </p:nvSpPr>
          <p:spPr>
            <a:xfrm>
              <a:off x="5775840" y="467316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9" name="Freeform 911"/>
            <p:cNvSpPr/>
            <p:nvPr/>
          </p:nvSpPr>
          <p:spPr>
            <a:xfrm>
              <a:off x="5765400" y="467316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0" name="Freeform 912"/>
            <p:cNvSpPr/>
            <p:nvPr/>
          </p:nvSpPr>
          <p:spPr>
            <a:xfrm>
              <a:off x="5765400" y="498708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1" name="Freeform 913"/>
            <p:cNvSpPr/>
            <p:nvPr/>
          </p:nvSpPr>
          <p:spPr>
            <a:xfrm>
              <a:off x="5754240" y="497736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2" name="Freeform 914"/>
            <p:cNvSpPr/>
            <p:nvPr/>
          </p:nvSpPr>
          <p:spPr>
            <a:xfrm>
              <a:off x="5754240" y="497736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3" name="Freeform 915"/>
            <p:cNvSpPr/>
            <p:nvPr/>
          </p:nvSpPr>
          <p:spPr>
            <a:xfrm>
              <a:off x="5743800" y="497736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4" name="Freeform 916"/>
            <p:cNvSpPr/>
            <p:nvPr/>
          </p:nvSpPr>
          <p:spPr>
            <a:xfrm>
              <a:off x="5743800" y="498708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5" name="Freeform 917"/>
            <p:cNvSpPr/>
            <p:nvPr/>
          </p:nvSpPr>
          <p:spPr>
            <a:xfrm>
              <a:off x="5732280" y="498708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6" name="Freeform 918"/>
            <p:cNvSpPr/>
            <p:nvPr/>
          </p:nvSpPr>
          <p:spPr>
            <a:xfrm>
              <a:off x="5722200" y="4946400"/>
              <a:ext cx="9720" cy="208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7" name="Freeform 919"/>
            <p:cNvSpPr/>
            <p:nvPr/>
          </p:nvSpPr>
          <p:spPr>
            <a:xfrm>
              <a:off x="5712120" y="493668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8" name="Freeform 920"/>
            <p:cNvSpPr/>
            <p:nvPr/>
          </p:nvSpPr>
          <p:spPr>
            <a:xfrm>
              <a:off x="5712120" y="493668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9" name="Freeform 921"/>
            <p:cNvSpPr/>
            <p:nvPr/>
          </p:nvSpPr>
          <p:spPr>
            <a:xfrm>
              <a:off x="5700600" y="4936680"/>
              <a:ext cx="11520" cy="403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0" name="Freeform 922"/>
            <p:cNvSpPr/>
            <p:nvPr/>
          </p:nvSpPr>
          <p:spPr>
            <a:xfrm>
              <a:off x="5700600" y="4946400"/>
              <a:ext cx="11520" cy="30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1" name="Freeform 923"/>
            <p:cNvSpPr/>
            <p:nvPr/>
          </p:nvSpPr>
          <p:spPr>
            <a:xfrm>
              <a:off x="5690520" y="4946400"/>
              <a:ext cx="9720" cy="208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2" name="Freeform 924"/>
            <p:cNvSpPr/>
            <p:nvPr/>
          </p:nvSpPr>
          <p:spPr>
            <a:xfrm>
              <a:off x="5690520" y="4916880"/>
              <a:ext cx="9720" cy="19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3" name="Freeform 925"/>
            <p:cNvSpPr/>
            <p:nvPr/>
          </p:nvSpPr>
          <p:spPr>
            <a:xfrm>
              <a:off x="5679000" y="4905720"/>
              <a:ext cx="11520" cy="30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4" name="Freeform 926"/>
            <p:cNvSpPr/>
            <p:nvPr/>
          </p:nvSpPr>
          <p:spPr>
            <a:xfrm>
              <a:off x="5679000" y="4905720"/>
              <a:ext cx="11520" cy="403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5" name="Freeform 927"/>
            <p:cNvSpPr/>
            <p:nvPr/>
          </p:nvSpPr>
          <p:spPr>
            <a:xfrm>
              <a:off x="5668560" y="490572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6" name="Freeform 928"/>
            <p:cNvSpPr/>
            <p:nvPr/>
          </p:nvSpPr>
          <p:spPr>
            <a:xfrm>
              <a:off x="5668560" y="491688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7" name="Freeform 929"/>
            <p:cNvSpPr/>
            <p:nvPr/>
          </p:nvSpPr>
          <p:spPr>
            <a:xfrm>
              <a:off x="5657400" y="491688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8" name="Freeform 930"/>
            <p:cNvSpPr/>
            <p:nvPr/>
          </p:nvSpPr>
          <p:spPr>
            <a:xfrm>
              <a:off x="5646960" y="489600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9" name="Freeform 931"/>
            <p:cNvSpPr/>
            <p:nvPr/>
          </p:nvSpPr>
          <p:spPr>
            <a:xfrm>
              <a:off x="5635800" y="488592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0" name="Freeform 932"/>
            <p:cNvSpPr/>
            <p:nvPr/>
          </p:nvSpPr>
          <p:spPr>
            <a:xfrm>
              <a:off x="5635800" y="488592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1" name="Freeform 933"/>
            <p:cNvSpPr/>
            <p:nvPr/>
          </p:nvSpPr>
          <p:spPr>
            <a:xfrm>
              <a:off x="5625360" y="488592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2" name="Freeform 934"/>
            <p:cNvSpPr/>
            <p:nvPr/>
          </p:nvSpPr>
          <p:spPr>
            <a:xfrm>
              <a:off x="5625360" y="489600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3" name="Freeform 935"/>
            <p:cNvSpPr/>
            <p:nvPr/>
          </p:nvSpPr>
          <p:spPr>
            <a:xfrm>
              <a:off x="5614200" y="489600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4" name="Freeform 936"/>
            <p:cNvSpPr/>
            <p:nvPr/>
          </p:nvSpPr>
          <p:spPr>
            <a:xfrm>
              <a:off x="5614200" y="496728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5" name="Freeform 937"/>
            <p:cNvSpPr/>
            <p:nvPr/>
          </p:nvSpPr>
          <p:spPr>
            <a:xfrm>
              <a:off x="5603760" y="495612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6" name="Freeform 938"/>
            <p:cNvSpPr/>
            <p:nvPr/>
          </p:nvSpPr>
          <p:spPr>
            <a:xfrm>
              <a:off x="5603760" y="495612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7" name="Freeform 939"/>
            <p:cNvSpPr/>
            <p:nvPr/>
          </p:nvSpPr>
          <p:spPr>
            <a:xfrm>
              <a:off x="5593680" y="495612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8" name="Freeform 940"/>
            <p:cNvSpPr/>
            <p:nvPr/>
          </p:nvSpPr>
          <p:spPr>
            <a:xfrm>
              <a:off x="5593680" y="4967280"/>
              <a:ext cx="10080" cy="291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9" name="Freeform 941"/>
            <p:cNvSpPr/>
            <p:nvPr/>
          </p:nvSpPr>
          <p:spPr>
            <a:xfrm>
              <a:off x="5582160" y="496728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0" name="Freeform 942"/>
            <p:cNvSpPr/>
            <p:nvPr/>
          </p:nvSpPr>
          <p:spPr>
            <a:xfrm>
              <a:off x="5572080" y="495612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1" name="Freeform 943"/>
            <p:cNvSpPr/>
            <p:nvPr/>
          </p:nvSpPr>
          <p:spPr>
            <a:xfrm>
              <a:off x="5560560" y="494640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2" name="Freeform 944"/>
            <p:cNvSpPr/>
            <p:nvPr/>
          </p:nvSpPr>
          <p:spPr>
            <a:xfrm>
              <a:off x="5560560" y="494640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3" name="Freeform 945"/>
            <p:cNvSpPr/>
            <p:nvPr/>
          </p:nvSpPr>
          <p:spPr>
            <a:xfrm>
              <a:off x="5550480" y="494640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4" name="Freeform 946"/>
            <p:cNvSpPr/>
            <p:nvPr/>
          </p:nvSpPr>
          <p:spPr>
            <a:xfrm>
              <a:off x="5550480" y="495612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5" name="Freeform 947"/>
            <p:cNvSpPr/>
            <p:nvPr/>
          </p:nvSpPr>
          <p:spPr>
            <a:xfrm>
              <a:off x="5538960" y="495612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6" name="Freeform 948"/>
            <p:cNvSpPr/>
            <p:nvPr/>
          </p:nvSpPr>
          <p:spPr>
            <a:xfrm>
              <a:off x="5538960" y="492660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7" name="Freeform 949"/>
            <p:cNvSpPr/>
            <p:nvPr/>
          </p:nvSpPr>
          <p:spPr>
            <a:xfrm>
              <a:off x="5528880" y="491688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8" name="Freeform 950"/>
            <p:cNvSpPr/>
            <p:nvPr/>
          </p:nvSpPr>
          <p:spPr>
            <a:xfrm>
              <a:off x="5528880" y="4916880"/>
              <a:ext cx="10080" cy="392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28">
                  <a:moveTo>
                    <a:pt x="7" y="21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9" name="Freeform 951"/>
            <p:cNvSpPr/>
            <p:nvPr/>
          </p:nvSpPr>
          <p:spPr>
            <a:xfrm>
              <a:off x="5517360" y="4916880"/>
              <a:ext cx="11520" cy="392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28">
                  <a:moveTo>
                    <a:pt x="8" y="28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0" name="Freeform 952"/>
            <p:cNvSpPr/>
            <p:nvPr/>
          </p:nvSpPr>
          <p:spPr>
            <a:xfrm>
              <a:off x="5517360" y="4926600"/>
              <a:ext cx="11520" cy="295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1" name="Freeform 953"/>
            <p:cNvSpPr/>
            <p:nvPr/>
          </p:nvSpPr>
          <p:spPr>
            <a:xfrm>
              <a:off x="5507280" y="4926600"/>
              <a:ext cx="9720" cy="19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2" name="Freeform 954"/>
            <p:cNvSpPr/>
            <p:nvPr/>
          </p:nvSpPr>
          <p:spPr>
            <a:xfrm>
              <a:off x="5495760" y="4835520"/>
              <a:ext cx="11520" cy="194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3" name="Freeform 955"/>
            <p:cNvSpPr/>
            <p:nvPr/>
          </p:nvSpPr>
          <p:spPr>
            <a:xfrm>
              <a:off x="5485320" y="48243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4" name="Freeform 956"/>
            <p:cNvSpPr/>
            <p:nvPr/>
          </p:nvSpPr>
          <p:spPr>
            <a:xfrm>
              <a:off x="5485320" y="482436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5" name="Freeform 957"/>
            <p:cNvSpPr/>
            <p:nvPr/>
          </p:nvSpPr>
          <p:spPr>
            <a:xfrm>
              <a:off x="5474160" y="482436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6" name="Freeform 958"/>
            <p:cNvSpPr/>
            <p:nvPr/>
          </p:nvSpPr>
          <p:spPr>
            <a:xfrm>
              <a:off x="5474160" y="4835520"/>
              <a:ext cx="11160" cy="29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7" name="Freeform 959"/>
            <p:cNvSpPr/>
            <p:nvPr/>
          </p:nvSpPr>
          <p:spPr>
            <a:xfrm>
              <a:off x="5463720" y="483552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8" name="Freeform 960"/>
            <p:cNvSpPr/>
            <p:nvPr/>
          </p:nvSpPr>
          <p:spPr>
            <a:xfrm>
              <a:off x="5453640" y="4977360"/>
              <a:ext cx="10080" cy="19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9" name="Freeform 961"/>
            <p:cNvSpPr/>
            <p:nvPr/>
          </p:nvSpPr>
          <p:spPr>
            <a:xfrm>
              <a:off x="5442120" y="4967280"/>
              <a:ext cx="11160" cy="29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0" name="Freeform 962"/>
            <p:cNvSpPr/>
            <p:nvPr/>
          </p:nvSpPr>
          <p:spPr>
            <a:xfrm>
              <a:off x="5442120" y="496728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1" name="Freeform 963"/>
            <p:cNvSpPr/>
            <p:nvPr/>
          </p:nvSpPr>
          <p:spPr>
            <a:xfrm>
              <a:off x="5432040" y="496728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2" name="Freeform 964"/>
            <p:cNvSpPr/>
            <p:nvPr/>
          </p:nvSpPr>
          <p:spPr>
            <a:xfrm>
              <a:off x="5432040" y="49773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3" name="Freeform 965"/>
            <p:cNvSpPr/>
            <p:nvPr/>
          </p:nvSpPr>
          <p:spPr>
            <a:xfrm>
              <a:off x="5420520" y="4977360"/>
              <a:ext cx="11160" cy="19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4" name="Freeform 966"/>
            <p:cNvSpPr/>
            <p:nvPr/>
          </p:nvSpPr>
          <p:spPr>
            <a:xfrm>
              <a:off x="4280760" y="355788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5" name="Freeform 967"/>
            <p:cNvSpPr/>
            <p:nvPr/>
          </p:nvSpPr>
          <p:spPr>
            <a:xfrm>
              <a:off x="4269240" y="354816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6" name="Freeform 968"/>
            <p:cNvSpPr/>
            <p:nvPr/>
          </p:nvSpPr>
          <p:spPr>
            <a:xfrm>
              <a:off x="4269240" y="354816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7" name="Freeform 969"/>
            <p:cNvSpPr/>
            <p:nvPr/>
          </p:nvSpPr>
          <p:spPr>
            <a:xfrm>
              <a:off x="4259160" y="354816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8" name="Freeform 970"/>
            <p:cNvSpPr/>
            <p:nvPr/>
          </p:nvSpPr>
          <p:spPr>
            <a:xfrm>
              <a:off x="4259160" y="355788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9" name="Freeform 971"/>
            <p:cNvSpPr/>
            <p:nvPr/>
          </p:nvSpPr>
          <p:spPr>
            <a:xfrm>
              <a:off x="4249080" y="355788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0" name="Freeform 972"/>
            <p:cNvSpPr/>
            <p:nvPr/>
          </p:nvSpPr>
          <p:spPr>
            <a:xfrm>
              <a:off x="4237560" y="322308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1" name="Freeform 973"/>
            <p:cNvSpPr/>
            <p:nvPr/>
          </p:nvSpPr>
          <p:spPr>
            <a:xfrm>
              <a:off x="4227480" y="321300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2" name="Freeform 974"/>
            <p:cNvSpPr/>
            <p:nvPr/>
          </p:nvSpPr>
          <p:spPr>
            <a:xfrm>
              <a:off x="4227480" y="321300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3" name="Freeform 975"/>
            <p:cNvSpPr/>
            <p:nvPr/>
          </p:nvSpPr>
          <p:spPr>
            <a:xfrm>
              <a:off x="4215960" y="321300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4" name="Freeform 976"/>
            <p:cNvSpPr/>
            <p:nvPr/>
          </p:nvSpPr>
          <p:spPr>
            <a:xfrm>
              <a:off x="4215960" y="322308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5" name="Freeform 977"/>
            <p:cNvSpPr/>
            <p:nvPr/>
          </p:nvSpPr>
          <p:spPr>
            <a:xfrm>
              <a:off x="4205880" y="322308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6" name="Freeform 978"/>
            <p:cNvSpPr/>
            <p:nvPr/>
          </p:nvSpPr>
          <p:spPr>
            <a:xfrm>
              <a:off x="4194360" y="302112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7" name="Freeform 979"/>
            <p:cNvSpPr/>
            <p:nvPr/>
          </p:nvSpPr>
          <p:spPr>
            <a:xfrm>
              <a:off x="4184280" y="301140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8" name="Freeform 980"/>
            <p:cNvSpPr/>
            <p:nvPr/>
          </p:nvSpPr>
          <p:spPr>
            <a:xfrm>
              <a:off x="4184280" y="301140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9" name="Freeform 981"/>
            <p:cNvSpPr/>
            <p:nvPr/>
          </p:nvSpPr>
          <p:spPr>
            <a:xfrm>
              <a:off x="4172760" y="301140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0" name="Freeform 982"/>
            <p:cNvSpPr/>
            <p:nvPr/>
          </p:nvSpPr>
          <p:spPr>
            <a:xfrm>
              <a:off x="4172760" y="302112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1" name="Freeform 983"/>
            <p:cNvSpPr/>
            <p:nvPr/>
          </p:nvSpPr>
          <p:spPr>
            <a:xfrm>
              <a:off x="4162680" y="302112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2" name="Freeform 984"/>
            <p:cNvSpPr/>
            <p:nvPr/>
          </p:nvSpPr>
          <p:spPr>
            <a:xfrm>
              <a:off x="4162680" y="288936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3" name="Freeform 985"/>
            <p:cNvSpPr/>
            <p:nvPr/>
          </p:nvSpPr>
          <p:spPr>
            <a:xfrm>
              <a:off x="4150800" y="2879640"/>
              <a:ext cx="11520" cy="295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4" name="Freeform 986"/>
            <p:cNvSpPr/>
            <p:nvPr/>
          </p:nvSpPr>
          <p:spPr>
            <a:xfrm>
              <a:off x="4150800" y="2879640"/>
              <a:ext cx="11520" cy="392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28">
                  <a:moveTo>
                    <a:pt x="8" y="21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5" name="Freeform 987"/>
            <p:cNvSpPr/>
            <p:nvPr/>
          </p:nvSpPr>
          <p:spPr>
            <a:xfrm>
              <a:off x="4140720" y="2879640"/>
              <a:ext cx="10080" cy="392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28">
                  <a:moveTo>
                    <a:pt x="7" y="28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6" name="Freeform 988"/>
            <p:cNvSpPr/>
            <p:nvPr/>
          </p:nvSpPr>
          <p:spPr>
            <a:xfrm>
              <a:off x="4140720" y="288936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7" name="Freeform 989"/>
            <p:cNvSpPr/>
            <p:nvPr/>
          </p:nvSpPr>
          <p:spPr>
            <a:xfrm>
              <a:off x="4129200" y="288936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8" name="Freeform 990"/>
            <p:cNvSpPr/>
            <p:nvPr/>
          </p:nvSpPr>
          <p:spPr>
            <a:xfrm>
              <a:off x="4119120" y="349740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9" name="Freeform 991"/>
            <p:cNvSpPr/>
            <p:nvPr/>
          </p:nvSpPr>
          <p:spPr>
            <a:xfrm>
              <a:off x="4109040" y="348768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0" name="Freeform 992"/>
            <p:cNvSpPr/>
            <p:nvPr/>
          </p:nvSpPr>
          <p:spPr>
            <a:xfrm>
              <a:off x="4109040" y="348768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1" name="Freeform 993"/>
            <p:cNvSpPr/>
            <p:nvPr/>
          </p:nvSpPr>
          <p:spPr>
            <a:xfrm>
              <a:off x="4097520" y="348768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2" name="Freeform 994"/>
            <p:cNvSpPr/>
            <p:nvPr/>
          </p:nvSpPr>
          <p:spPr>
            <a:xfrm>
              <a:off x="4097520" y="349740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3" name="Freeform 995"/>
            <p:cNvSpPr/>
            <p:nvPr/>
          </p:nvSpPr>
          <p:spPr>
            <a:xfrm>
              <a:off x="4087440" y="349740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4" name="Freeform 996"/>
            <p:cNvSpPr/>
            <p:nvPr/>
          </p:nvSpPr>
          <p:spPr>
            <a:xfrm>
              <a:off x="4087440" y="337536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5" name="Freeform 997"/>
            <p:cNvSpPr/>
            <p:nvPr/>
          </p:nvSpPr>
          <p:spPr>
            <a:xfrm>
              <a:off x="4075920" y="3366000"/>
              <a:ext cx="11160" cy="29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6" name="Freeform 998"/>
            <p:cNvSpPr/>
            <p:nvPr/>
          </p:nvSpPr>
          <p:spPr>
            <a:xfrm>
              <a:off x="4075920" y="336600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7" name="Freeform 999"/>
            <p:cNvSpPr/>
            <p:nvPr/>
          </p:nvSpPr>
          <p:spPr>
            <a:xfrm>
              <a:off x="4065840" y="336600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8" name="Freeform 1000"/>
            <p:cNvSpPr/>
            <p:nvPr/>
          </p:nvSpPr>
          <p:spPr>
            <a:xfrm>
              <a:off x="4065840" y="33753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9" name="Freeform 1001"/>
            <p:cNvSpPr/>
            <p:nvPr/>
          </p:nvSpPr>
          <p:spPr>
            <a:xfrm>
              <a:off x="4054320" y="337536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0" name="Freeform 1002"/>
            <p:cNvSpPr/>
            <p:nvPr/>
          </p:nvSpPr>
          <p:spPr>
            <a:xfrm>
              <a:off x="4044240" y="290916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1" name="Freeform 1003"/>
            <p:cNvSpPr/>
            <p:nvPr/>
          </p:nvSpPr>
          <p:spPr>
            <a:xfrm>
              <a:off x="4032720" y="289908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7"/>
                  </a:moveTo>
                  <a:lnTo>
                    <a:pt x="0" y="0"/>
                  </a:lnTo>
                  <a:lnTo>
                    <a:pt x="8" y="22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2" name="Freeform 1004"/>
            <p:cNvSpPr/>
            <p:nvPr/>
          </p:nvSpPr>
          <p:spPr>
            <a:xfrm>
              <a:off x="4032720" y="289908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3" name="Freeform 1005"/>
            <p:cNvSpPr/>
            <p:nvPr/>
          </p:nvSpPr>
          <p:spPr>
            <a:xfrm>
              <a:off x="4022640" y="289908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0"/>
                  </a:moveTo>
                  <a:lnTo>
                    <a:pt x="0" y="7"/>
                  </a:lnTo>
                  <a:lnTo>
                    <a:pt x="7" y="2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4" name="Freeform 1006"/>
            <p:cNvSpPr/>
            <p:nvPr/>
          </p:nvSpPr>
          <p:spPr>
            <a:xfrm>
              <a:off x="4022640" y="29091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5" name="Freeform 1007"/>
            <p:cNvSpPr/>
            <p:nvPr/>
          </p:nvSpPr>
          <p:spPr>
            <a:xfrm>
              <a:off x="4011120" y="290916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6" name="Freeform 1008"/>
            <p:cNvSpPr/>
            <p:nvPr/>
          </p:nvSpPr>
          <p:spPr>
            <a:xfrm>
              <a:off x="4011120" y="324396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7" name="Freeform 1009"/>
            <p:cNvSpPr/>
            <p:nvPr/>
          </p:nvSpPr>
          <p:spPr>
            <a:xfrm>
              <a:off x="4001040" y="323424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8" name="Freeform 1010"/>
            <p:cNvSpPr/>
            <p:nvPr/>
          </p:nvSpPr>
          <p:spPr>
            <a:xfrm>
              <a:off x="4001040" y="323424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9" name="Freeform 1011"/>
            <p:cNvSpPr/>
            <p:nvPr/>
          </p:nvSpPr>
          <p:spPr>
            <a:xfrm>
              <a:off x="3990600" y="323424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0" name="Freeform 1012"/>
            <p:cNvSpPr/>
            <p:nvPr/>
          </p:nvSpPr>
          <p:spPr>
            <a:xfrm>
              <a:off x="3990600" y="32439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1" name="Freeform 1013"/>
            <p:cNvSpPr/>
            <p:nvPr/>
          </p:nvSpPr>
          <p:spPr>
            <a:xfrm>
              <a:off x="3979440" y="324396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2" name="Freeform 1014"/>
            <p:cNvSpPr/>
            <p:nvPr/>
          </p:nvSpPr>
          <p:spPr>
            <a:xfrm>
              <a:off x="3969000" y="304092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3" name="Freeform 1015"/>
            <p:cNvSpPr/>
            <p:nvPr/>
          </p:nvSpPr>
          <p:spPr>
            <a:xfrm>
              <a:off x="3957480" y="3031200"/>
              <a:ext cx="11520" cy="30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4" name="Freeform 1016"/>
            <p:cNvSpPr/>
            <p:nvPr/>
          </p:nvSpPr>
          <p:spPr>
            <a:xfrm>
              <a:off x="3957480" y="3031200"/>
              <a:ext cx="11520" cy="403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5" name="Freeform 1017"/>
            <p:cNvSpPr/>
            <p:nvPr/>
          </p:nvSpPr>
          <p:spPr>
            <a:xfrm>
              <a:off x="3947760" y="3031200"/>
              <a:ext cx="9720" cy="403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6" name="Freeform 1018"/>
            <p:cNvSpPr/>
            <p:nvPr/>
          </p:nvSpPr>
          <p:spPr>
            <a:xfrm>
              <a:off x="3947760" y="3040920"/>
              <a:ext cx="9720" cy="30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7" name="Freeform 1019"/>
            <p:cNvSpPr/>
            <p:nvPr/>
          </p:nvSpPr>
          <p:spPr>
            <a:xfrm>
              <a:off x="3935880" y="304092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8" name="Freeform 1020"/>
            <p:cNvSpPr/>
            <p:nvPr/>
          </p:nvSpPr>
          <p:spPr>
            <a:xfrm>
              <a:off x="3935880" y="368928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79" name="Freeform 1021"/>
            <p:cNvSpPr/>
            <p:nvPr/>
          </p:nvSpPr>
          <p:spPr>
            <a:xfrm>
              <a:off x="3925800" y="36795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0" name="Freeform 1022"/>
            <p:cNvSpPr/>
            <p:nvPr/>
          </p:nvSpPr>
          <p:spPr>
            <a:xfrm>
              <a:off x="3925800" y="367956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1" name="Freeform 1023"/>
            <p:cNvSpPr/>
            <p:nvPr/>
          </p:nvSpPr>
          <p:spPr>
            <a:xfrm>
              <a:off x="3914280" y="367956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2" name="Freeform 1024"/>
            <p:cNvSpPr/>
            <p:nvPr/>
          </p:nvSpPr>
          <p:spPr>
            <a:xfrm>
              <a:off x="3914280" y="368928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3" name="Freeform 1025"/>
            <p:cNvSpPr/>
            <p:nvPr/>
          </p:nvSpPr>
          <p:spPr>
            <a:xfrm>
              <a:off x="3904200" y="368928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4" name="Freeform 1026"/>
            <p:cNvSpPr/>
            <p:nvPr/>
          </p:nvSpPr>
          <p:spPr>
            <a:xfrm>
              <a:off x="3892680" y="326376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5" name="Freeform 1027"/>
            <p:cNvSpPr/>
            <p:nvPr/>
          </p:nvSpPr>
          <p:spPr>
            <a:xfrm>
              <a:off x="3882600" y="325368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6" name="Freeform 1028"/>
            <p:cNvSpPr/>
            <p:nvPr/>
          </p:nvSpPr>
          <p:spPr>
            <a:xfrm>
              <a:off x="3882600" y="325368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7" name="Freeform 1029"/>
            <p:cNvSpPr/>
            <p:nvPr/>
          </p:nvSpPr>
          <p:spPr>
            <a:xfrm>
              <a:off x="3872160" y="325368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8" name="Freeform 1030"/>
            <p:cNvSpPr/>
            <p:nvPr/>
          </p:nvSpPr>
          <p:spPr>
            <a:xfrm>
              <a:off x="3872160" y="32637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9" name="Freeform 1031"/>
            <p:cNvSpPr/>
            <p:nvPr/>
          </p:nvSpPr>
          <p:spPr>
            <a:xfrm>
              <a:off x="3861000" y="326376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0" name="Freeform 1032"/>
            <p:cNvSpPr/>
            <p:nvPr/>
          </p:nvSpPr>
          <p:spPr>
            <a:xfrm>
              <a:off x="3861000" y="350748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1" name="Freeform 1033"/>
            <p:cNvSpPr/>
            <p:nvPr/>
          </p:nvSpPr>
          <p:spPr>
            <a:xfrm>
              <a:off x="3850560" y="349740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2" name="Freeform 1034"/>
            <p:cNvSpPr/>
            <p:nvPr/>
          </p:nvSpPr>
          <p:spPr>
            <a:xfrm>
              <a:off x="3850560" y="349740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3" name="Freeform 1035"/>
            <p:cNvSpPr/>
            <p:nvPr/>
          </p:nvSpPr>
          <p:spPr>
            <a:xfrm>
              <a:off x="3839400" y="349740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4" name="Freeform 1036"/>
            <p:cNvSpPr/>
            <p:nvPr/>
          </p:nvSpPr>
          <p:spPr>
            <a:xfrm>
              <a:off x="3839400" y="350748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5" name="Freeform 1037"/>
            <p:cNvSpPr/>
            <p:nvPr/>
          </p:nvSpPr>
          <p:spPr>
            <a:xfrm>
              <a:off x="3828960" y="350748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6" name="Freeform 1038"/>
            <p:cNvSpPr/>
            <p:nvPr/>
          </p:nvSpPr>
          <p:spPr>
            <a:xfrm>
              <a:off x="3817800" y="305208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7" name="Freeform 1039"/>
            <p:cNvSpPr/>
            <p:nvPr/>
          </p:nvSpPr>
          <p:spPr>
            <a:xfrm>
              <a:off x="3807360" y="304092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8" name="Freeform 1040"/>
            <p:cNvSpPr/>
            <p:nvPr/>
          </p:nvSpPr>
          <p:spPr>
            <a:xfrm>
              <a:off x="3807360" y="304092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9" name="Freeform 1041"/>
            <p:cNvSpPr/>
            <p:nvPr/>
          </p:nvSpPr>
          <p:spPr>
            <a:xfrm>
              <a:off x="3796200" y="304092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0" name="Freeform 1042"/>
            <p:cNvSpPr/>
            <p:nvPr/>
          </p:nvSpPr>
          <p:spPr>
            <a:xfrm>
              <a:off x="3796200" y="3052080"/>
              <a:ext cx="11160" cy="29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1" name="Freeform 1043"/>
            <p:cNvSpPr/>
            <p:nvPr/>
          </p:nvSpPr>
          <p:spPr>
            <a:xfrm>
              <a:off x="3786120" y="305208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2" name="Group 1245"/>
          <p:cNvGrpSpPr/>
          <p:nvPr/>
        </p:nvGrpSpPr>
        <p:grpSpPr>
          <a:xfrm>
            <a:off x="2505240" y="2422440"/>
            <a:ext cx="1280520" cy="1774800"/>
            <a:chOff x="2505240" y="2422440"/>
            <a:chExt cx="1280520" cy="1774800"/>
          </a:xfrm>
        </p:grpSpPr>
        <p:sp>
          <p:nvSpPr>
            <p:cNvPr id="703" name="Freeform 1045"/>
            <p:cNvSpPr/>
            <p:nvPr/>
          </p:nvSpPr>
          <p:spPr>
            <a:xfrm>
              <a:off x="3774240" y="3588480"/>
              <a:ext cx="11520" cy="190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4" name="Freeform 1046"/>
            <p:cNvSpPr/>
            <p:nvPr/>
          </p:nvSpPr>
          <p:spPr>
            <a:xfrm>
              <a:off x="3764520" y="3578760"/>
              <a:ext cx="9720" cy="29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5" name="Freeform 1047"/>
            <p:cNvSpPr/>
            <p:nvPr/>
          </p:nvSpPr>
          <p:spPr>
            <a:xfrm>
              <a:off x="3764520" y="3578760"/>
              <a:ext cx="9720" cy="40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6" name="Freeform 1048"/>
            <p:cNvSpPr/>
            <p:nvPr/>
          </p:nvSpPr>
          <p:spPr>
            <a:xfrm>
              <a:off x="3754080" y="357876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7" name="Freeform 1049"/>
            <p:cNvSpPr/>
            <p:nvPr/>
          </p:nvSpPr>
          <p:spPr>
            <a:xfrm>
              <a:off x="3754080" y="358848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8" name="Freeform 1050"/>
            <p:cNvSpPr/>
            <p:nvPr/>
          </p:nvSpPr>
          <p:spPr>
            <a:xfrm>
              <a:off x="3742560" y="3588480"/>
              <a:ext cx="11520" cy="190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9" name="Freeform 1051"/>
            <p:cNvSpPr/>
            <p:nvPr/>
          </p:nvSpPr>
          <p:spPr>
            <a:xfrm>
              <a:off x="3742560" y="329436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0" name="Freeform 1052"/>
            <p:cNvSpPr/>
            <p:nvPr/>
          </p:nvSpPr>
          <p:spPr>
            <a:xfrm>
              <a:off x="3732480" y="3284280"/>
              <a:ext cx="9720" cy="30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1" name="Freeform 1053"/>
            <p:cNvSpPr/>
            <p:nvPr/>
          </p:nvSpPr>
          <p:spPr>
            <a:xfrm>
              <a:off x="3732480" y="3284280"/>
              <a:ext cx="9720" cy="40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2" name="Freeform 1054"/>
            <p:cNvSpPr/>
            <p:nvPr/>
          </p:nvSpPr>
          <p:spPr>
            <a:xfrm>
              <a:off x="3720960" y="3284280"/>
              <a:ext cx="11520" cy="40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3" name="Freeform 1055"/>
            <p:cNvSpPr/>
            <p:nvPr/>
          </p:nvSpPr>
          <p:spPr>
            <a:xfrm>
              <a:off x="3720960" y="3294360"/>
              <a:ext cx="11520" cy="30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4" name="Freeform 1056"/>
            <p:cNvSpPr/>
            <p:nvPr/>
          </p:nvSpPr>
          <p:spPr>
            <a:xfrm>
              <a:off x="3710520" y="329436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5" name="Freeform 1057"/>
            <p:cNvSpPr/>
            <p:nvPr/>
          </p:nvSpPr>
          <p:spPr>
            <a:xfrm>
              <a:off x="3699360" y="397404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6" name="Freeform 1058"/>
            <p:cNvSpPr/>
            <p:nvPr/>
          </p:nvSpPr>
          <p:spPr>
            <a:xfrm>
              <a:off x="3688920" y="3964320"/>
              <a:ext cx="10080" cy="291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7" name="Freeform 1059"/>
            <p:cNvSpPr/>
            <p:nvPr/>
          </p:nvSpPr>
          <p:spPr>
            <a:xfrm>
              <a:off x="3688920" y="3964320"/>
              <a:ext cx="10080" cy="38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" h="28">
                  <a:moveTo>
                    <a:pt x="7" y="21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8" name="Freeform 1060"/>
            <p:cNvSpPr/>
            <p:nvPr/>
          </p:nvSpPr>
          <p:spPr>
            <a:xfrm>
              <a:off x="3677760" y="3964320"/>
              <a:ext cx="11160" cy="38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8" h="28">
                  <a:moveTo>
                    <a:pt x="8" y="28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9" name="Freeform 1061"/>
            <p:cNvSpPr/>
            <p:nvPr/>
          </p:nvSpPr>
          <p:spPr>
            <a:xfrm>
              <a:off x="3677760" y="3974040"/>
              <a:ext cx="11160" cy="29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0" name="Freeform 1062"/>
            <p:cNvSpPr/>
            <p:nvPr/>
          </p:nvSpPr>
          <p:spPr>
            <a:xfrm>
              <a:off x="3667320" y="397404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1" name="Freeform 1063"/>
            <p:cNvSpPr/>
            <p:nvPr/>
          </p:nvSpPr>
          <p:spPr>
            <a:xfrm>
              <a:off x="3667320" y="353808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2" name="Freeform 1064"/>
            <p:cNvSpPr/>
            <p:nvPr/>
          </p:nvSpPr>
          <p:spPr>
            <a:xfrm>
              <a:off x="3656160" y="3528360"/>
              <a:ext cx="11160" cy="29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3" name="Freeform 1065"/>
            <p:cNvSpPr/>
            <p:nvPr/>
          </p:nvSpPr>
          <p:spPr>
            <a:xfrm>
              <a:off x="3656160" y="3528360"/>
              <a:ext cx="11160" cy="39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28">
                  <a:moveTo>
                    <a:pt x="8" y="21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4" name="Freeform 1066"/>
            <p:cNvSpPr/>
            <p:nvPr/>
          </p:nvSpPr>
          <p:spPr>
            <a:xfrm>
              <a:off x="3645720" y="3528360"/>
              <a:ext cx="10080" cy="392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28">
                  <a:moveTo>
                    <a:pt x="7" y="28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5" name="Freeform 1067"/>
            <p:cNvSpPr/>
            <p:nvPr/>
          </p:nvSpPr>
          <p:spPr>
            <a:xfrm>
              <a:off x="3645720" y="353808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6" name="Freeform 1068"/>
            <p:cNvSpPr/>
            <p:nvPr/>
          </p:nvSpPr>
          <p:spPr>
            <a:xfrm>
              <a:off x="3635640" y="353808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7" name="Freeform 1069"/>
            <p:cNvSpPr/>
            <p:nvPr/>
          </p:nvSpPr>
          <p:spPr>
            <a:xfrm>
              <a:off x="3624120" y="327456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8" name="Freeform 1070"/>
            <p:cNvSpPr/>
            <p:nvPr/>
          </p:nvSpPr>
          <p:spPr>
            <a:xfrm>
              <a:off x="3614040" y="326340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9" name="Freeform 1071"/>
            <p:cNvSpPr/>
            <p:nvPr/>
          </p:nvSpPr>
          <p:spPr>
            <a:xfrm>
              <a:off x="3614040" y="326340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0" name="Freeform 1072"/>
            <p:cNvSpPr/>
            <p:nvPr/>
          </p:nvSpPr>
          <p:spPr>
            <a:xfrm>
              <a:off x="3602520" y="326340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1" name="Freeform 1073"/>
            <p:cNvSpPr/>
            <p:nvPr/>
          </p:nvSpPr>
          <p:spPr>
            <a:xfrm>
              <a:off x="3602520" y="3274560"/>
              <a:ext cx="11160" cy="29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2" name="Freeform 1074"/>
            <p:cNvSpPr/>
            <p:nvPr/>
          </p:nvSpPr>
          <p:spPr>
            <a:xfrm>
              <a:off x="3592440" y="327456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3" name="Freeform 1075"/>
            <p:cNvSpPr/>
            <p:nvPr/>
          </p:nvSpPr>
          <p:spPr>
            <a:xfrm>
              <a:off x="3592440" y="383256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4" name="Freeform 1076"/>
            <p:cNvSpPr/>
            <p:nvPr/>
          </p:nvSpPr>
          <p:spPr>
            <a:xfrm>
              <a:off x="3580920" y="382140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5" name="Freeform 1077"/>
            <p:cNvSpPr/>
            <p:nvPr/>
          </p:nvSpPr>
          <p:spPr>
            <a:xfrm>
              <a:off x="3580920" y="382140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6" name="Freeform 1078"/>
            <p:cNvSpPr/>
            <p:nvPr/>
          </p:nvSpPr>
          <p:spPr>
            <a:xfrm>
              <a:off x="3570840" y="382140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7" name="Freeform 1079"/>
            <p:cNvSpPr/>
            <p:nvPr/>
          </p:nvSpPr>
          <p:spPr>
            <a:xfrm>
              <a:off x="3570840" y="383256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8" name="Freeform 1080"/>
            <p:cNvSpPr/>
            <p:nvPr/>
          </p:nvSpPr>
          <p:spPr>
            <a:xfrm>
              <a:off x="3558960" y="3832560"/>
              <a:ext cx="11520" cy="194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9" name="Freeform 1081"/>
            <p:cNvSpPr/>
            <p:nvPr/>
          </p:nvSpPr>
          <p:spPr>
            <a:xfrm>
              <a:off x="3549240" y="3821400"/>
              <a:ext cx="9720" cy="208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0" name="Freeform 1082"/>
            <p:cNvSpPr/>
            <p:nvPr/>
          </p:nvSpPr>
          <p:spPr>
            <a:xfrm>
              <a:off x="3537360" y="3811320"/>
              <a:ext cx="11520" cy="30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1" name="Freeform 1083"/>
            <p:cNvSpPr/>
            <p:nvPr/>
          </p:nvSpPr>
          <p:spPr>
            <a:xfrm>
              <a:off x="3537360" y="3811320"/>
              <a:ext cx="11520" cy="40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2" name="Freeform 1084"/>
            <p:cNvSpPr/>
            <p:nvPr/>
          </p:nvSpPr>
          <p:spPr>
            <a:xfrm>
              <a:off x="3527280" y="381132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3" name="Freeform 1085"/>
            <p:cNvSpPr/>
            <p:nvPr/>
          </p:nvSpPr>
          <p:spPr>
            <a:xfrm>
              <a:off x="3527280" y="382140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4" name="Freeform 1086"/>
            <p:cNvSpPr/>
            <p:nvPr/>
          </p:nvSpPr>
          <p:spPr>
            <a:xfrm>
              <a:off x="3515760" y="382140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5" name="Freeform 1087"/>
            <p:cNvSpPr/>
            <p:nvPr/>
          </p:nvSpPr>
          <p:spPr>
            <a:xfrm>
              <a:off x="3515760" y="311184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6" name="Freeform 1088"/>
            <p:cNvSpPr/>
            <p:nvPr/>
          </p:nvSpPr>
          <p:spPr>
            <a:xfrm>
              <a:off x="3505680" y="3102120"/>
              <a:ext cx="10080" cy="291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7" name="Freeform 1089"/>
            <p:cNvSpPr/>
            <p:nvPr/>
          </p:nvSpPr>
          <p:spPr>
            <a:xfrm>
              <a:off x="3505680" y="310212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8" name="Freeform 1090"/>
            <p:cNvSpPr/>
            <p:nvPr/>
          </p:nvSpPr>
          <p:spPr>
            <a:xfrm>
              <a:off x="3495600" y="310212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9" name="Freeform 1091"/>
            <p:cNvSpPr/>
            <p:nvPr/>
          </p:nvSpPr>
          <p:spPr>
            <a:xfrm>
              <a:off x="3495600" y="311184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0" name="Freeform 1092"/>
            <p:cNvSpPr/>
            <p:nvPr/>
          </p:nvSpPr>
          <p:spPr>
            <a:xfrm>
              <a:off x="3484080" y="311184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1" name="Freeform 1093"/>
            <p:cNvSpPr/>
            <p:nvPr/>
          </p:nvSpPr>
          <p:spPr>
            <a:xfrm>
              <a:off x="3474000" y="329436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2" name="Freeform 1094"/>
            <p:cNvSpPr/>
            <p:nvPr/>
          </p:nvSpPr>
          <p:spPr>
            <a:xfrm>
              <a:off x="3462480" y="328428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3" name="Freeform 1095"/>
            <p:cNvSpPr/>
            <p:nvPr/>
          </p:nvSpPr>
          <p:spPr>
            <a:xfrm>
              <a:off x="3462480" y="328428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4" name="Freeform 1096"/>
            <p:cNvSpPr/>
            <p:nvPr/>
          </p:nvSpPr>
          <p:spPr>
            <a:xfrm>
              <a:off x="3452400" y="328428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5" name="Freeform 1097"/>
            <p:cNvSpPr/>
            <p:nvPr/>
          </p:nvSpPr>
          <p:spPr>
            <a:xfrm>
              <a:off x="3452400" y="32943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6" name="Freeform 1098"/>
            <p:cNvSpPr/>
            <p:nvPr/>
          </p:nvSpPr>
          <p:spPr>
            <a:xfrm>
              <a:off x="3440880" y="329436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7" name="Freeform 1099"/>
            <p:cNvSpPr/>
            <p:nvPr/>
          </p:nvSpPr>
          <p:spPr>
            <a:xfrm>
              <a:off x="3440880" y="375120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8" name="Freeform 1100"/>
            <p:cNvSpPr/>
            <p:nvPr/>
          </p:nvSpPr>
          <p:spPr>
            <a:xfrm>
              <a:off x="3430800" y="374004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9" name="Freeform 1101"/>
            <p:cNvSpPr/>
            <p:nvPr/>
          </p:nvSpPr>
          <p:spPr>
            <a:xfrm>
              <a:off x="3430800" y="374004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0" name="Freeform 1102"/>
            <p:cNvSpPr/>
            <p:nvPr/>
          </p:nvSpPr>
          <p:spPr>
            <a:xfrm>
              <a:off x="3419280" y="374004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1" name="Freeform 1103"/>
            <p:cNvSpPr/>
            <p:nvPr/>
          </p:nvSpPr>
          <p:spPr>
            <a:xfrm>
              <a:off x="3419280" y="3751200"/>
              <a:ext cx="11160" cy="29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2" name="Freeform 1104"/>
            <p:cNvSpPr/>
            <p:nvPr/>
          </p:nvSpPr>
          <p:spPr>
            <a:xfrm>
              <a:off x="3409200" y="375120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3" name="Freeform 1105"/>
            <p:cNvSpPr/>
            <p:nvPr/>
          </p:nvSpPr>
          <p:spPr>
            <a:xfrm>
              <a:off x="3397320" y="364860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4" name="Freeform 1106"/>
            <p:cNvSpPr/>
            <p:nvPr/>
          </p:nvSpPr>
          <p:spPr>
            <a:xfrm>
              <a:off x="3387600" y="3638880"/>
              <a:ext cx="9720" cy="30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5" name="Freeform 1107"/>
            <p:cNvSpPr/>
            <p:nvPr/>
          </p:nvSpPr>
          <p:spPr>
            <a:xfrm>
              <a:off x="3387600" y="3638880"/>
              <a:ext cx="9720" cy="40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6" name="Freeform 1108"/>
            <p:cNvSpPr/>
            <p:nvPr/>
          </p:nvSpPr>
          <p:spPr>
            <a:xfrm>
              <a:off x="3377160" y="363888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7" name="Freeform 1109"/>
            <p:cNvSpPr/>
            <p:nvPr/>
          </p:nvSpPr>
          <p:spPr>
            <a:xfrm>
              <a:off x="3377160" y="364860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8" name="Freeform 1110"/>
            <p:cNvSpPr/>
            <p:nvPr/>
          </p:nvSpPr>
          <p:spPr>
            <a:xfrm>
              <a:off x="3365640" y="364860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9" name="Freeform 1111"/>
            <p:cNvSpPr/>
            <p:nvPr/>
          </p:nvSpPr>
          <p:spPr>
            <a:xfrm>
              <a:off x="3355560" y="3344400"/>
              <a:ext cx="9720" cy="21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" h="15">
                  <a:moveTo>
                    <a:pt x="7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0" name="Freeform 1112"/>
            <p:cNvSpPr/>
            <p:nvPr/>
          </p:nvSpPr>
          <p:spPr>
            <a:xfrm>
              <a:off x="3344040" y="3335040"/>
              <a:ext cx="11520" cy="30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1" name="Freeform 1113"/>
            <p:cNvSpPr/>
            <p:nvPr/>
          </p:nvSpPr>
          <p:spPr>
            <a:xfrm>
              <a:off x="3344040" y="3335040"/>
              <a:ext cx="11520" cy="403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2" name="Freeform 1114"/>
            <p:cNvSpPr/>
            <p:nvPr/>
          </p:nvSpPr>
          <p:spPr>
            <a:xfrm>
              <a:off x="3333960" y="333504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3" name="Freeform 1115"/>
            <p:cNvSpPr/>
            <p:nvPr/>
          </p:nvSpPr>
          <p:spPr>
            <a:xfrm>
              <a:off x="3333960" y="334440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4" name="Freeform 1116"/>
            <p:cNvSpPr/>
            <p:nvPr/>
          </p:nvSpPr>
          <p:spPr>
            <a:xfrm>
              <a:off x="3322440" y="3344400"/>
              <a:ext cx="11160" cy="21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5" name="Freeform 1117"/>
            <p:cNvSpPr/>
            <p:nvPr/>
          </p:nvSpPr>
          <p:spPr>
            <a:xfrm>
              <a:off x="3322440" y="381132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6" name="Freeform 1118"/>
            <p:cNvSpPr/>
            <p:nvPr/>
          </p:nvSpPr>
          <p:spPr>
            <a:xfrm>
              <a:off x="3312000" y="380160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7" name="Freeform 1119"/>
            <p:cNvSpPr/>
            <p:nvPr/>
          </p:nvSpPr>
          <p:spPr>
            <a:xfrm>
              <a:off x="3312000" y="380160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8" name="Freeform 1120"/>
            <p:cNvSpPr/>
            <p:nvPr/>
          </p:nvSpPr>
          <p:spPr>
            <a:xfrm>
              <a:off x="3300840" y="380160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9" name="Freeform 1121"/>
            <p:cNvSpPr/>
            <p:nvPr/>
          </p:nvSpPr>
          <p:spPr>
            <a:xfrm>
              <a:off x="3300840" y="381132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0" name="Freeform 1122"/>
            <p:cNvSpPr/>
            <p:nvPr/>
          </p:nvSpPr>
          <p:spPr>
            <a:xfrm>
              <a:off x="3290400" y="381132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1" name="Freeform 1123"/>
            <p:cNvSpPr/>
            <p:nvPr/>
          </p:nvSpPr>
          <p:spPr>
            <a:xfrm>
              <a:off x="3279240" y="303084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2" name="Freeform 1124"/>
            <p:cNvSpPr/>
            <p:nvPr/>
          </p:nvSpPr>
          <p:spPr>
            <a:xfrm>
              <a:off x="3268800" y="30207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3" name="Freeform 1125"/>
            <p:cNvSpPr/>
            <p:nvPr/>
          </p:nvSpPr>
          <p:spPr>
            <a:xfrm>
              <a:off x="3268800" y="302076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4" name="Freeform 1126"/>
            <p:cNvSpPr/>
            <p:nvPr/>
          </p:nvSpPr>
          <p:spPr>
            <a:xfrm>
              <a:off x="3258720" y="302076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5" name="Freeform 1127"/>
            <p:cNvSpPr/>
            <p:nvPr/>
          </p:nvSpPr>
          <p:spPr>
            <a:xfrm>
              <a:off x="3258720" y="303084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6" name="Freeform 1128"/>
            <p:cNvSpPr/>
            <p:nvPr/>
          </p:nvSpPr>
          <p:spPr>
            <a:xfrm>
              <a:off x="3247200" y="303084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7" name="Freeform 1129"/>
            <p:cNvSpPr/>
            <p:nvPr/>
          </p:nvSpPr>
          <p:spPr>
            <a:xfrm>
              <a:off x="3247200" y="381132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8" name="Freeform 1130"/>
            <p:cNvSpPr/>
            <p:nvPr/>
          </p:nvSpPr>
          <p:spPr>
            <a:xfrm>
              <a:off x="3237120" y="380160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9" name="Freeform 1131"/>
            <p:cNvSpPr/>
            <p:nvPr/>
          </p:nvSpPr>
          <p:spPr>
            <a:xfrm>
              <a:off x="3237120" y="380160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0" name="Freeform 1132"/>
            <p:cNvSpPr/>
            <p:nvPr/>
          </p:nvSpPr>
          <p:spPr>
            <a:xfrm>
              <a:off x="3225600" y="380160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1" name="Freeform 1133"/>
            <p:cNvSpPr/>
            <p:nvPr/>
          </p:nvSpPr>
          <p:spPr>
            <a:xfrm>
              <a:off x="3225600" y="381132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2" name="Freeform 1134"/>
            <p:cNvSpPr/>
            <p:nvPr/>
          </p:nvSpPr>
          <p:spPr>
            <a:xfrm>
              <a:off x="3215520" y="381132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3" name="Freeform 1135"/>
            <p:cNvSpPr/>
            <p:nvPr/>
          </p:nvSpPr>
          <p:spPr>
            <a:xfrm>
              <a:off x="3204000" y="333504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4" name="Freeform 1136"/>
            <p:cNvSpPr/>
            <p:nvPr/>
          </p:nvSpPr>
          <p:spPr>
            <a:xfrm>
              <a:off x="3193920" y="33249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5" name="Freeform 1137"/>
            <p:cNvSpPr/>
            <p:nvPr/>
          </p:nvSpPr>
          <p:spPr>
            <a:xfrm>
              <a:off x="3193920" y="332496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6" name="Freeform 1138"/>
            <p:cNvSpPr/>
            <p:nvPr/>
          </p:nvSpPr>
          <p:spPr>
            <a:xfrm>
              <a:off x="3182040" y="3324960"/>
              <a:ext cx="11520" cy="40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7" name="Freeform 1139"/>
            <p:cNvSpPr/>
            <p:nvPr/>
          </p:nvSpPr>
          <p:spPr>
            <a:xfrm>
              <a:off x="3182040" y="3335040"/>
              <a:ext cx="11520" cy="30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8" name="Freeform 1140"/>
            <p:cNvSpPr/>
            <p:nvPr/>
          </p:nvSpPr>
          <p:spPr>
            <a:xfrm>
              <a:off x="3172320" y="3335040"/>
              <a:ext cx="9720" cy="208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9" name="Freeform 1141"/>
            <p:cNvSpPr/>
            <p:nvPr/>
          </p:nvSpPr>
          <p:spPr>
            <a:xfrm>
              <a:off x="3172320" y="3507120"/>
              <a:ext cx="9720" cy="208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0" name="Freeform 1142"/>
            <p:cNvSpPr/>
            <p:nvPr/>
          </p:nvSpPr>
          <p:spPr>
            <a:xfrm>
              <a:off x="3160440" y="3497400"/>
              <a:ext cx="11520" cy="30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1" name="Freeform 1143"/>
            <p:cNvSpPr/>
            <p:nvPr/>
          </p:nvSpPr>
          <p:spPr>
            <a:xfrm>
              <a:off x="3160440" y="3497400"/>
              <a:ext cx="11520" cy="40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2" name="Freeform 1144"/>
            <p:cNvSpPr/>
            <p:nvPr/>
          </p:nvSpPr>
          <p:spPr>
            <a:xfrm>
              <a:off x="3150360" y="349740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3" name="Freeform 1145"/>
            <p:cNvSpPr/>
            <p:nvPr/>
          </p:nvSpPr>
          <p:spPr>
            <a:xfrm>
              <a:off x="3150360" y="350712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4" name="Freeform 1146"/>
            <p:cNvSpPr/>
            <p:nvPr/>
          </p:nvSpPr>
          <p:spPr>
            <a:xfrm>
              <a:off x="3140640" y="3507120"/>
              <a:ext cx="9720" cy="208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5" name="Freeform 1147"/>
            <p:cNvSpPr/>
            <p:nvPr/>
          </p:nvSpPr>
          <p:spPr>
            <a:xfrm>
              <a:off x="3128760" y="3974040"/>
              <a:ext cx="11520" cy="194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6" name="Freeform 1148"/>
            <p:cNvSpPr/>
            <p:nvPr/>
          </p:nvSpPr>
          <p:spPr>
            <a:xfrm>
              <a:off x="3118680" y="3964320"/>
              <a:ext cx="10080" cy="291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7" name="Freeform 1149"/>
            <p:cNvSpPr/>
            <p:nvPr/>
          </p:nvSpPr>
          <p:spPr>
            <a:xfrm>
              <a:off x="3118680" y="3964320"/>
              <a:ext cx="10080" cy="38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" h="28">
                  <a:moveTo>
                    <a:pt x="7" y="21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8" name="Freeform 1150"/>
            <p:cNvSpPr/>
            <p:nvPr/>
          </p:nvSpPr>
          <p:spPr>
            <a:xfrm>
              <a:off x="3107160" y="3964320"/>
              <a:ext cx="11160" cy="38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8" h="28">
                  <a:moveTo>
                    <a:pt x="8" y="28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9" name="Freeform 1151"/>
            <p:cNvSpPr/>
            <p:nvPr/>
          </p:nvSpPr>
          <p:spPr>
            <a:xfrm>
              <a:off x="3107160" y="3974040"/>
              <a:ext cx="11160" cy="29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0" name="Freeform 1152"/>
            <p:cNvSpPr/>
            <p:nvPr/>
          </p:nvSpPr>
          <p:spPr>
            <a:xfrm>
              <a:off x="3097080" y="397404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1" name="Freeform 1153"/>
            <p:cNvSpPr/>
            <p:nvPr/>
          </p:nvSpPr>
          <p:spPr>
            <a:xfrm>
              <a:off x="3097080" y="351720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2" name="Freeform 1154"/>
            <p:cNvSpPr/>
            <p:nvPr/>
          </p:nvSpPr>
          <p:spPr>
            <a:xfrm>
              <a:off x="3085560" y="350712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3" name="Freeform 1155"/>
            <p:cNvSpPr/>
            <p:nvPr/>
          </p:nvSpPr>
          <p:spPr>
            <a:xfrm>
              <a:off x="3085560" y="350712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4" name="Freeform 1156"/>
            <p:cNvSpPr/>
            <p:nvPr/>
          </p:nvSpPr>
          <p:spPr>
            <a:xfrm>
              <a:off x="3075480" y="350712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5" name="Freeform 1157"/>
            <p:cNvSpPr/>
            <p:nvPr/>
          </p:nvSpPr>
          <p:spPr>
            <a:xfrm>
              <a:off x="3075480" y="351720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6" name="Freeform 1158"/>
            <p:cNvSpPr/>
            <p:nvPr/>
          </p:nvSpPr>
          <p:spPr>
            <a:xfrm>
              <a:off x="3063960" y="351720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7" name="Freeform 1159"/>
            <p:cNvSpPr/>
            <p:nvPr/>
          </p:nvSpPr>
          <p:spPr>
            <a:xfrm>
              <a:off x="3053880" y="3629160"/>
              <a:ext cx="10080" cy="19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8" name="Freeform 1160"/>
            <p:cNvSpPr/>
            <p:nvPr/>
          </p:nvSpPr>
          <p:spPr>
            <a:xfrm>
              <a:off x="3042360" y="3619440"/>
              <a:ext cx="11160" cy="29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9" name="Freeform 1161"/>
            <p:cNvSpPr/>
            <p:nvPr/>
          </p:nvSpPr>
          <p:spPr>
            <a:xfrm>
              <a:off x="3042360" y="361944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0" name="Freeform 1162"/>
            <p:cNvSpPr/>
            <p:nvPr/>
          </p:nvSpPr>
          <p:spPr>
            <a:xfrm>
              <a:off x="3032280" y="361944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1" name="Freeform 1163"/>
            <p:cNvSpPr/>
            <p:nvPr/>
          </p:nvSpPr>
          <p:spPr>
            <a:xfrm>
              <a:off x="3032280" y="36291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2" name="Freeform 1164"/>
            <p:cNvSpPr/>
            <p:nvPr/>
          </p:nvSpPr>
          <p:spPr>
            <a:xfrm>
              <a:off x="3022200" y="3629160"/>
              <a:ext cx="10080" cy="19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3" name="Freeform 1165"/>
            <p:cNvSpPr/>
            <p:nvPr/>
          </p:nvSpPr>
          <p:spPr>
            <a:xfrm>
              <a:off x="3022200" y="311184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4" name="Freeform 1166"/>
            <p:cNvSpPr/>
            <p:nvPr/>
          </p:nvSpPr>
          <p:spPr>
            <a:xfrm>
              <a:off x="3010680" y="3102120"/>
              <a:ext cx="11160" cy="29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" h="21">
                  <a:moveTo>
                    <a:pt x="8" y="21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5" name="Freeform 1167"/>
            <p:cNvSpPr/>
            <p:nvPr/>
          </p:nvSpPr>
          <p:spPr>
            <a:xfrm>
              <a:off x="3010680" y="3102120"/>
              <a:ext cx="11160" cy="40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8" h="29">
                  <a:moveTo>
                    <a:pt x="8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6" name="Freeform 1168"/>
            <p:cNvSpPr/>
            <p:nvPr/>
          </p:nvSpPr>
          <p:spPr>
            <a:xfrm>
              <a:off x="3000600" y="3102120"/>
              <a:ext cx="10080" cy="40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7" name="Freeform 1169"/>
            <p:cNvSpPr/>
            <p:nvPr/>
          </p:nvSpPr>
          <p:spPr>
            <a:xfrm>
              <a:off x="3000600" y="311184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8" name="Freeform 1170"/>
            <p:cNvSpPr/>
            <p:nvPr/>
          </p:nvSpPr>
          <p:spPr>
            <a:xfrm>
              <a:off x="2989080" y="311184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9" name="Freeform 1171"/>
            <p:cNvSpPr/>
            <p:nvPr/>
          </p:nvSpPr>
          <p:spPr>
            <a:xfrm>
              <a:off x="2979000" y="330408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0" name="Freeform 1172"/>
            <p:cNvSpPr/>
            <p:nvPr/>
          </p:nvSpPr>
          <p:spPr>
            <a:xfrm>
              <a:off x="2967120" y="3294360"/>
              <a:ext cx="11520" cy="30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1" name="Freeform 1173"/>
            <p:cNvSpPr/>
            <p:nvPr/>
          </p:nvSpPr>
          <p:spPr>
            <a:xfrm>
              <a:off x="2967120" y="3294360"/>
              <a:ext cx="11520" cy="40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2" name="Freeform 1174"/>
            <p:cNvSpPr/>
            <p:nvPr/>
          </p:nvSpPr>
          <p:spPr>
            <a:xfrm>
              <a:off x="2957400" y="3294360"/>
              <a:ext cx="9720" cy="40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3" name="Freeform 1175"/>
            <p:cNvSpPr/>
            <p:nvPr/>
          </p:nvSpPr>
          <p:spPr>
            <a:xfrm>
              <a:off x="2957400" y="3304080"/>
              <a:ext cx="9720" cy="30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4" name="Freeform 1176"/>
            <p:cNvSpPr/>
            <p:nvPr/>
          </p:nvSpPr>
          <p:spPr>
            <a:xfrm>
              <a:off x="2945520" y="330408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5" name="Freeform 1177"/>
            <p:cNvSpPr/>
            <p:nvPr/>
          </p:nvSpPr>
          <p:spPr>
            <a:xfrm>
              <a:off x="2935440" y="3882960"/>
              <a:ext cx="10080" cy="19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6" name="Freeform 1178"/>
            <p:cNvSpPr/>
            <p:nvPr/>
          </p:nvSpPr>
          <p:spPr>
            <a:xfrm>
              <a:off x="2923920" y="387144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7" name="Freeform 1179"/>
            <p:cNvSpPr/>
            <p:nvPr/>
          </p:nvSpPr>
          <p:spPr>
            <a:xfrm>
              <a:off x="2923920" y="387144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8" name="Freeform 1180"/>
            <p:cNvSpPr/>
            <p:nvPr/>
          </p:nvSpPr>
          <p:spPr>
            <a:xfrm>
              <a:off x="2913840" y="387144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9" name="Freeform 1181"/>
            <p:cNvSpPr/>
            <p:nvPr/>
          </p:nvSpPr>
          <p:spPr>
            <a:xfrm>
              <a:off x="2913840" y="3882960"/>
              <a:ext cx="10080" cy="291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0" name="Freeform 1182"/>
            <p:cNvSpPr/>
            <p:nvPr/>
          </p:nvSpPr>
          <p:spPr>
            <a:xfrm>
              <a:off x="2903400" y="3882960"/>
              <a:ext cx="10080" cy="19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1" name="Freeform 1183"/>
            <p:cNvSpPr/>
            <p:nvPr/>
          </p:nvSpPr>
          <p:spPr>
            <a:xfrm>
              <a:off x="2903400" y="368928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2" name="Freeform 1184"/>
            <p:cNvSpPr/>
            <p:nvPr/>
          </p:nvSpPr>
          <p:spPr>
            <a:xfrm>
              <a:off x="2892240" y="367956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3" name="Freeform 1185"/>
            <p:cNvSpPr/>
            <p:nvPr/>
          </p:nvSpPr>
          <p:spPr>
            <a:xfrm>
              <a:off x="2892240" y="367956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4" name="Freeform 1186"/>
            <p:cNvSpPr/>
            <p:nvPr/>
          </p:nvSpPr>
          <p:spPr>
            <a:xfrm>
              <a:off x="2881800" y="367956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5" name="Freeform 1187"/>
            <p:cNvSpPr/>
            <p:nvPr/>
          </p:nvSpPr>
          <p:spPr>
            <a:xfrm>
              <a:off x="2881800" y="368928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6" name="Freeform 1188"/>
            <p:cNvSpPr/>
            <p:nvPr/>
          </p:nvSpPr>
          <p:spPr>
            <a:xfrm>
              <a:off x="2870640" y="368928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7" name="Freeform 1189"/>
            <p:cNvSpPr/>
            <p:nvPr/>
          </p:nvSpPr>
          <p:spPr>
            <a:xfrm>
              <a:off x="2860200" y="312156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8" name="Freeform 1190"/>
            <p:cNvSpPr/>
            <p:nvPr/>
          </p:nvSpPr>
          <p:spPr>
            <a:xfrm>
              <a:off x="2849040" y="311184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9" name="Freeform 1191"/>
            <p:cNvSpPr/>
            <p:nvPr/>
          </p:nvSpPr>
          <p:spPr>
            <a:xfrm>
              <a:off x="2849040" y="311184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0" name="Freeform 1192"/>
            <p:cNvSpPr/>
            <p:nvPr/>
          </p:nvSpPr>
          <p:spPr>
            <a:xfrm>
              <a:off x="2838600" y="311184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1" name="Freeform 1193"/>
            <p:cNvSpPr/>
            <p:nvPr/>
          </p:nvSpPr>
          <p:spPr>
            <a:xfrm>
              <a:off x="2838600" y="31215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2" name="Freeform 1194"/>
            <p:cNvSpPr/>
            <p:nvPr/>
          </p:nvSpPr>
          <p:spPr>
            <a:xfrm>
              <a:off x="2827080" y="312156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3" name="Freeform 1195"/>
            <p:cNvSpPr/>
            <p:nvPr/>
          </p:nvSpPr>
          <p:spPr>
            <a:xfrm>
              <a:off x="2827080" y="333504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4" name="Freeform 1196"/>
            <p:cNvSpPr/>
            <p:nvPr/>
          </p:nvSpPr>
          <p:spPr>
            <a:xfrm>
              <a:off x="2817000" y="332496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5" name="Freeform 1197"/>
            <p:cNvSpPr/>
            <p:nvPr/>
          </p:nvSpPr>
          <p:spPr>
            <a:xfrm>
              <a:off x="2817000" y="332496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6" name="Freeform 1198"/>
            <p:cNvSpPr/>
            <p:nvPr/>
          </p:nvSpPr>
          <p:spPr>
            <a:xfrm>
              <a:off x="2805480" y="332496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7" name="Freeform 1199"/>
            <p:cNvSpPr/>
            <p:nvPr/>
          </p:nvSpPr>
          <p:spPr>
            <a:xfrm>
              <a:off x="2805480" y="333504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8" name="Freeform 1200"/>
            <p:cNvSpPr/>
            <p:nvPr/>
          </p:nvSpPr>
          <p:spPr>
            <a:xfrm>
              <a:off x="2795400" y="333504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9" name="Freeform 1201"/>
            <p:cNvSpPr/>
            <p:nvPr/>
          </p:nvSpPr>
          <p:spPr>
            <a:xfrm>
              <a:off x="2783880" y="243216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0" name="Freeform 1202"/>
            <p:cNvSpPr/>
            <p:nvPr/>
          </p:nvSpPr>
          <p:spPr>
            <a:xfrm>
              <a:off x="2773440" y="242244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1" name="Freeform 1203"/>
            <p:cNvSpPr/>
            <p:nvPr/>
          </p:nvSpPr>
          <p:spPr>
            <a:xfrm>
              <a:off x="2773440" y="242244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2" name="Freeform 1204"/>
            <p:cNvSpPr/>
            <p:nvPr/>
          </p:nvSpPr>
          <p:spPr>
            <a:xfrm>
              <a:off x="2763720" y="2422440"/>
              <a:ext cx="9720" cy="40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3" name="Freeform 1205"/>
            <p:cNvSpPr/>
            <p:nvPr/>
          </p:nvSpPr>
          <p:spPr>
            <a:xfrm>
              <a:off x="2763720" y="2432160"/>
              <a:ext cx="9720" cy="30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4" name="Freeform 1206"/>
            <p:cNvSpPr/>
            <p:nvPr/>
          </p:nvSpPr>
          <p:spPr>
            <a:xfrm>
              <a:off x="2751840" y="243216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5" name="Freeform 1207"/>
            <p:cNvSpPr/>
            <p:nvPr/>
          </p:nvSpPr>
          <p:spPr>
            <a:xfrm>
              <a:off x="2751840" y="3547800"/>
              <a:ext cx="11520" cy="194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6" name="Freeform 1208"/>
            <p:cNvSpPr/>
            <p:nvPr/>
          </p:nvSpPr>
          <p:spPr>
            <a:xfrm>
              <a:off x="2741760" y="353808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7" name="Freeform 1209"/>
            <p:cNvSpPr/>
            <p:nvPr/>
          </p:nvSpPr>
          <p:spPr>
            <a:xfrm>
              <a:off x="2741760" y="353808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8" name="Freeform 1210"/>
            <p:cNvSpPr/>
            <p:nvPr/>
          </p:nvSpPr>
          <p:spPr>
            <a:xfrm>
              <a:off x="2730240" y="353808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9" name="Freeform 1211"/>
            <p:cNvSpPr/>
            <p:nvPr/>
          </p:nvSpPr>
          <p:spPr>
            <a:xfrm>
              <a:off x="2730240" y="354780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0" name="Freeform 1212"/>
            <p:cNvSpPr/>
            <p:nvPr/>
          </p:nvSpPr>
          <p:spPr>
            <a:xfrm>
              <a:off x="2720160" y="354780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1" name="Freeform 1213"/>
            <p:cNvSpPr/>
            <p:nvPr/>
          </p:nvSpPr>
          <p:spPr>
            <a:xfrm>
              <a:off x="2708640" y="3760920"/>
              <a:ext cx="11160" cy="1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14">
                  <a:moveTo>
                    <a:pt x="8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2" name="Freeform 1214"/>
            <p:cNvSpPr/>
            <p:nvPr/>
          </p:nvSpPr>
          <p:spPr>
            <a:xfrm>
              <a:off x="2698560" y="3751200"/>
              <a:ext cx="10080" cy="29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3" name="Freeform 1215"/>
            <p:cNvSpPr/>
            <p:nvPr/>
          </p:nvSpPr>
          <p:spPr>
            <a:xfrm>
              <a:off x="2698560" y="375120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1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4" name="Freeform 1216"/>
            <p:cNvSpPr/>
            <p:nvPr/>
          </p:nvSpPr>
          <p:spPr>
            <a:xfrm>
              <a:off x="2687040" y="375120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5" name="Freeform 1217"/>
            <p:cNvSpPr/>
            <p:nvPr/>
          </p:nvSpPr>
          <p:spPr>
            <a:xfrm>
              <a:off x="2687040" y="376092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6" name="Freeform 1218"/>
            <p:cNvSpPr/>
            <p:nvPr/>
          </p:nvSpPr>
          <p:spPr>
            <a:xfrm>
              <a:off x="2676960" y="3760920"/>
              <a:ext cx="10080" cy="194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7" name="Freeform 1219"/>
            <p:cNvSpPr/>
            <p:nvPr/>
          </p:nvSpPr>
          <p:spPr>
            <a:xfrm>
              <a:off x="2676960" y="3355920"/>
              <a:ext cx="10080" cy="19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" h="14">
                  <a:moveTo>
                    <a:pt x="7" y="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8" name="Freeform 1220"/>
            <p:cNvSpPr/>
            <p:nvPr/>
          </p:nvSpPr>
          <p:spPr>
            <a:xfrm>
              <a:off x="2665440" y="334440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9" name="Freeform 1221"/>
            <p:cNvSpPr/>
            <p:nvPr/>
          </p:nvSpPr>
          <p:spPr>
            <a:xfrm>
              <a:off x="2665440" y="334440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0" name="Freeform 1222"/>
            <p:cNvSpPr/>
            <p:nvPr/>
          </p:nvSpPr>
          <p:spPr>
            <a:xfrm>
              <a:off x="2655360" y="334440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1" name="Freeform 1223"/>
            <p:cNvSpPr/>
            <p:nvPr/>
          </p:nvSpPr>
          <p:spPr>
            <a:xfrm>
              <a:off x="2655360" y="3355920"/>
              <a:ext cx="10080" cy="291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21">
                  <a:moveTo>
                    <a:pt x="7" y="21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2" name="Freeform 1224"/>
            <p:cNvSpPr/>
            <p:nvPr/>
          </p:nvSpPr>
          <p:spPr>
            <a:xfrm>
              <a:off x="2645280" y="3355920"/>
              <a:ext cx="10080" cy="19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3" name="Freeform 1225"/>
            <p:cNvSpPr/>
            <p:nvPr/>
          </p:nvSpPr>
          <p:spPr>
            <a:xfrm>
              <a:off x="2633760" y="342576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4" name="Freeform 1226"/>
            <p:cNvSpPr/>
            <p:nvPr/>
          </p:nvSpPr>
          <p:spPr>
            <a:xfrm>
              <a:off x="2623680" y="341604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5" name="Freeform 1227"/>
            <p:cNvSpPr/>
            <p:nvPr/>
          </p:nvSpPr>
          <p:spPr>
            <a:xfrm>
              <a:off x="2623680" y="341604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6" name="Freeform 1228"/>
            <p:cNvSpPr/>
            <p:nvPr/>
          </p:nvSpPr>
          <p:spPr>
            <a:xfrm>
              <a:off x="2612160" y="341604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9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7" name="Freeform 1229"/>
            <p:cNvSpPr/>
            <p:nvPr/>
          </p:nvSpPr>
          <p:spPr>
            <a:xfrm>
              <a:off x="2612160" y="342576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8" name="Freeform 1230"/>
            <p:cNvSpPr/>
            <p:nvPr/>
          </p:nvSpPr>
          <p:spPr>
            <a:xfrm>
              <a:off x="2602080" y="342576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9" name="Freeform 1231"/>
            <p:cNvSpPr/>
            <p:nvPr/>
          </p:nvSpPr>
          <p:spPr>
            <a:xfrm>
              <a:off x="2602080" y="416628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0" name="Freeform 1232"/>
            <p:cNvSpPr/>
            <p:nvPr/>
          </p:nvSpPr>
          <p:spPr>
            <a:xfrm>
              <a:off x="2590200" y="4156560"/>
              <a:ext cx="11520" cy="306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1" name="Freeform 1233"/>
            <p:cNvSpPr/>
            <p:nvPr/>
          </p:nvSpPr>
          <p:spPr>
            <a:xfrm>
              <a:off x="2590200" y="4156560"/>
              <a:ext cx="11520" cy="40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2" name="Freeform 1234"/>
            <p:cNvSpPr/>
            <p:nvPr/>
          </p:nvSpPr>
          <p:spPr>
            <a:xfrm>
              <a:off x="2580480" y="4156560"/>
              <a:ext cx="9720" cy="40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3" name="Freeform 1235"/>
            <p:cNvSpPr/>
            <p:nvPr/>
          </p:nvSpPr>
          <p:spPr>
            <a:xfrm>
              <a:off x="2580480" y="4166280"/>
              <a:ext cx="9720" cy="30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4" name="Freeform 1236"/>
            <p:cNvSpPr/>
            <p:nvPr/>
          </p:nvSpPr>
          <p:spPr>
            <a:xfrm>
              <a:off x="2568600" y="416628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15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5" name="Freeform 1237"/>
            <p:cNvSpPr/>
            <p:nvPr/>
          </p:nvSpPr>
          <p:spPr>
            <a:xfrm>
              <a:off x="2558520" y="377064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7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6" name="Freeform 1238"/>
            <p:cNvSpPr/>
            <p:nvPr/>
          </p:nvSpPr>
          <p:spPr>
            <a:xfrm>
              <a:off x="2547000" y="3760920"/>
              <a:ext cx="11160" cy="30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8" h="22">
                  <a:moveTo>
                    <a:pt x="8" y="22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7" name="Freeform 1239"/>
            <p:cNvSpPr/>
            <p:nvPr/>
          </p:nvSpPr>
          <p:spPr>
            <a:xfrm>
              <a:off x="2547000" y="376092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8" h="29">
                  <a:moveTo>
                    <a:pt x="8" y="22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8" name="Freeform 1240"/>
            <p:cNvSpPr/>
            <p:nvPr/>
          </p:nvSpPr>
          <p:spPr>
            <a:xfrm>
              <a:off x="2536920" y="3760920"/>
              <a:ext cx="10080" cy="40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" h="29">
                  <a:moveTo>
                    <a:pt x="7" y="2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9" name="Freeform 1241"/>
            <p:cNvSpPr/>
            <p:nvPr/>
          </p:nvSpPr>
          <p:spPr>
            <a:xfrm>
              <a:off x="2536920" y="377064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0" name="Freeform 1242"/>
            <p:cNvSpPr/>
            <p:nvPr/>
          </p:nvSpPr>
          <p:spPr>
            <a:xfrm>
              <a:off x="2526840" y="3770640"/>
              <a:ext cx="10080" cy="20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15">
                  <a:moveTo>
                    <a:pt x="7" y="1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1" name="Freeform 1243"/>
            <p:cNvSpPr/>
            <p:nvPr/>
          </p:nvSpPr>
          <p:spPr>
            <a:xfrm>
              <a:off x="2515320" y="3222720"/>
              <a:ext cx="11160" cy="20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8" h="15">
                  <a:moveTo>
                    <a:pt x="8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02" name="Freeform 1244"/>
            <p:cNvSpPr/>
            <p:nvPr/>
          </p:nvSpPr>
          <p:spPr>
            <a:xfrm>
              <a:off x="2505240" y="3213000"/>
              <a:ext cx="10080" cy="306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03" name="Freeform 1246"/>
          <p:cNvSpPr/>
          <p:nvPr/>
        </p:nvSpPr>
        <p:spPr>
          <a:xfrm>
            <a:off x="2505240" y="3213000"/>
            <a:ext cx="10800" cy="41400"/>
          </a:xfrm>
          <a:custGeom>
            <a:avLst/>
            <a:gdLst>
              <a:gd name="textAreaLeft" fmla="*/ 0 w 10800"/>
              <a:gd name="textAreaRight" fmla="*/ 11160 w 108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29">
                <a:moveTo>
                  <a:pt x="7" y="22"/>
                </a:moveTo>
                <a:lnTo>
                  <a:pt x="0" y="0"/>
                </a:lnTo>
                <a:lnTo>
                  <a:pt x="0" y="29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4" name="Freeform 1247"/>
          <p:cNvSpPr/>
          <p:nvPr/>
        </p:nvSpPr>
        <p:spPr>
          <a:xfrm>
            <a:off x="2494080" y="3213000"/>
            <a:ext cx="11160" cy="41400"/>
          </a:xfrm>
          <a:custGeom>
            <a:avLst/>
            <a:gdLst>
              <a:gd name="textAreaLeft" fmla="*/ 0 w 11160"/>
              <a:gd name="textAreaRight" fmla="*/ 11520 w 11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" h="29">
                <a:moveTo>
                  <a:pt x="8" y="29"/>
                </a:moveTo>
                <a:lnTo>
                  <a:pt x="0" y="7"/>
                </a:lnTo>
                <a:lnTo>
                  <a:pt x="8" y="0"/>
                </a:lnTo>
                <a:lnTo>
                  <a:pt x="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1080" bIns="1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5" name="Freeform 1248"/>
          <p:cNvSpPr/>
          <p:nvPr/>
        </p:nvSpPr>
        <p:spPr>
          <a:xfrm>
            <a:off x="2494080" y="3222720"/>
            <a:ext cx="11160" cy="31680"/>
          </a:xfrm>
          <a:custGeom>
            <a:avLst/>
            <a:gdLst>
              <a:gd name="textAreaLeft" fmla="*/ 0 w 11160"/>
              <a:gd name="textAreaRight" fmla="*/ 11520 w 11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0" y="15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6" name="Freeform 1249"/>
          <p:cNvSpPr/>
          <p:nvPr/>
        </p:nvSpPr>
        <p:spPr>
          <a:xfrm>
            <a:off x="2484360" y="3222720"/>
            <a:ext cx="9720" cy="21960"/>
          </a:xfrm>
          <a:custGeom>
            <a:avLst/>
            <a:gdLst>
              <a:gd name="textAreaLeft" fmla="*/ 0 w 9720"/>
              <a:gd name="textAreaRight" fmla="*/ 10080 w 9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" h="15">
                <a:moveTo>
                  <a:pt x="7" y="15"/>
                </a:moveTo>
                <a:lnTo>
                  <a:pt x="0" y="8"/>
                </a:lnTo>
                <a:lnTo>
                  <a:pt x="7" y="0"/>
                </a:lnTo>
                <a:lnTo>
                  <a:pt x="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8360" bIns="-18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7" name="Freeform 1250"/>
          <p:cNvSpPr/>
          <p:nvPr/>
        </p:nvSpPr>
        <p:spPr>
          <a:xfrm>
            <a:off x="2484360" y="3638520"/>
            <a:ext cx="9720" cy="22320"/>
          </a:xfrm>
          <a:custGeom>
            <a:avLst/>
            <a:gdLst>
              <a:gd name="textAreaLeft" fmla="*/ 0 w 9720"/>
              <a:gd name="textAreaRight" fmla="*/ 10080 w 97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7" h="15">
                <a:moveTo>
                  <a:pt x="7" y="7"/>
                </a:moveTo>
                <a:lnTo>
                  <a:pt x="0" y="0"/>
                </a:lnTo>
                <a:lnTo>
                  <a:pt x="0" y="15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8000" bIns="-18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8" name="Freeform 1251"/>
          <p:cNvSpPr/>
          <p:nvPr/>
        </p:nvSpPr>
        <p:spPr>
          <a:xfrm>
            <a:off x="2471760" y="3629160"/>
            <a:ext cx="12600" cy="31680"/>
          </a:xfrm>
          <a:custGeom>
            <a:avLst/>
            <a:gdLst>
              <a:gd name="textAreaLeft" fmla="*/ 0 w 12600"/>
              <a:gd name="textAreaRight" fmla="*/ 12960 w 12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7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9" name="Freeform 1252"/>
          <p:cNvSpPr/>
          <p:nvPr/>
        </p:nvSpPr>
        <p:spPr>
          <a:xfrm>
            <a:off x="2471760" y="3629160"/>
            <a:ext cx="12600" cy="41040"/>
          </a:xfrm>
          <a:custGeom>
            <a:avLst/>
            <a:gdLst>
              <a:gd name="textAreaLeft" fmla="*/ 0 w 12600"/>
              <a:gd name="textAreaRight" fmla="*/ 12960 w 126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20" bIns="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0" name="Freeform 1253"/>
          <p:cNvSpPr/>
          <p:nvPr/>
        </p:nvSpPr>
        <p:spPr>
          <a:xfrm>
            <a:off x="2462040" y="3629160"/>
            <a:ext cx="9720" cy="41040"/>
          </a:xfrm>
          <a:custGeom>
            <a:avLst/>
            <a:gdLst>
              <a:gd name="textAreaLeft" fmla="*/ 0 w 9720"/>
              <a:gd name="textAreaRight" fmla="*/ 10080 w 972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7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20" bIns="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1" name="Freeform 1254"/>
          <p:cNvSpPr/>
          <p:nvPr/>
        </p:nvSpPr>
        <p:spPr>
          <a:xfrm>
            <a:off x="2462040" y="3638520"/>
            <a:ext cx="9720" cy="31680"/>
          </a:xfrm>
          <a:custGeom>
            <a:avLst/>
            <a:gdLst>
              <a:gd name="textAreaLeft" fmla="*/ 0 w 9720"/>
              <a:gd name="textAreaRight" fmla="*/ 10080 w 97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" h="22">
                <a:moveTo>
                  <a:pt x="7" y="22"/>
                </a:moveTo>
                <a:lnTo>
                  <a:pt x="0" y="0"/>
                </a:lnTo>
                <a:lnTo>
                  <a:pt x="0" y="15"/>
                </a:lnTo>
                <a:lnTo>
                  <a:pt x="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2" name="Freeform 1255"/>
          <p:cNvSpPr/>
          <p:nvPr/>
        </p:nvSpPr>
        <p:spPr>
          <a:xfrm>
            <a:off x="2451240" y="3638520"/>
            <a:ext cx="10800" cy="22320"/>
          </a:xfrm>
          <a:custGeom>
            <a:avLst/>
            <a:gdLst>
              <a:gd name="textAreaLeft" fmla="*/ 0 w 10800"/>
              <a:gd name="textAreaRight" fmla="*/ 11160 w 10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" h="15">
                <a:moveTo>
                  <a:pt x="8" y="15"/>
                </a:moveTo>
                <a:lnTo>
                  <a:pt x="0" y="7"/>
                </a:lnTo>
                <a:lnTo>
                  <a:pt x="8" y="0"/>
                </a:lnTo>
                <a:lnTo>
                  <a:pt x="8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8000" bIns="-18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3" name="Freeform 1256"/>
          <p:cNvSpPr/>
          <p:nvPr/>
        </p:nvSpPr>
        <p:spPr>
          <a:xfrm>
            <a:off x="2440080" y="3233880"/>
            <a:ext cx="11160" cy="20520"/>
          </a:xfrm>
          <a:custGeom>
            <a:avLst/>
            <a:gdLst>
              <a:gd name="textAreaLeft" fmla="*/ 0 w 11160"/>
              <a:gd name="textAreaRight" fmla="*/ 11520 w 11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4" name="Freeform 1257"/>
          <p:cNvSpPr/>
          <p:nvPr/>
        </p:nvSpPr>
        <p:spPr>
          <a:xfrm>
            <a:off x="2428920" y="3222720"/>
            <a:ext cx="11160" cy="31680"/>
          </a:xfrm>
          <a:custGeom>
            <a:avLst/>
            <a:gdLst>
              <a:gd name="textAreaLeft" fmla="*/ 0 w 11160"/>
              <a:gd name="textAreaRight" fmla="*/ 11520 w 11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8" h="22">
                <a:moveTo>
                  <a:pt x="8" y="22"/>
                </a:moveTo>
                <a:lnTo>
                  <a:pt x="0" y="0"/>
                </a:lnTo>
                <a:lnTo>
                  <a:pt x="8" y="8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8640" bIns="-86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5" name="Freeform 1258"/>
          <p:cNvSpPr/>
          <p:nvPr/>
        </p:nvSpPr>
        <p:spPr>
          <a:xfrm>
            <a:off x="2428920" y="3222720"/>
            <a:ext cx="11160" cy="41040"/>
          </a:xfrm>
          <a:custGeom>
            <a:avLst/>
            <a:gdLst>
              <a:gd name="textAreaLeft" fmla="*/ 0 w 11160"/>
              <a:gd name="textAreaRight" fmla="*/ 11520 w 111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8" h="29">
                <a:moveTo>
                  <a:pt x="8" y="22"/>
                </a:moveTo>
                <a:lnTo>
                  <a:pt x="0" y="0"/>
                </a:lnTo>
                <a:lnTo>
                  <a:pt x="0" y="29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20" bIns="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6" name="Freeform 1259"/>
          <p:cNvSpPr/>
          <p:nvPr/>
        </p:nvSpPr>
        <p:spPr>
          <a:xfrm>
            <a:off x="2419200" y="3222720"/>
            <a:ext cx="9720" cy="41040"/>
          </a:xfrm>
          <a:custGeom>
            <a:avLst/>
            <a:gdLst>
              <a:gd name="textAreaLeft" fmla="*/ 0 w 9720"/>
              <a:gd name="textAreaRight" fmla="*/ 10080 w 972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7" h="29">
                <a:moveTo>
                  <a:pt x="7" y="29"/>
                </a:moveTo>
                <a:lnTo>
                  <a:pt x="0" y="8"/>
                </a:lnTo>
                <a:lnTo>
                  <a:pt x="7" y="0"/>
                </a:lnTo>
                <a:lnTo>
                  <a:pt x="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20" bIns="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7" name="Freeform 1260"/>
          <p:cNvSpPr/>
          <p:nvPr/>
        </p:nvSpPr>
        <p:spPr>
          <a:xfrm>
            <a:off x="2419200" y="3233880"/>
            <a:ext cx="9720" cy="29880"/>
          </a:xfrm>
          <a:custGeom>
            <a:avLst/>
            <a:gdLst>
              <a:gd name="textAreaLeft" fmla="*/ 0 w 9720"/>
              <a:gd name="textAreaRight" fmla="*/ 10080 w 972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7" h="21">
                <a:moveTo>
                  <a:pt x="7" y="21"/>
                </a:moveTo>
                <a:lnTo>
                  <a:pt x="0" y="0"/>
                </a:lnTo>
                <a:lnTo>
                  <a:pt x="0" y="14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8" name="Freeform 1261"/>
          <p:cNvSpPr/>
          <p:nvPr/>
        </p:nvSpPr>
        <p:spPr>
          <a:xfrm>
            <a:off x="2408400" y="3233880"/>
            <a:ext cx="10800" cy="20520"/>
          </a:xfrm>
          <a:custGeom>
            <a:avLst/>
            <a:gdLst>
              <a:gd name="textAreaLeft" fmla="*/ 0 w 10800"/>
              <a:gd name="textAreaRight" fmla="*/ 11160 w 108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7" h="14">
                <a:moveTo>
                  <a:pt x="7" y="14"/>
                </a:moveTo>
                <a:lnTo>
                  <a:pt x="0" y="7"/>
                </a:lnTo>
                <a:lnTo>
                  <a:pt x="7" y="0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9" name="Freeform 1262"/>
          <p:cNvSpPr/>
          <p:nvPr/>
        </p:nvSpPr>
        <p:spPr>
          <a:xfrm>
            <a:off x="2408400" y="3670200"/>
            <a:ext cx="10800" cy="19080"/>
          </a:xfrm>
          <a:custGeom>
            <a:avLst/>
            <a:gdLst>
              <a:gd name="textAreaLeft" fmla="*/ 0 w 10800"/>
              <a:gd name="textAreaRight" fmla="*/ 11160 w 108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14">
                <a:moveTo>
                  <a:pt x="7" y="7"/>
                </a:moveTo>
                <a:lnTo>
                  <a:pt x="0" y="0"/>
                </a:lnTo>
                <a:lnTo>
                  <a:pt x="0" y="14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0" name="Freeform 1263"/>
          <p:cNvSpPr/>
          <p:nvPr/>
        </p:nvSpPr>
        <p:spPr>
          <a:xfrm>
            <a:off x="2397240" y="3660840"/>
            <a:ext cx="11160" cy="28440"/>
          </a:xfrm>
          <a:custGeom>
            <a:avLst/>
            <a:gdLst>
              <a:gd name="textAreaLeft" fmla="*/ 0 w 11160"/>
              <a:gd name="textAreaRight" fmla="*/ 11520 w 111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" h="21">
                <a:moveTo>
                  <a:pt x="8" y="21"/>
                </a:moveTo>
                <a:lnTo>
                  <a:pt x="0" y="0"/>
                </a:lnTo>
                <a:lnTo>
                  <a:pt x="8" y="7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1880" bIns="-11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1" name="Freeform 1264"/>
          <p:cNvSpPr/>
          <p:nvPr/>
        </p:nvSpPr>
        <p:spPr>
          <a:xfrm>
            <a:off x="2397240" y="3660840"/>
            <a:ext cx="11160" cy="38160"/>
          </a:xfrm>
          <a:custGeom>
            <a:avLst/>
            <a:gdLst>
              <a:gd name="textAreaLeft" fmla="*/ 0 w 11160"/>
              <a:gd name="textAreaRight" fmla="*/ 11520 w 11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" h="28">
                <a:moveTo>
                  <a:pt x="8" y="21"/>
                </a:moveTo>
                <a:lnTo>
                  <a:pt x="0" y="0"/>
                </a:lnTo>
                <a:lnTo>
                  <a:pt x="0" y="28"/>
                </a:lnTo>
                <a:lnTo>
                  <a:pt x="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60" bIns="-21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2" name="Freeform 1265"/>
          <p:cNvSpPr/>
          <p:nvPr/>
        </p:nvSpPr>
        <p:spPr>
          <a:xfrm>
            <a:off x="2387520" y="3660840"/>
            <a:ext cx="9720" cy="38160"/>
          </a:xfrm>
          <a:custGeom>
            <a:avLst/>
            <a:gdLst>
              <a:gd name="textAreaLeft" fmla="*/ 0 w 9720"/>
              <a:gd name="textAreaRight" fmla="*/ 10080 w 97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" h="28">
                <a:moveTo>
                  <a:pt x="7" y="28"/>
                </a:moveTo>
                <a:lnTo>
                  <a:pt x="0" y="7"/>
                </a:lnTo>
                <a:lnTo>
                  <a:pt x="7" y="0"/>
                </a:lnTo>
                <a:lnTo>
                  <a:pt x="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60" bIns="-21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3" name="Freeform 1266"/>
          <p:cNvSpPr/>
          <p:nvPr/>
        </p:nvSpPr>
        <p:spPr>
          <a:xfrm>
            <a:off x="2387520" y="3670200"/>
            <a:ext cx="9720" cy="28800"/>
          </a:xfrm>
          <a:custGeom>
            <a:avLst/>
            <a:gdLst>
              <a:gd name="textAreaLeft" fmla="*/ 0 w 9720"/>
              <a:gd name="textAreaRight" fmla="*/ 10080 w 972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7" h="21">
                <a:moveTo>
                  <a:pt x="7" y="21"/>
                </a:moveTo>
                <a:lnTo>
                  <a:pt x="0" y="0"/>
                </a:lnTo>
                <a:lnTo>
                  <a:pt x="0" y="14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11520" bIns="-115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4" name="Freeform 1267"/>
          <p:cNvSpPr/>
          <p:nvPr/>
        </p:nvSpPr>
        <p:spPr>
          <a:xfrm>
            <a:off x="2374920" y="3670200"/>
            <a:ext cx="12600" cy="19080"/>
          </a:xfrm>
          <a:custGeom>
            <a:avLst/>
            <a:gdLst>
              <a:gd name="textAreaLeft" fmla="*/ 0 w 12600"/>
              <a:gd name="textAreaRight" fmla="*/ 12960 w 12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" h="14">
                <a:moveTo>
                  <a:pt x="8" y="14"/>
                </a:moveTo>
                <a:lnTo>
                  <a:pt x="0" y="7"/>
                </a:lnTo>
                <a:lnTo>
                  <a:pt x="8" y="0"/>
                </a:lnTo>
                <a:lnTo>
                  <a:pt x="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-21240" bIns="-212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5" name="Freeform 1268"/>
          <p:cNvSpPr/>
          <p:nvPr/>
        </p:nvSpPr>
        <p:spPr>
          <a:xfrm>
            <a:off x="2397240" y="2443320"/>
            <a:ext cx="1871640" cy="17319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731960"/>
              <a:gd name="textAreaBottom" fmla="*/ 1732320 h 1731960"/>
            </a:gdLst>
            <a:ahLst/>
            <a:rect l="textAreaLeft" t="textAreaTop" r="textAreaRight" b="textAreaBottom"/>
            <a:pathLst>
              <a:path w="1297" h="1237">
                <a:moveTo>
                  <a:pt x="0" y="883"/>
                </a:moveTo>
                <a:lnTo>
                  <a:pt x="22" y="572"/>
                </a:lnTo>
                <a:lnTo>
                  <a:pt x="52" y="861"/>
                </a:lnTo>
                <a:lnTo>
                  <a:pt x="75" y="565"/>
                </a:lnTo>
                <a:lnTo>
                  <a:pt x="104" y="955"/>
                </a:lnTo>
                <a:lnTo>
                  <a:pt x="134" y="1237"/>
                </a:lnTo>
                <a:lnTo>
                  <a:pt x="157" y="709"/>
                </a:lnTo>
                <a:lnTo>
                  <a:pt x="186" y="659"/>
                </a:lnTo>
                <a:lnTo>
                  <a:pt x="209" y="948"/>
                </a:lnTo>
                <a:lnTo>
                  <a:pt x="239" y="796"/>
                </a:lnTo>
                <a:lnTo>
                  <a:pt x="261" y="0"/>
                </a:lnTo>
                <a:lnTo>
                  <a:pt x="291" y="644"/>
                </a:lnTo>
                <a:lnTo>
                  <a:pt x="313" y="492"/>
                </a:lnTo>
                <a:lnTo>
                  <a:pt x="343" y="897"/>
                </a:lnTo>
                <a:lnTo>
                  <a:pt x="365" y="1035"/>
                </a:lnTo>
                <a:lnTo>
                  <a:pt x="395" y="623"/>
                </a:lnTo>
                <a:lnTo>
                  <a:pt x="425" y="485"/>
                </a:lnTo>
                <a:lnTo>
                  <a:pt x="447" y="854"/>
                </a:lnTo>
                <a:lnTo>
                  <a:pt x="477" y="775"/>
                </a:lnTo>
                <a:lnTo>
                  <a:pt x="500" y="1100"/>
                </a:lnTo>
                <a:lnTo>
                  <a:pt x="529" y="767"/>
                </a:lnTo>
                <a:lnTo>
                  <a:pt x="552" y="644"/>
                </a:lnTo>
                <a:lnTo>
                  <a:pt x="582" y="984"/>
                </a:lnTo>
                <a:lnTo>
                  <a:pt x="604" y="427"/>
                </a:lnTo>
                <a:lnTo>
                  <a:pt x="634" y="984"/>
                </a:lnTo>
                <a:lnTo>
                  <a:pt x="656" y="652"/>
                </a:lnTo>
                <a:lnTo>
                  <a:pt x="686" y="869"/>
                </a:lnTo>
                <a:lnTo>
                  <a:pt x="716" y="941"/>
                </a:lnTo>
                <a:lnTo>
                  <a:pt x="738" y="615"/>
                </a:lnTo>
                <a:lnTo>
                  <a:pt x="768" y="485"/>
                </a:lnTo>
                <a:lnTo>
                  <a:pt x="790" y="992"/>
                </a:lnTo>
                <a:lnTo>
                  <a:pt x="820" y="999"/>
                </a:lnTo>
                <a:lnTo>
                  <a:pt x="843" y="601"/>
                </a:lnTo>
                <a:lnTo>
                  <a:pt x="872" y="789"/>
                </a:lnTo>
                <a:lnTo>
                  <a:pt x="895" y="1100"/>
                </a:lnTo>
                <a:lnTo>
                  <a:pt x="925" y="615"/>
                </a:lnTo>
                <a:lnTo>
                  <a:pt x="947" y="825"/>
                </a:lnTo>
                <a:lnTo>
                  <a:pt x="977" y="442"/>
                </a:lnTo>
                <a:lnTo>
                  <a:pt x="1007" y="767"/>
                </a:lnTo>
                <a:lnTo>
                  <a:pt x="1029" y="594"/>
                </a:lnTo>
                <a:lnTo>
                  <a:pt x="1059" y="897"/>
                </a:lnTo>
                <a:lnTo>
                  <a:pt x="1081" y="435"/>
                </a:lnTo>
                <a:lnTo>
                  <a:pt x="1111" y="579"/>
                </a:lnTo>
                <a:lnTo>
                  <a:pt x="1133" y="340"/>
                </a:lnTo>
                <a:lnTo>
                  <a:pt x="1163" y="673"/>
                </a:lnTo>
                <a:lnTo>
                  <a:pt x="1186" y="760"/>
                </a:lnTo>
                <a:lnTo>
                  <a:pt x="1215" y="326"/>
                </a:lnTo>
                <a:lnTo>
                  <a:pt x="1238" y="420"/>
                </a:lnTo>
                <a:lnTo>
                  <a:pt x="1268" y="565"/>
                </a:lnTo>
                <a:lnTo>
                  <a:pt x="1297" y="80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6" name="Freeform 1269"/>
          <p:cNvSpPr/>
          <p:nvPr/>
        </p:nvSpPr>
        <p:spPr>
          <a:xfrm>
            <a:off x="5442120" y="4510080"/>
            <a:ext cx="1871640" cy="5475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1297" h="391">
                <a:moveTo>
                  <a:pt x="0" y="340"/>
                </a:moveTo>
                <a:lnTo>
                  <a:pt x="30" y="239"/>
                </a:lnTo>
                <a:lnTo>
                  <a:pt x="60" y="304"/>
                </a:lnTo>
                <a:lnTo>
                  <a:pt x="82" y="326"/>
                </a:lnTo>
                <a:lnTo>
                  <a:pt x="112" y="333"/>
                </a:lnTo>
                <a:lnTo>
                  <a:pt x="134" y="282"/>
                </a:lnTo>
                <a:lnTo>
                  <a:pt x="164" y="297"/>
                </a:lnTo>
                <a:lnTo>
                  <a:pt x="187" y="318"/>
                </a:lnTo>
                <a:lnTo>
                  <a:pt x="216" y="347"/>
                </a:lnTo>
                <a:lnTo>
                  <a:pt x="239" y="123"/>
                </a:lnTo>
                <a:lnTo>
                  <a:pt x="269" y="275"/>
                </a:lnTo>
                <a:lnTo>
                  <a:pt x="291" y="80"/>
                </a:lnTo>
                <a:lnTo>
                  <a:pt x="321" y="152"/>
                </a:lnTo>
                <a:lnTo>
                  <a:pt x="351" y="195"/>
                </a:lnTo>
                <a:lnTo>
                  <a:pt x="373" y="116"/>
                </a:lnTo>
                <a:lnTo>
                  <a:pt x="403" y="195"/>
                </a:lnTo>
                <a:lnTo>
                  <a:pt x="425" y="159"/>
                </a:lnTo>
                <a:lnTo>
                  <a:pt x="455" y="0"/>
                </a:lnTo>
                <a:lnTo>
                  <a:pt x="477" y="261"/>
                </a:lnTo>
                <a:lnTo>
                  <a:pt x="507" y="275"/>
                </a:lnTo>
                <a:lnTo>
                  <a:pt x="530" y="138"/>
                </a:lnTo>
                <a:lnTo>
                  <a:pt x="559" y="268"/>
                </a:lnTo>
                <a:lnTo>
                  <a:pt x="582" y="116"/>
                </a:lnTo>
                <a:lnTo>
                  <a:pt x="612" y="362"/>
                </a:lnTo>
                <a:lnTo>
                  <a:pt x="641" y="167"/>
                </a:lnTo>
                <a:lnTo>
                  <a:pt x="664" y="195"/>
                </a:lnTo>
                <a:lnTo>
                  <a:pt x="694" y="261"/>
                </a:lnTo>
                <a:lnTo>
                  <a:pt x="716" y="217"/>
                </a:lnTo>
                <a:lnTo>
                  <a:pt x="746" y="340"/>
                </a:lnTo>
                <a:lnTo>
                  <a:pt x="768" y="130"/>
                </a:lnTo>
                <a:lnTo>
                  <a:pt x="798" y="217"/>
                </a:lnTo>
                <a:lnTo>
                  <a:pt x="820" y="290"/>
                </a:lnTo>
                <a:lnTo>
                  <a:pt x="850" y="376"/>
                </a:lnTo>
                <a:lnTo>
                  <a:pt x="872" y="290"/>
                </a:lnTo>
                <a:lnTo>
                  <a:pt x="902" y="203"/>
                </a:lnTo>
                <a:lnTo>
                  <a:pt x="932" y="217"/>
                </a:lnTo>
                <a:lnTo>
                  <a:pt x="954" y="261"/>
                </a:lnTo>
                <a:lnTo>
                  <a:pt x="984" y="246"/>
                </a:lnTo>
                <a:lnTo>
                  <a:pt x="1007" y="333"/>
                </a:lnTo>
                <a:lnTo>
                  <a:pt x="1037" y="87"/>
                </a:lnTo>
                <a:lnTo>
                  <a:pt x="1059" y="36"/>
                </a:lnTo>
                <a:lnTo>
                  <a:pt x="1089" y="261"/>
                </a:lnTo>
                <a:lnTo>
                  <a:pt x="1111" y="217"/>
                </a:lnTo>
                <a:lnTo>
                  <a:pt x="1141" y="224"/>
                </a:lnTo>
                <a:lnTo>
                  <a:pt x="1163" y="391"/>
                </a:lnTo>
                <a:lnTo>
                  <a:pt x="1193" y="318"/>
                </a:lnTo>
                <a:lnTo>
                  <a:pt x="1223" y="275"/>
                </a:lnTo>
                <a:lnTo>
                  <a:pt x="1245" y="181"/>
                </a:lnTo>
                <a:lnTo>
                  <a:pt x="1275" y="152"/>
                </a:lnTo>
                <a:lnTo>
                  <a:pt x="1297" y="2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7" name="Rectangle 1272"/>
          <p:cNvSpPr/>
          <p:nvPr/>
        </p:nvSpPr>
        <p:spPr>
          <a:xfrm>
            <a:off x="1363320" y="2778120"/>
            <a:ext cx="90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8" name="Rectangle 1273"/>
          <p:cNvSpPr/>
          <p:nvPr/>
        </p:nvSpPr>
        <p:spPr>
          <a:xfrm>
            <a:off x="1467360" y="2778120"/>
            <a:ext cx="7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9" name="Rectangle 1274"/>
          <p:cNvSpPr/>
          <p:nvPr/>
        </p:nvSpPr>
        <p:spPr>
          <a:xfrm>
            <a:off x="1549800" y="2778120"/>
            <a:ext cx="8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0" name="Rectangle 1275"/>
          <p:cNvSpPr/>
          <p:nvPr/>
        </p:nvSpPr>
        <p:spPr>
          <a:xfrm>
            <a:off x="1398600" y="4692600"/>
            <a:ext cx="10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1" name="Rectangle 1276"/>
          <p:cNvSpPr/>
          <p:nvPr/>
        </p:nvSpPr>
        <p:spPr>
          <a:xfrm>
            <a:off x="1506240" y="4692600"/>
            <a:ext cx="8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2" name="Rectangle 1277"/>
          <p:cNvSpPr/>
          <p:nvPr/>
        </p:nvSpPr>
        <p:spPr>
          <a:xfrm>
            <a:off x="1593000" y="4692600"/>
            <a:ext cx="8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3" name="Rectangle 1278"/>
          <p:cNvSpPr/>
          <p:nvPr/>
        </p:nvSpPr>
        <p:spPr>
          <a:xfrm>
            <a:off x="1679400" y="4692600"/>
            <a:ext cx="8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4" name="Oval 3"/>
          <p:cNvSpPr/>
          <p:nvPr/>
        </p:nvSpPr>
        <p:spPr>
          <a:xfrm>
            <a:off x="5448240" y="2797200"/>
            <a:ext cx="1920960" cy="1295280"/>
          </a:xfrm>
          <a:prstGeom prst="ellipse">
            <a:avLst/>
          </a:prstGeom>
          <a:solidFill>
            <a:srgbClr val="ef91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alibri"/>
              </a:rPr>
              <a:t>LeanSixSigm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alibri"/>
              </a:rPr>
              <a:t>Breakthroug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alibri"/>
              </a:rPr>
              <a:t>R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5" name="Text Box 4"/>
          <p:cNvSpPr/>
          <p:nvPr/>
        </p:nvSpPr>
        <p:spPr>
          <a:xfrm>
            <a:off x="1074600" y="506880"/>
            <a:ext cx="58546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The Influence of LeanSixSigma?</a:t>
            </a:r>
            <a:endParaRPr b="0" lang="en-US" sz="2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6" name="Text Box 642"/>
          <p:cNvSpPr/>
          <p:nvPr/>
        </p:nvSpPr>
        <p:spPr>
          <a:xfrm>
            <a:off x="3121200" y="1665360"/>
            <a:ext cx="16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7" name="Freeform 1279"/>
          <p:cNvSpPr/>
          <p:nvPr/>
        </p:nvSpPr>
        <p:spPr>
          <a:xfrm>
            <a:off x="4319640" y="3494160"/>
            <a:ext cx="1074600" cy="1395360"/>
          </a:xfrm>
          <a:custGeom>
            <a:avLst/>
            <a:gdLst>
              <a:gd name="textAreaLeft" fmla="*/ 0 w 1074600"/>
              <a:gd name="textAreaRight" fmla="*/ 1074960 w 107460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1297" h="1237">
                <a:moveTo>
                  <a:pt x="0" y="883"/>
                </a:moveTo>
                <a:lnTo>
                  <a:pt x="22" y="572"/>
                </a:lnTo>
                <a:lnTo>
                  <a:pt x="52" y="861"/>
                </a:lnTo>
                <a:lnTo>
                  <a:pt x="75" y="565"/>
                </a:lnTo>
                <a:lnTo>
                  <a:pt x="104" y="955"/>
                </a:lnTo>
                <a:lnTo>
                  <a:pt x="134" y="1237"/>
                </a:lnTo>
                <a:lnTo>
                  <a:pt x="157" y="709"/>
                </a:lnTo>
                <a:lnTo>
                  <a:pt x="186" y="659"/>
                </a:lnTo>
                <a:lnTo>
                  <a:pt x="209" y="948"/>
                </a:lnTo>
                <a:lnTo>
                  <a:pt x="239" y="796"/>
                </a:lnTo>
                <a:lnTo>
                  <a:pt x="261" y="0"/>
                </a:lnTo>
                <a:lnTo>
                  <a:pt x="291" y="644"/>
                </a:lnTo>
                <a:lnTo>
                  <a:pt x="313" y="492"/>
                </a:lnTo>
                <a:lnTo>
                  <a:pt x="343" y="897"/>
                </a:lnTo>
                <a:lnTo>
                  <a:pt x="365" y="1035"/>
                </a:lnTo>
                <a:lnTo>
                  <a:pt x="395" y="623"/>
                </a:lnTo>
                <a:lnTo>
                  <a:pt x="425" y="485"/>
                </a:lnTo>
                <a:lnTo>
                  <a:pt x="447" y="854"/>
                </a:lnTo>
                <a:lnTo>
                  <a:pt x="477" y="775"/>
                </a:lnTo>
                <a:lnTo>
                  <a:pt x="500" y="1100"/>
                </a:lnTo>
                <a:lnTo>
                  <a:pt x="529" y="767"/>
                </a:lnTo>
                <a:lnTo>
                  <a:pt x="552" y="644"/>
                </a:lnTo>
                <a:lnTo>
                  <a:pt x="582" y="984"/>
                </a:lnTo>
                <a:lnTo>
                  <a:pt x="604" y="427"/>
                </a:lnTo>
                <a:lnTo>
                  <a:pt x="634" y="984"/>
                </a:lnTo>
                <a:lnTo>
                  <a:pt x="656" y="652"/>
                </a:lnTo>
                <a:lnTo>
                  <a:pt x="686" y="869"/>
                </a:lnTo>
                <a:lnTo>
                  <a:pt x="716" y="941"/>
                </a:lnTo>
                <a:lnTo>
                  <a:pt x="738" y="615"/>
                </a:lnTo>
                <a:lnTo>
                  <a:pt x="768" y="485"/>
                </a:lnTo>
                <a:lnTo>
                  <a:pt x="790" y="992"/>
                </a:lnTo>
                <a:lnTo>
                  <a:pt x="820" y="999"/>
                </a:lnTo>
                <a:lnTo>
                  <a:pt x="843" y="601"/>
                </a:lnTo>
                <a:lnTo>
                  <a:pt x="872" y="789"/>
                </a:lnTo>
                <a:lnTo>
                  <a:pt x="895" y="1100"/>
                </a:lnTo>
                <a:lnTo>
                  <a:pt x="925" y="615"/>
                </a:lnTo>
                <a:lnTo>
                  <a:pt x="947" y="825"/>
                </a:lnTo>
                <a:lnTo>
                  <a:pt x="977" y="442"/>
                </a:lnTo>
                <a:lnTo>
                  <a:pt x="1007" y="767"/>
                </a:lnTo>
                <a:lnTo>
                  <a:pt x="1029" y="594"/>
                </a:lnTo>
                <a:lnTo>
                  <a:pt x="1059" y="897"/>
                </a:lnTo>
                <a:lnTo>
                  <a:pt x="1081" y="435"/>
                </a:lnTo>
                <a:lnTo>
                  <a:pt x="1111" y="579"/>
                </a:lnTo>
                <a:lnTo>
                  <a:pt x="1133" y="340"/>
                </a:lnTo>
                <a:lnTo>
                  <a:pt x="1163" y="673"/>
                </a:lnTo>
                <a:lnTo>
                  <a:pt x="1186" y="760"/>
                </a:lnTo>
                <a:lnTo>
                  <a:pt x="1215" y="326"/>
                </a:lnTo>
                <a:lnTo>
                  <a:pt x="1238" y="420"/>
                </a:lnTo>
                <a:lnTo>
                  <a:pt x="1268" y="565"/>
                </a:lnTo>
                <a:lnTo>
                  <a:pt x="1297" y="80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8" name="Line 1280"/>
          <p:cNvSpPr/>
          <p:nvPr/>
        </p:nvSpPr>
        <p:spPr>
          <a:xfrm flipV="1">
            <a:off x="2424240" y="3497400"/>
            <a:ext cx="1893600" cy="158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-23760" bIns="-237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9" name="Line 1281"/>
          <p:cNvSpPr/>
          <p:nvPr/>
        </p:nvSpPr>
        <p:spPr>
          <a:xfrm>
            <a:off x="4341960" y="4344840"/>
            <a:ext cx="10792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-39600" bIns="-396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0" name="Line 1283"/>
          <p:cNvSpPr/>
          <p:nvPr/>
        </p:nvSpPr>
        <p:spPr>
          <a:xfrm>
            <a:off x="5391000" y="4849920"/>
            <a:ext cx="1992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-39600" bIns="-396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1" name="Line 1284"/>
          <p:cNvSpPr/>
          <p:nvPr/>
        </p:nvSpPr>
        <p:spPr>
          <a:xfrm>
            <a:off x="4341960" y="2341440"/>
            <a:ext cx="0" cy="2857680"/>
          </a:xfrm>
          <a:prstGeom prst="line">
            <a:avLst/>
          </a:prstGeom>
          <a:ln w="255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2" name="Line 1285"/>
          <p:cNvSpPr/>
          <p:nvPr/>
        </p:nvSpPr>
        <p:spPr>
          <a:xfrm>
            <a:off x="5403960" y="2352600"/>
            <a:ext cx="0" cy="2857680"/>
          </a:xfrm>
          <a:prstGeom prst="line">
            <a:avLst/>
          </a:prstGeom>
          <a:ln w="255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3" name="Text Box 1286"/>
          <p:cNvSpPr/>
          <p:nvPr/>
        </p:nvSpPr>
        <p:spPr>
          <a:xfrm>
            <a:off x="2879640" y="2352600"/>
            <a:ext cx="1279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alibri"/>
              </a:rPr>
              <a:t>Baseline Proc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4" name="Text Box 1288"/>
          <p:cNvSpPr/>
          <p:nvPr/>
        </p:nvSpPr>
        <p:spPr>
          <a:xfrm>
            <a:off x="4410000" y="2352600"/>
            <a:ext cx="765360" cy="628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ean R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AutoShape 1027"/>
          <p:cNvSpPr/>
          <p:nvPr/>
        </p:nvSpPr>
        <p:spPr>
          <a:xfrm rot="21513000">
            <a:off x="6284880" y="1263240"/>
            <a:ext cx="1700280" cy="1679760"/>
          </a:xfrm>
          <a:prstGeom prst="flowChartConnector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Lea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6" name="AutoShape 1028"/>
          <p:cNvSpPr/>
          <p:nvPr/>
        </p:nvSpPr>
        <p:spPr>
          <a:xfrm>
            <a:off x="5284800" y="787320"/>
            <a:ext cx="2463840" cy="2363760"/>
          </a:xfrm>
          <a:prstGeom prst="flowChartConnector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7" name="AutoShape 1029"/>
          <p:cNvSpPr/>
          <p:nvPr/>
        </p:nvSpPr>
        <p:spPr>
          <a:xfrm>
            <a:off x="5786280" y="1208160"/>
            <a:ext cx="1657440" cy="1649520"/>
          </a:xfrm>
          <a:prstGeom prst="flowChartConnector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ix Sigm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8" name="AutoShape 1031"/>
          <p:cNvSpPr/>
          <p:nvPr/>
        </p:nvSpPr>
        <p:spPr>
          <a:xfrm>
            <a:off x="4246560" y="2001960"/>
            <a:ext cx="1450800" cy="1274760"/>
          </a:xfrm>
          <a:prstGeom prst="flowChartConnector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Kaizen  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9" name="AutoShape 1032"/>
          <p:cNvSpPr/>
          <p:nvPr/>
        </p:nvSpPr>
        <p:spPr>
          <a:xfrm>
            <a:off x="3247920" y="2500200"/>
            <a:ext cx="1281240" cy="1274760"/>
          </a:xfrm>
          <a:prstGeom prst="flowChartConnector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8 D  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0" name="AutoShape 1033"/>
          <p:cNvSpPr/>
          <p:nvPr/>
        </p:nvSpPr>
        <p:spPr>
          <a:xfrm>
            <a:off x="2193840" y="2960640"/>
            <a:ext cx="1357560" cy="1274760"/>
          </a:xfrm>
          <a:prstGeom prst="flowChartConnector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PM 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1" name="Rectangle 1034"/>
          <p:cNvSpPr/>
          <p:nvPr/>
        </p:nvSpPr>
        <p:spPr>
          <a:xfrm rot="19999800">
            <a:off x="5426280" y="944640"/>
            <a:ext cx="1544040" cy="41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Lean+Sigm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2" name="Text Box 1035"/>
          <p:cNvSpPr/>
          <p:nvPr/>
        </p:nvSpPr>
        <p:spPr>
          <a:xfrm>
            <a:off x="2283480" y="4934880"/>
            <a:ext cx="1483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loor-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3" name="Text Box 1036"/>
          <p:cNvSpPr/>
          <p:nvPr/>
        </p:nvSpPr>
        <p:spPr>
          <a:xfrm>
            <a:off x="4194000" y="5172840"/>
            <a:ext cx="13824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rganiz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4" name="Text Box 1037"/>
          <p:cNvSpPr/>
          <p:nvPr/>
        </p:nvSpPr>
        <p:spPr>
          <a:xfrm>
            <a:off x="6051600" y="4926240"/>
            <a:ext cx="17391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pecialist Drive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5" name="Text Box 1038"/>
          <p:cNvSpPr/>
          <p:nvPr/>
        </p:nvSpPr>
        <p:spPr>
          <a:xfrm>
            <a:off x="3274560" y="475920"/>
            <a:ext cx="22392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eanSixSigma</a:t>
            </a:r>
            <a:endParaRPr b="0" lang="en-US" sz="2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6" name="Text Box 1039"/>
          <p:cNvSpPr/>
          <p:nvPr/>
        </p:nvSpPr>
        <p:spPr>
          <a:xfrm>
            <a:off x="671400" y="779400"/>
            <a:ext cx="112572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roa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cop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arro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7" name="Line 1040"/>
          <p:cNvSpPr/>
          <p:nvPr/>
        </p:nvSpPr>
        <p:spPr>
          <a:xfrm>
            <a:off x="1938240" y="609480"/>
            <a:ext cx="0" cy="4189680"/>
          </a:xfrm>
          <a:prstGeom prst="line">
            <a:avLst/>
          </a:prstGeom>
          <a:ln w="2556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8" name="Line 1041"/>
          <p:cNvSpPr/>
          <p:nvPr/>
        </p:nvSpPr>
        <p:spPr>
          <a:xfrm>
            <a:off x="1928880" y="4773600"/>
            <a:ext cx="6033960" cy="0"/>
          </a:xfrm>
          <a:prstGeom prst="line">
            <a:avLst/>
          </a:prstGeom>
          <a:ln w="2556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61"/>
          <p:cNvSpPr/>
          <p:nvPr/>
        </p:nvSpPr>
        <p:spPr>
          <a:xfrm>
            <a:off x="765000" y="476280"/>
            <a:ext cx="70884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Project Selection VSM:  Future State</a:t>
            </a:r>
            <a:endParaRPr b="0" lang="en-US" sz="29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60" name="Group 101"/>
          <p:cNvGrpSpPr/>
          <p:nvPr/>
        </p:nvGrpSpPr>
        <p:grpSpPr>
          <a:xfrm>
            <a:off x="693720" y="1390680"/>
            <a:ext cx="7983360" cy="4660920"/>
            <a:chOff x="693720" y="1390680"/>
            <a:chExt cx="7983360" cy="4660920"/>
          </a:xfrm>
        </p:grpSpPr>
        <p:sp>
          <p:nvSpPr>
            <p:cNvPr id="961" name="AutoShape 63"/>
            <p:cNvSpPr/>
            <p:nvPr/>
          </p:nvSpPr>
          <p:spPr>
            <a:xfrm>
              <a:off x="3628080" y="2636640"/>
              <a:ext cx="1512720" cy="856440"/>
            </a:xfrm>
            <a:prstGeom prst="pi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477647"/>
                </a:gs>
              </a:gsLst>
              <a:lin ang="5400000"/>
            </a:gra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d4d4d"/>
                  </a:solidFill>
                  <a:latin typeface="Calibri"/>
                </a:rPr>
                <a:t>Lean/Six Sigma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project hopper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2" name="Rectangle 64"/>
            <p:cNvSpPr/>
            <p:nvPr/>
          </p:nvSpPr>
          <p:spPr>
            <a:xfrm>
              <a:off x="3999240" y="1390680"/>
              <a:ext cx="672120" cy="5450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d4d4d"/>
                  </a:solidFill>
                  <a:latin typeface="Calibri"/>
                </a:rPr>
                <a:t>VSM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63" name="Group 65"/>
            <p:cNvGrpSpPr/>
            <p:nvPr/>
          </p:nvGrpSpPr>
          <p:grpSpPr>
            <a:xfrm>
              <a:off x="4002480" y="3960360"/>
              <a:ext cx="808560" cy="155520"/>
              <a:chOff x="4002480" y="3960360"/>
              <a:chExt cx="808560" cy="155520"/>
            </a:xfrm>
          </p:grpSpPr>
          <p:sp>
            <p:nvSpPr>
              <p:cNvPr id="964" name="AutoShape 66"/>
              <p:cNvSpPr/>
              <p:nvPr/>
            </p:nvSpPr>
            <p:spPr>
              <a:xfrm>
                <a:off x="4002480" y="3960360"/>
                <a:ext cx="167760" cy="155520"/>
              </a:xfrm>
              <a:prstGeom prst="flowChartConnector">
                <a:avLst/>
              </a:prstGeom>
              <a:solidFill>
                <a:srgbClr val="4d4d4d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5" name="AutoShape 67"/>
              <p:cNvSpPr/>
              <p:nvPr/>
            </p:nvSpPr>
            <p:spPr>
              <a:xfrm>
                <a:off x="4322880" y="3960360"/>
                <a:ext cx="167760" cy="155520"/>
              </a:xfrm>
              <a:prstGeom prst="flowChartConnector">
                <a:avLst/>
              </a:prstGeom>
              <a:solidFill>
                <a:srgbClr val="4d4d4d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6" name="AutoShape 68"/>
              <p:cNvSpPr/>
              <p:nvPr/>
            </p:nvSpPr>
            <p:spPr>
              <a:xfrm>
                <a:off x="4643280" y="3960360"/>
                <a:ext cx="167760" cy="155520"/>
              </a:xfrm>
              <a:prstGeom prst="flowChartConnector">
                <a:avLst/>
              </a:prstGeom>
              <a:solidFill>
                <a:srgbClr val="4d4d4d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67" name="Text Box 69"/>
            <p:cNvSpPr/>
            <p:nvPr/>
          </p:nvSpPr>
          <p:spPr>
            <a:xfrm>
              <a:off x="3690720" y="4102920"/>
              <a:ext cx="1428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C.I.   Lean   BB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8" name="Rectangle 71"/>
            <p:cNvSpPr/>
            <p:nvPr/>
          </p:nvSpPr>
          <p:spPr>
            <a:xfrm>
              <a:off x="693720" y="5361840"/>
              <a:ext cx="3781800" cy="687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9" name="Rectangle 72"/>
            <p:cNvSpPr/>
            <p:nvPr/>
          </p:nvSpPr>
          <p:spPr>
            <a:xfrm>
              <a:off x="1365840" y="5439960"/>
              <a:ext cx="504000" cy="31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0" name="Line 73"/>
            <p:cNvSpPr/>
            <p:nvPr/>
          </p:nvSpPr>
          <p:spPr>
            <a:xfrm flipV="1">
              <a:off x="1869840" y="5595120"/>
              <a:ext cx="477720" cy="32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1" name="AutoShape 74"/>
            <p:cNvSpPr/>
            <p:nvPr/>
          </p:nvSpPr>
          <p:spPr>
            <a:xfrm rot="16200000">
              <a:off x="1961280" y="5508000"/>
              <a:ext cx="189720" cy="17280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2" name="Rectangle 75"/>
            <p:cNvSpPr/>
            <p:nvPr/>
          </p:nvSpPr>
          <p:spPr>
            <a:xfrm>
              <a:off x="2347920" y="5443200"/>
              <a:ext cx="476280" cy="311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3" name="Line 76"/>
            <p:cNvSpPr/>
            <p:nvPr/>
          </p:nvSpPr>
          <p:spPr>
            <a:xfrm flipV="1">
              <a:off x="2827800" y="5593680"/>
              <a:ext cx="477720" cy="32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4" name="AutoShape 77"/>
            <p:cNvSpPr/>
            <p:nvPr/>
          </p:nvSpPr>
          <p:spPr>
            <a:xfrm rot="16200000">
              <a:off x="2921040" y="5504400"/>
              <a:ext cx="189720" cy="17316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Rectangle 78"/>
            <p:cNvSpPr/>
            <p:nvPr/>
          </p:nvSpPr>
          <p:spPr>
            <a:xfrm>
              <a:off x="3309120" y="5438160"/>
              <a:ext cx="477720" cy="31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76" name="Group 79"/>
            <p:cNvGrpSpPr/>
            <p:nvPr/>
          </p:nvGrpSpPr>
          <p:grpSpPr>
            <a:xfrm>
              <a:off x="3979800" y="5516280"/>
              <a:ext cx="351360" cy="205560"/>
              <a:chOff x="3979800" y="5516280"/>
              <a:chExt cx="351360" cy="205560"/>
            </a:xfrm>
          </p:grpSpPr>
          <p:sp>
            <p:nvSpPr>
              <p:cNvPr id="977" name="Rectangle 80"/>
              <p:cNvSpPr/>
              <p:nvPr/>
            </p:nvSpPr>
            <p:spPr>
              <a:xfrm>
                <a:off x="3979800" y="5516280"/>
                <a:ext cx="244800" cy="150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8" name="Rectangle 81"/>
              <p:cNvSpPr/>
              <p:nvPr/>
            </p:nvSpPr>
            <p:spPr>
              <a:xfrm>
                <a:off x="4224600" y="5583960"/>
                <a:ext cx="106560" cy="82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9" name="Oval 82"/>
              <p:cNvSpPr/>
              <p:nvPr/>
            </p:nvSpPr>
            <p:spPr>
              <a:xfrm>
                <a:off x="4011120" y="5664960"/>
                <a:ext cx="61200" cy="56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80" name="Oval 83"/>
              <p:cNvSpPr/>
              <p:nvPr/>
            </p:nvSpPr>
            <p:spPr>
              <a:xfrm>
                <a:off x="4251240" y="5664960"/>
                <a:ext cx="60840" cy="56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81" name="Line 84"/>
            <p:cNvSpPr/>
            <p:nvPr/>
          </p:nvSpPr>
          <p:spPr>
            <a:xfrm>
              <a:off x="3783600" y="5597280"/>
              <a:ext cx="195840" cy="14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82" name="Group 85"/>
            <p:cNvGrpSpPr/>
            <p:nvPr/>
          </p:nvGrpSpPr>
          <p:grpSpPr>
            <a:xfrm>
              <a:off x="810720" y="5491800"/>
              <a:ext cx="351360" cy="205560"/>
              <a:chOff x="810720" y="5491800"/>
              <a:chExt cx="351360" cy="205560"/>
            </a:xfrm>
          </p:grpSpPr>
          <p:sp>
            <p:nvSpPr>
              <p:cNvPr id="983" name="Rectangle 86"/>
              <p:cNvSpPr/>
              <p:nvPr/>
            </p:nvSpPr>
            <p:spPr>
              <a:xfrm>
                <a:off x="810720" y="5491800"/>
                <a:ext cx="244800" cy="150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84" name="Rectangle 87"/>
              <p:cNvSpPr/>
              <p:nvPr/>
            </p:nvSpPr>
            <p:spPr>
              <a:xfrm>
                <a:off x="1055520" y="5559480"/>
                <a:ext cx="106560" cy="82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85" name="Oval 88"/>
              <p:cNvSpPr/>
              <p:nvPr/>
            </p:nvSpPr>
            <p:spPr>
              <a:xfrm>
                <a:off x="842040" y="5640480"/>
                <a:ext cx="61560" cy="56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86" name="Oval 89"/>
              <p:cNvSpPr/>
              <p:nvPr/>
            </p:nvSpPr>
            <p:spPr>
              <a:xfrm>
                <a:off x="1082160" y="5640480"/>
                <a:ext cx="60840" cy="56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87" name="Line 90"/>
            <p:cNvSpPr/>
            <p:nvPr/>
          </p:nvSpPr>
          <p:spPr>
            <a:xfrm>
              <a:off x="1164600" y="5589360"/>
              <a:ext cx="195840" cy="14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8" name="Text Box 91"/>
            <p:cNvSpPr/>
            <p:nvPr/>
          </p:nvSpPr>
          <p:spPr>
            <a:xfrm>
              <a:off x="1491840" y="5790240"/>
              <a:ext cx="2269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Manufacturing Process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9" name="Rectangle 92"/>
            <p:cNvSpPr/>
            <p:nvPr/>
          </p:nvSpPr>
          <p:spPr>
            <a:xfrm>
              <a:off x="4979520" y="5361840"/>
              <a:ext cx="1764720" cy="466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Transactional Process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0" name="Rectangle 93"/>
            <p:cNvSpPr/>
            <p:nvPr/>
          </p:nvSpPr>
          <p:spPr>
            <a:xfrm>
              <a:off x="6828480" y="5361840"/>
              <a:ext cx="1764720" cy="466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Product Design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1" name="AutoShape 94"/>
            <p:cNvSpPr/>
            <p:nvPr/>
          </p:nvSpPr>
          <p:spPr>
            <a:xfrm>
              <a:off x="693720" y="4894560"/>
              <a:ext cx="3781800" cy="389520"/>
            </a:xfrm>
            <a:prstGeom prst="cloudCallout">
              <a:avLst>
                <a:gd name="adj1" fmla="val -29305"/>
                <a:gd name="adj2" fmla="val 36666"/>
              </a:avLst>
            </a:prstGeom>
            <a:solidFill>
              <a:srgbClr val="ccec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Plant Staff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2" name="AutoShape 95"/>
            <p:cNvSpPr/>
            <p:nvPr/>
          </p:nvSpPr>
          <p:spPr>
            <a:xfrm>
              <a:off x="4895280" y="4894560"/>
              <a:ext cx="3781800" cy="389520"/>
            </a:xfrm>
            <a:prstGeom prst="cloudCallout">
              <a:avLst>
                <a:gd name="adj1" fmla="val -28935"/>
                <a:gd name="adj2" fmla="val 26666"/>
              </a:avLst>
            </a:prstGeom>
            <a:solidFill>
              <a:srgbClr val="ccec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   </a:t>
              </a: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Project Staff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3" name="Line 96"/>
            <p:cNvSpPr/>
            <p:nvPr/>
          </p:nvSpPr>
          <p:spPr>
            <a:xfrm flipH="1">
              <a:off x="2864160" y="4383720"/>
              <a:ext cx="1572120" cy="95508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4" name="Line 97"/>
            <p:cNvSpPr/>
            <p:nvPr/>
          </p:nvSpPr>
          <p:spPr>
            <a:xfrm>
              <a:off x="4422960" y="4386960"/>
              <a:ext cx="1179720" cy="93564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5" name="Line 98"/>
            <p:cNvSpPr/>
            <p:nvPr/>
          </p:nvSpPr>
          <p:spPr>
            <a:xfrm>
              <a:off x="4356360" y="1955160"/>
              <a:ext cx="1440" cy="66816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6" name="Line 99"/>
            <p:cNvSpPr/>
            <p:nvPr/>
          </p:nvSpPr>
          <p:spPr>
            <a:xfrm>
              <a:off x="4422960" y="4383720"/>
              <a:ext cx="2972520" cy="92628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7" name="Line 100"/>
            <p:cNvSpPr/>
            <p:nvPr/>
          </p:nvSpPr>
          <p:spPr>
            <a:xfrm>
              <a:off x="4377240" y="3519000"/>
              <a:ext cx="1440" cy="37620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0"/>
          <p:cNvSpPr/>
          <p:nvPr/>
        </p:nvSpPr>
        <p:spPr>
          <a:xfrm>
            <a:off x="4040280" y="5246640"/>
            <a:ext cx="2452680" cy="8920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Rectangle 19"/>
          <p:cNvSpPr/>
          <p:nvPr/>
        </p:nvSpPr>
        <p:spPr>
          <a:xfrm>
            <a:off x="3900600" y="5126040"/>
            <a:ext cx="2454120" cy="8920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Rectangle 18"/>
          <p:cNvSpPr/>
          <p:nvPr/>
        </p:nvSpPr>
        <p:spPr>
          <a:xfrm>
            <a:off x="3762360" y="5016600"/>
            <a:ext cx="2452680" cy="8920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652400" y="503280"/>
            <a:ext cx="5609880" cy="519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0808"/>
                </a:solidFill>
                <a:latin typeface="Arial"/>
              </a:rPr>
              <a:t>Project Alignment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2" name="Rectangle 8"/>
          <p:cNvSpPr/>
          <p:nvPr/>
        </p:nvSpPr>
        <p:spPr>
          <a:xfrm>
            <a:off x="1531800" y="1654200"/>
            <a:ext cx="2454480" cy="8920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3" name="Rectangle 9"/>
          <p:cNvSpPr/>
          <p:nvPr/>
        </p:nvSpPr>
        <p:spPr>
          <a:xfrm>
            <a:off x="1405080" y="1503360"/>
            <a:ext cx="2452680" cy="892080"/>
          </a:xfrm>
          <a:prstGeom prst="rect">
            <a:avLst/>
          </a:prstGeom>
          <a:solidFill>
            <a:srgbClr val="ff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Customer 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Expectation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4" name="Rectangle 10"/>
          <p:cNvSpPr/>
          <p:nvPr/>
        </p:nvSpPr>
        <p:spPr>
          <a:xfrm>
            <a:off x="5722920" y="1649520"/>
            <a:ext cx="2454120" cy="8920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5" name="Rectangle 11"/>
          <p:cNvSpPr/>
          <p:nvPr/>
        </p:nvSpPr>
        <p:spPr>
          <a:xfrm>
            <a:off x="5595840" y="1498680"/>
            <a:ext cx="2452680" cy="892080"/>
          </a:xfrm>
          <a:prstGeom prst="rect">
            <a:avLst/>
          </a:prstGeom>
          <a:solidFill>
            <a:srgbClr val="ff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Busines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Objective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Rectangle 12"/>
          <p:cNvSpPr/>
          <p:nvPr/>
        </p:nvSpPr>
        <p:spPr>
          <a:xfrm>
            <a:off x="3614760" y="2881440"/>
            <a:ext cx="2454120" cy="8920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Rectangle 13"/>
          <p:cNvSpPr/>
          <p:nvPr/>
        </p:nvSpPr>
        <p:spPr>
          <a:xfrm>
            <a:off x="2903400" y="2657520"/>
            <a:ext cx="3829320" cy="965160"/>
          </a:xfrm>
          <a:prstGeom prst="rect">
            <a:avLst/>
          </a:prstGeom>
          <a:solidFill>
            <a:srgbClr val="ff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Value Stream Map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Rectangle 14"/>
          <p:cNvSpPr/>
          <p:nvPr/>
        </p:nvSpPr>
        <p:spPr>
          <a:xfrm>
            <a:off x="3624120" y="4906800"/>
            <a:ext cx="2452680" cy="8924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Rectangle 15"/>
          <p:cNvSpPr/>
          <p:nvPr/>
        </p:nvSpPr>
        <p:spPr>
          <a:xfrm>
            <a:off x="3521160" y="4743360"/>
            <a:ext cx="2454120" cy="892440"/>
          </a:xfrm>
          <a:prstGeom prst="rect">
            <a:avLst/>
          </a:prstGeom>
          <a:solidFill>
            <a:srgbClr val="ff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Lean Six Sigma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Project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AutoShape 22"/>
          <p:cNvSpPr/>
          <p:nvPr/>
        </p:nvSpPr>
        <p:spPr>
          <a:xfrm>
            <a:off x="3357720" y="3776760"/>
            <a:ext cx="2795400" cy="1047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Calibri"/>
              </a:rPr>
              <a:t>Project 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Calibri"/>
              </a:rPr>
              <a:t>Selection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AutoShape 23"/>
          <p:cNvSpPr/>
          <p:nvPr/>
        </p:nvSpPr>
        <p:spPr>
          <a:xfrm rot="10891800">
            <a:off x="6893640" y="2537640"/>
            <a:ext cx="995400" cy="1171800"/>
          </a:xfrm>
          <a:custGeom>
            <a:avLst/>
            <a:gdLst>
              <a:gd name="textAreaLeft" fmla="*/ 572760 w 995400"/>
              <a:gd name="textAreaRight" fmla="*/ 840240 w 995400"/>
              <a:gd name="textAreaTop" fmla="*/ 157680 h 1171800"/>
              <a:gd name="textAreaBottom" fmla="*/ 501480 h 1171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AutoShape 24"/>
          <p:cNvSpPr/>
          <p:nvPr/>
        </p:nvSpPr>
        <p:spPr>
          <a:xfrm rot="10891800">
            <a:off x="6858000" y="2595240"/>
            <a:ext cx="1092240" cy="1173240"/>
          </a:xfrm>
          <a:custGeom>
            <a:avLst/>
            <a:gdLst>
              <a:gd name="textAreaLeft" fmla="*/ 628560 w 1092240"/>
              <a:gd name="textAreaRight" fmla="*/ 921960 w 1092240"/>
              <a:gd name="textAreaTop" fmla="*/ 158040 h 1173240"/>
              <a:gd name="textAreaBottom" fmla="*/ 502200 h 1173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AutoShape 32"/>
          <p:cNvSpPr/>
          <p:nvPr/>
        </p:nvSpPr>
        <p:spPr>
          <a:xfrm flipH="1" rot="10708200">
            <a:off x="1644120" y="2542320"/>
            <a:ext cx="1189080" cy="1181160"/>
          </a:xfrm>
          <a:custGeom>
            <a:avLst/>
            <a:gdLst>
              <a:gd name="textAreaLeft" fmla="*/ 683640 w 1189080"/>
              <a:gd name="textAreaRight" fmla="*/ 1003320 w 1189080"/>
              <a:gd name="textAreaTop" fmla="*/ 159120 h 1181160"/>
              <a:gd name="textAreaBottom" fmla="*/ 505440 h 1181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AutoShape 33"/>
          <p:cNvSpPr/>
          <p:nvPr/>
        </p:nvSpPr>
        <p:spPr>
          <a:xfrm flipH="1" rot="10708200">
            <a:off x="1587960" y="2602080"/>
            <a:ext cx="1328760" cy="1171080"/>
          </a:xfrm>
          <a:custGeom>
            <a:avLst/>
            <a:gdLst>
              <a:gd name="textAreaLeft" fmla="*/ 764640 w 1328760"/>
              <a:gd name="textAreaRight" fmla="*/ 1121400 w 1328760"/>
              <a:gd name="textAreaTop" fmla="*/ 157680 h 1171080"/>
              <a:gd name="textAreaBottom" fmla="*/ 501120 h 1171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40"/>
          <p:cNvSpPr/>
          <p:nvPr/>
        </p:nvSpPr>
        <p:spPr>
          <a:xfrm>
            <a:off x="4976640" y="1839960"/>
            <a:ext cx="331812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6" name="AutoShape 22"/>
          <p:cNvSpPr/>
          <p:nvPr/>
        </p:nvSpPr>
        <p:spPr>
          <a:xfrm>
            <a:off x="2600280" y="1849320"/>
            <a:ext cx="1893960" cy="1501920"/>
          </a:xfrm>
          <a:prstGeom prst="rightArrow">
            <a:avLst>
              <a:gd name="adj1" fmla="val 50000"/>
              <a:gd name="adj2" fmla="val 30597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44280" y="439560"/>
            <a:ext cx="6505560" cy="519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0808"/>
                </a:solidFill>
                <a:latin typeface="Arial"/>
              </a:rPr>
              <a:t>LeanSixSigma? Project Timeline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8" name="AutoShape 19"/>
          <p:cNvSpPr/>
          <p:nvPr/>
        </p:nvSpPr>
        <p:spPr>
          <a:xfrm>
            <a:off x="1212840" y="2224080"/>
            <a:ext cx="1131840" cy="74916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55" y="0"/>
                </a:lnTo>
                <a:lnTo>
                  <a:pt x="21600" y="10800"/>
                </a:lnTo>
                <a:lnTo>
                  <a:pt x="16355" y="21600"/>
                </a:lnTo>
                <a:lnTo>
                  <a:pt x="0" y="21600"/>
                </a:lnTo>
                <a:lnTo>
                  <a:pt x="5245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DM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AutoShape 20"/>
          <p:cNvSpPr/>
          <p:nvPr/>
        </p:nvSpPr>
        <p:spPr>
          <a:xfrm>
            <a:off x="2057400" y="2230560"/>
            <a:ext cx="1133640" cy="749160"/>
          </a:xfrm>
          <a:custGeom>
            <a:avLst/>
            <a:gdLst>
              <a:gd name="textAreaLeft" fmla="*/ 0 w 1133640"/>
              <a:gd name="textAreaRight" fmla="*/ 1134000 w 113364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62" y="0"/>
                </a:lnTo>
                <a:lnTo>
                  <a:pt x="21600" y="10800"/>
                </a:lnTo>
                <a:lnTo>
                  <a:pt x="16362" y="21600"/>
                </a:lnTo>
                <a:lnTo>
                  <a:pt x="0" y="21600"/>
                </a:lnTo>
                <a:lnTo>
                  <a:pt x="5238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Al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AutoShape 21"/>
          <p:cNvSpPr/>
          <p:nvPr/>
        </p:nvSpPr>
        <p:spPr>
          <a:xfrm>
            <a:off x="2911320" y="2225520"/>
            <a:ext cx="1132200" cy="749520"/>
          </a:xfrm>
          <a:custGeom>
            <a:avLst/>
            <a:gdLst>
              <a:gd name="textAreaLeft" fmla="*/ 0 w 1132200"/>
              <a:gd name="textAreaRight" fmla="*/ 1132560 w 113220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55" y="0"/>
                </a:lnTo>
                <a:lnTo>
                  <a:pt x="21600" y="10800"/>
                </a:lnTo>
                <a:lnTo>
                  <a:pt x="16355" y="21600"/>
                </a:lnTo>
                <a:lnTo>
                  <a:pt x="0" y="21600"/>
                </a:lnTo>
                <a:lnTo>
                  <a:pt x="5245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WordArt 25"/>
          <p:cNvSpPr txBox="1"/>
          <p:nvPr/>
        </p:nvSpPr>
        <p:spPr>
          <a:xfrm>
            <a:off x="1755720" y="1643040"/>
            <a:ext cx="183672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nSixSigma</a:t>
            </a:r>
            <a:endParaRPr b="0" lang="en-US" sz="25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2" name="Line 27"/>
          <p:cNvSpPr/>
          <p:nvPr/>
        </p:nvSpPr>
        <p:spPr>
          <a:xfrm>
            <a:off x="1389240" y="1684440"/>
            <a:ext cx="279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Line 28"/>
          <p:cNvSpPr/>
          <p:nvPr/>
        </p:nvSpPr>
        <p:spPr>
          <a:xfrm>
            <a:off x="1278000" y="1779480"/>
            <a:ext cx="38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Line 29"/>
          <p:cNvSpPr/>
          <p:nvPr/>
        </p:nvSpPr>
        <p:spPr>
          <a:xfrm>
            <a:off x="1166760" y="1889280"/>
            <a:ext cx="49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WordArt 30"/>
          <p:cNvSpPr txBox="1"/>
          <p:nvPr/>
        </p:nvSpPr>
        <p:spPr>
          <a:xfrm>
            <a:off x="1332000" y="3108240"/>
            <a:ext cx="16016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low hanging fruits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6" name="Rectangle 32"/>
          <p:cNvSpPr/>
          <p:nvPr/>
        </p:nvSpPr>
        <p:spPr>
          <a:xfrm>
            <a:off x="920880" y="4554360"/>
            <a:ext cx="1865160" cy="8002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DM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Rectangle 33"/>
          <p:cNvSpPr/>
          <p:nvPr/>
        </p:nvSpPr>
        <p:spPr>
          <a:xfrm>
            <a:off x="2786040" y="4549680"/>
            <a:ext cx="1866960" cy="801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A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Rectangle 34"/>
          <p:cNvSpPr/>
          <p:nvPr/>
        </p:nvSpPr>
        <p:spPr>
          <a:xfrm>
            <a:off x="4653000" y="4557600"/>
            <a:ext cx="1865160" cy="801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l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Rectangle 35"/>
          <p:cNvSpPr/>
          <p:nvPr/>
        </p:nvSpPr>
        <p:spPr>
          <a:xfrm>
            <a:off x="6518160" y="4554360"/>
            <a:ext cx="1866960" cy="8002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WordArt 36"/>
          <p:cNvSpPr txBox="1"/>
          <p:nvPr/>
        </p:nvSpPr>
        <p:spPr>
          <a:xfrm>
            <a:off x="1195560" y="4040280"/>
            <a:ext cx="127296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nSix Sigma</a:t>
            </a:r>
            <a:endParaRPr b="0" lang="en-US" sz="25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1" name="WordArt 37"/>
          <p:cNvSpPr txBox="1"/>
          <p:nvPr/>
        </p:nvSpPr>
        <p:spPr>
          <a:xfrm>
            <a:off x="1055520" y="5487840"/>
            <a:ext cx="300528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~ 4 - 6 Months for breakthrough projects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2" name="Rectangle 39"/>
          <p:cNvSpPr/>
          <p:nvPr/>
        </p:nvSpPr>
        <p:spPr>
          <a:xfrm>
            <a:off x="4876920" y="1654200"/>
            <a:ext cx="3317760" cy="1590480"/>
          </a:xfrm>
          <a:prstGeom prst="rect">
            <a:avLst/>
          </a:prstGeom>
          <a:solidFill>
            <a:srgbClr val="ff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DM = 4/5 Day Kaizen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Al = 5 Day Kaizen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C = 30 Day Follow Up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4"/>
          <p:cNvSpPr/>
          <p:nvPr/>
        </p:nvSpPr>
        <p:spPr>
          <a:xfrm>
            <a:off x="1949400" y="376920"/>
            <a:ext cx="53611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eanSixSigma? Summary</a:t>
            </a:r>
            <a:endParaRPr b="0" lang="en-US" sz="29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34" name="Picture 3" descr=""/>
          <p:cNvPicPr/>
          <p:nvPr/>
        </p:nvPicPr>
        <p:blipFill>
          <a:blip r:embed="rId1"/>
          <a:stretch/>
        </p:blipFill>
        <p:spPr>
          <a:xfrm>
            <a:off x="361800" y="1055520"/>
            <a:ext cx="8418600" cy="47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2" descr="C:\TEMP\auto0.bmp"/>
          <p:cNvPicPr/>
          <p:nvPr/>
        </p:nvPicPr>
        <p:blipFill>
          <a:blip r:embed="rId1"/>
          <a:srcRect l="0" t="0" r="17607" b="10303"/>
          <a:stretch/>
        </p:blipFill>
        <p:spPr>
          <a:xfrm>
            <a:off x="2127240" y="1623960"/>
            <a:ext cx="5845320" cy="497700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754360" y="299880"/>
            <a:ext cx="3222720" cy="519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0808"/>
                </a:solidFill>
                <a:latin typeface="Arial"/>
              </a:rPr>
              <a:t>LeanSixSigma?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7" name="AutoShape 7"/>
          <p:cNvSpPr/>
          <p:nvPr/>
        </p:nvSpPr>
        <p:spPr>
          <a:xfrm>
            <a:off x="6060960" y="1037520"/>
            <a:ext cx="2737080" cy="2063160"/>
          </a:xfrm>
          <a:prstGeom prst="wedgeEllipseCallout">
            <a:avLst>
              <a:gd name="adj1" fmla="val -58981"/>
              <a:gd name="adj2" fmla="val 21685"/>
            </a:avLst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on’t worry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rope is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ne inch thick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n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vera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8" name="AutoShape 8"/>
          <p:cNvSpPr/>
          <p:nvPr/>
        </p:nvSpPr>
        <p:spPr>
          <a:xfrm>
            <a:off x="1108080" y="3484080"/>
            <a:ext cx="2736720" cy="1283400"/>
          </a:xfrm>
          <a:prstGeom prst="wedgeEllipseCallout">
            <a:avLst>
              <a:gd name="adj1" fmla="val 122875"/>
              <a:gd name="adj2" fmla="val 144921"/>
            </a:avLst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’m worried about the Variation, Not just the Avera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2"/>
          <p:cNvSpPr/>
          <p:nvPr/>
        </p:nvSpPr>
        <p:spPr>
          <a:xfrm>
            <a:off x="4284720" y="1844640"/>
            <a:ext cx="39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ww.BeyondLean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WordArt 3"/>
          <p:cNvSpPr txBox="1"/>
          <p:nvPr/>
        </p:nvSpPr>
        <p:spPr>
          <a:xfrm>
            <a:off x="4356000" y="119700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9bfc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9bfc0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8295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Beyond Lean Online Resources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476000"/>
            <a:ext cx="77040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Certification Courses and Exam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Workbook Download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Membership Online Training Video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LeanSigma Fast Action Implementation Guid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" name="Picture 4" descr="members-card.jpg"/>
          <p:cNvPicPr/>
          <p:nvPr/>
        </p:nvPicPr>
        <p:blipFill>
          <a:blip r:embed="rId1"/>
          <a:stretch/>
        </p:blipFill>
        <p:spPr>
          <a:xfrm>
            <a:off x="3581280" y="3886200"/>
            <a:ext cx="2590920" cy="19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w-box.jpg"/>
          <p:cNvPicPr/>
          <p:nvPr/>
        </p:nvPicPr>
        <p:blipFill>
          <a:blip r:embed="rId2"/>
          <a:stretch/>
        </p:blipFill>
        <p:spPr>
          <a:xfrm>
            <a:off x="228600" y="1447920"/>
            <a:ext cx="22780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94" name="TextBox 7"/>
          <p:cNvGrpSpPr/>
          <p:nvPr/>
        </p:nvGrpSpPr>
        <p:grpSpPr>
          <a:xfrm>
            <a:off x="2792520" y="3164040"/>
            <a:ext cx="4383000" cy="817560"/>
            <a:chOff x="2792520" y="3164040"/>
            <a:chExt cx="4383000" cy="817560"/>
          </a:xfrm>
        </p:grpSpPr>
        <p:pic>
          <p:nvPicPr>
            <p:cNvPr id="95" name="TextBox 7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3164040"/>
              <a:ext cx="438300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00400" y="32004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d9bfc0"/>
                  </a:solidFill>
                  <a:uFillTx/>
                  <a:latin typeface="Arial"/>
                  <a:hlinkClick r:id="rId5"/>
                </a:rPr>
                <a:t>Order Support Products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C:\TEMP\auto0.bmp"/>
          <p:cNvPicPr/>
          <p:nvPr/>
        </p:nvPicPr>
        <p:blipFill>
          <a:blip r:embed="rId1"/>
          <a:srcRect l="0" t="0" r="17607" b="10303"/>
          <a:stretch/>
        </p:blipFill>
        <p:spPr>
          <a:xfrm>
            <a:off x="533520" y="1027080"/>
            <a:ext cx="5844960" cy="4977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15840" y="363600"/>
            <a:ext cx="3220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a1ffc"/>
                </a:solidFill>
                <a:latin typeface="Arial"/>
              </a:rPr>
              <a:t>LeanSixSigma?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4495680" y="605880"/>
            <a:ext cx="3886200" cy="2062440"/>
          </a:xfrm>
          <a:prstGeom prst="wedgeEllipseCallout">
            <a:avLst>
              <a:gd name="adj1" fmla="val -61277"/>
              <a:gd name="adj2" fmla="val 16509"/>
            </a:avLst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on’t worry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rope is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ne inch thick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n the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vera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5"/>
          <p:cNvSpPr/>
          <p:nvPr/>
        </p:nvSpPr>
        <p:spPr>
          <a:xfrm>
            <a:off x="411120" y="1670040"/>
            <a:ext cx="7997760" cy="476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Line 46"/>
          <p:cNvSpPr/>
          <p:nvPr/>
        </p:nvSpPr>
        <p:spPr>
          <a:xfrm>
            <a:off x="968400" y="2098800"/>
            <a:ext cx="1440" cy="370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2" name="Group 49"/>
          <p:cNvGrpSpPr/>
          <p:nvPr/>
        </p:nvGrpSpPr>
        <p:grpSpPr>
          <a:xfrm>
            <a:off x="968400" y="5765760"/>
            <a:ext cx="7141680" cy="85680"/>
            <a:chOff x="968400" y="5765760"/>
            <a:chExt cx="7141680" cy="85680"/>
          </a:xfrm>
        </p:grpSpPr>
        <p:sp>
          <p:nvSpPr>
            <p:cNvPr id="103" name="Line 47"/>
            <p:cNvSpPr/>
            <p:nvPr/>
          </p:nvSpPr>
          <p:spPr>
            <a:xfrm>
              <a:off x="968400" y="5800680"/>
              <a:ext cx="70826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8010720" y="5765760"/>
              <a:ext cx="99360" cy="85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9" h="61">
                  <a:moveTo>
                    <a:pt x="0" y="61"/>
                  </a:moveTo>
                  <a:lnTo>
                    <a:pt x="69" y="25"/>
                  </a:lnTo>
                  <a:lnTo>
                    <a:pt x="0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5" name="Rectangle 50"/>
          <p:cNvSpPr/>
          <p:nvPr/>
        </p:nvSpPr>
        <p:spPr>
          <a:xfrm>
            <a:off x="1467000" y="2098800"/>
            <a:ext cx="6086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Rectangle 51"/>
          <p:cNvSpPr/>
          <p:nvPr/>
        </p:nvSpPr>
        <p:spPr>
          <a:xfrm>
            <a:off x="2502000" y="4753080"/>
            <a:ext cx="3938400" cy="633240"/>
          </a:xfrm>
          <a:prstGeom prst="rect">
            <a:avLst/>
          </a:prstGeom>
          <a:solidFill>
            <a:srgbClr val="fcfeb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Rectangle 52"/>
          <p:cNvSpPr/>
          <p:nvPr/>
        </p:nvSpPr>
        <p:spPr>
          <a:xfrm>
            <a:off x="3920760" y="4840200"/>
            <a:ext cx="131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ming PDC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Rectangle 53"/>
          <p:cNvSpPr/>
          <p:nvPr/>
        </p:nvSpPr>
        <p:spPr>
          <a:xfrm>
            <a:off x="3614760" y="3998880"/>
            <a:ext cx="3681360" cy="582480"/>
          </a:xfrm>
          <a:prstGeom prst="rect">
            <a:avLst/>
          </a:prstGeom>
          <a:solidFill>
            <a:srgbClr val="c0fef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Rectangle 54"/>
          <p:cNvSpPr/>
          <p:nvPr/>
        </p:nvSpPr>
        <p:spPr>
          <a:xfrm>
            <a:off x="4236840" y="4000680"/>
            <a:ext cx="225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yota Lean Produ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Rectangle 55"/>
          <p:cNvSpPr/>
          <p:nvPr/>
        </p:nvSpPr>
        <p:spPr>
          <a:xfrm>
            <a:off x="5017680" y="4240080"/>
            <a:ext cx="83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Line 56"/>
          <p:cNvSpPr/>
          <p:nvPr/>
        </p:nvSpPr>
        <p:spPr>
          <a:xfrm>
            <a:off x="1646280" y="5748480"/>
            <a:ext cx="0" cy="10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Line 57"/>
          <p:cNvSpPr/>
          <p:nvPr/>
        </p:nvSpPr>
        <p:spPr>
          <a:xfrm>
            <a:off x="2679840" y="5748480"/>
            <a:ext cx="1440" cy="10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>
            <a:off x="3495600" y="5748480"/>
            <a:ext cx="1800" cy="10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Rectangle 59"/>
          <p:cNvSpPr/>
          <p:nvPr/>
        </p:nvSpPr>
        <p:spPr>
          <a:xfrm>
            <a:off x="5583240" y="3193920"/>
            <a:ext cx="2389320" cy="600120"/>
          </a:xfrm>
          <a:prstGeom prst="rect">
            <a:avLst/>
          </a:prstGeom>
          <a:solidFill>
            <a:srgbClr val="f6bf6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Rectangle 60"/>
          <p:cNvSpPr/>
          <p:nvPr/>
        </p:nvSpPr>
        <p:spPr>
          <a:xfrm>
            <a:off x="6306120" y="3330720"/>
            <a:ext cx="89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 Sigm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Line 61"/>
          <p:cNvSpPr/>
          <p:nvPr/>
        </p:nvSpPr>
        <p:spPr>
          <a:xfrm>
            <a:off x="5027760" y="5748480"/>
            <a:ext cx="0" cy="10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Line 62"/>
          <p:cNvSpPr/>
          <p:nvPr/>
        </p:nvSpPr>
        <p:spPr>
          <a:xfrm>
            <a:off x="5703840" y="5748480"/>
            <a:ext cx="1800" cy="10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Line 63"/>
          <p:cNvSpPr/>
          <p:nvPr/>
        </p:nvSpPr>
        <p:spPr>
          <a:xfrm>
            <a:off x="6380280" y="5748480"/>
            <a:ext cx="1440" cy="10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Line 64"/>
          <p:cNvSpPr/>
          <p:nvPr/>
        </p:nvSpPr>
        <p:spPr>
          <a:xfrm>
            <a:off x="7732800" y="5748480"/>
            <a:ext cx="1440" cy="10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Rectangle 65"/>
          <p:cNvSpPr/>
          <p:nvPr/>
        </p:nvSpPr>
        <p:spPr>
          <a:xfrm>
            <a:off x="1387440" y="5851440"/>
            <a:ext cx="436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Rectangle 66"/>
          <p:cNvSpPr/>
          <p:nvPr/>
        </p:nvSpPr>
        <p:spPr>
          <a:xfrm>
            <a:off x="1477800" y="5886360"/>
            <a:ext cx="20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93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Rectangle 67"/>
          <p:cNvSpPr/>
          <p:nvPr/>
        </p:nvSpPr>
        <p:spPr>
          <a:xfrm>
            <a:off x="2440080" y="5851440"/>
            <a:ext cx="419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Rectangle 68"/>
          <p:cNvSpPr/>
          <p:nvPr/>
        </p:nvSpPr>
        <p:spPr>
          <a:xfrm>
            <a:off x="2531160" y="5886360"/>
            <a:ext cx="20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94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Rectangle 69"/>
          <p:cNvSpPr/>
          <p:nvPr/>
        </p:nvSpPr>
        <p:spPr>
          <a:xfrm>
            <a:off x="3236760" y="5851440"/>
            <a:ext cx="5367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Rectangle 70"/>
          <p:cNvSpPr/>
          <p:nvPr/>
        </p:nvSpPr>
        <p:spPr>
          <a:xfrm>
            <a:off x="3328200" y="5886360"/>
            <a:ext cx="20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95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Rectangle 71"/>
          <p:cNvSpPr/>
          <p:nvPr/>
        </p:nvSpPr>
        <p:spPr>
          <a:xfrm>
            <a:off x="4789440" y="5851440"/>
            <a:ext cx="415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Rectangle 72"/>
          <p:cNvSpPr/>
          <p:nvPr/>
        </p:nvSpPr>
        <p:spPr>
          <a:xfrm>
            <a:off x="4859280" y="5886360"/>
            <a:ext cx="20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97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73"/>
          <p:cNvSpPr/>
          <p:nvPr/>
        </p:nvSpPr>
        <p:spPr>
          <a:xfrm>
            <a:off x="5465880" y="5851440"/>
            <a:ext cx="417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74"/>
          <p:cNvSpPr/>
          <p:nvPr/>
        </p:nvSpPr>
        <p:spPr>
          <a:xfrm>
            <a:off x="5536440" y="5886360"/>
            <a:ext cx="20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98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Rectangle 75"/>
          <p:cNvSpPr/>
          <p:nvPr/>
        </p:nvSpPr>
        <p:spPr>
          <a:xfrm>
            <a:off x="6140520" y="5851440"/>
            <a:ext cx="419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Rectangle 76"/>
          <p:cNvSpPr/>
          <p:nvPr/>
        </p:nvSpPr>
        <p:spPr>
          <a:xfrm>
            <a:off x="6213240" y="5886360"/>
            <a:ext cx="20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99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Line 77"/>
          <p:cNvSpPr/>
          <p:nvPr/>
        </p:nvSpPr>
        <p:spPr>
          <a:xfrm>
            <a:off x="4232160" y="5748480"/>
            <a:ext cx="1800" cy="102960"/>
          </a:xfrm>
          <a:prstGeom prst="line">
            <a:avLst/>
          </a:prstGeom>
          <a:ln cap="rnd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Rectangle 78"/>
          <p:cNvSpPr/>
          <p:nvPr/>
        </p:nvSpPr>
        <p:spPr>
          <a:xfrm>
            <a:off x="3852720" y="5851440"/>
            <a:ext cx="417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Rectangle 79"/>
          <p:cNvSpPr/>
          <p:nvPr/>
        </p:nvSpPr>
        <p:spPr>
          <a:xfrm>
            <a:off x="3944160" y="5886360"/>
            <a:ext cx="20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960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Line 80"/>
          <p:cNvSpPr/>
          <p:nvPr/>
        </p:nvSpPr>
        <p:spPr>
          <a:xfrm>
            <a:off x="7116840" y="5748480"/>
            <a:ext cx="1440" cy="102960"/>
          </a:xfrm>
          <a:prstGeom prst="line">
            <a:avLst/>
          </a:prstGeom>
          <a:ln cap="rnd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6818400" y="5851440"/>
            <a:ext cx="4777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Rectangle 82"/>
          <p:cNvSpPr/>
          <p:nvPr/>
        </p:nvSpPr>
        <p:spPr>
          <a:xfrm>
            <a:off x="6893280" y="5886360"/>
            <a:ext cx="25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000+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885960" y="505440"/>
            <a:ext cx="6535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PDCA / Lean / Six Sigma Evolution</a:t>
            </a:r>
            <a:endParaRPr b="0" lang="en-US" sz="2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Text Box 44"/>
          <p:cNvSpPr/>
          <p:nvPr/>
        </p:nvSpPr>
        <p:spPr>
          <a:xfrm rot="19723800">
            <a:off x="1579680" y="3103920"/>
            <a:ext cx="3193920" cy="6310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0000"/>
                </a:solidFill>
                <a:latin typeface="Calibri"/>
              </a:rPr>
              <a:t>Overlapping, Evolutionary Initiativ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19"/>
          <p:cNvGrpSpPr/>
          <p:nvPr/>
        </p:nvGrpSpPr>
        <p:grpSpPr>
          <a:xfrm>
            <a:off x="1506600" y="1511280"/>
            <a:ext cx="6581520" cy="4261680"/>
            <a:chOff x="1506600" y="1511280"/>
            <a:chExt cx="6581520" cy="4261680"/>
          </a:xfrm>
        </p:grpSpPr>
        <p:sp>
          <p:nvSpPr>
            <p:cNvPr id="141" name="AutoShape 61"/>
            <p:cNvSpPr/>
            <p:nvPr/>
          </p:nvSpPr>
          <p:spPr>
            <a:xfrm>
              <a:off x="2278800" y="2990520"/>
              <a:ext cx="1236600" cy="739440"/>
            </a:xfrm>
            <a:prstGeom prst="pi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477647"/>
                </a:gs>
              </a:gsLst>
              <a:lin ang="5400000"/>
            </a:gra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d4d4d"/>
                  </a:solidFill>
                  <a:latin typeface="Calibri"/>
                </a:rPr>
                <a:t>Lean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d4d4d"/>
                  </a:solidFill>
                  <a:latin typeface="Calibri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project hopper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2" name="AutoShape 62"/>
            <p:cNvSpPr/>
            <p:nvPr/>
          </p:nvSpPr>
          <p:spPr>
            <a:xfrm>
              <a:off x="4693320" y="2990520"/>
              <a:ext cx="1271520" cy="739440"/>
            </a:xfrm>
            <a:prstGeom prst="pi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477647"/>
                </a:gs>
              </a:gsLst>
              <a:lin ang="5400000"/>
            </a:gra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d4d4d"/>
                  </a:solidFill>
                  <a:latin typeface="Calibri"/>
                </a:rPr>
                <a:t>Six Sigma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project hopper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" name="Oval 63"/>
            <p:cNvSpPr/>
            <p:nvPr/>
          </p:nvSpPr>
          <p:spPr>
            <a:xfrm>
              <a:off x="2476440" y="1712880"/>
              <a:ext cx="1108080" cy="403200"/>
            </a:xfrm>
            <a:prstGeom prst="ellipse">
              <a:avLst/>
            </a:prstGeom>
            <a:solidFill>
              <a:srgbClr val="ccec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Plant Mgmt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" name="Oval 64"/>
            <p:cNvSpPr/>
            <p:nvPr/>
          </p:nvSpPr>
          <p:spPr>
            <a:xfrm>
              <a:off x="5109120" y="1511280"/>
              <a:ext cx="1414440" cy="403200"/>
            </a:xfrm>
            <a:prstGeom prst="ellipse">
              <a:avLst/>
            </a:prstGeom>
            <a:solidFill>
              <a:srgbClr val="ccec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Engineering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" name="Oval 65"/>
            <p:cNvSpPr/>
            <p:nvPr/>
          </p:nvSpPr>
          <p:spPr>
            <a:xfrm>
              <a:off x="6078960" y="1645560"/>
              <a:ext cx="1108440" cy="403200"/>
            </a:xfrm>
            <a:prstGeom prst="ellipse">
              <a:avLst/>
            </a:prstGeom>
            <a:solidFill>
              <a:srgbClr val="ccec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Finance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" name="Oval 66"/>
            <p:cNvSpPr/>
            <p:nvPr/>
          </p:nvSpPr>
          <p:spPr>
            <a:xfrm>
              <a:off x="6217920" y="1981800"/>
              <a:ext cx="1343520" cy="403200"/>
            </a:xfrm>
            <a:prstGeom prst="ellipse">
              <a:avLst/>
            </a:prstGeom>
            <a:solidFill>
              <a:srgbClr val="ccec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Purchasing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" name="Oval 67"/>
            <p:cNvSpPr/>
            <p:nvPr/>
          </p:nvSpPr>
          <p:spPr>
            <a:xfrm>
              <a:off x="5386320" y="2183400"/>
              <a:ext cx="1108080" cy="403200"/>
            </a:xfrm>
            <a:prstGeom prst="ellipse">
              <a:avLst/>
            </a:prstGeom>
            <a:solidFill>
              <a:srgbClr val="ccec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Planning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" name="Oval 68"/>
            <p:cNvSpPr/>
            <p:nvPr/>
          </p:nvSpPr>
          <p:spPr>
            <a:xfrm>
              <a:off x="4485600" y="2048760"/>
              <a:ext cx="1108440" cy="403200"/>
            </a:xfrm>
            <a:prstGeom prst="ellipse">
              <a:avLst/>
            </a:prstGeom>
            <a:solidFill>
              <a:srgbClr val="ccec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Sales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" name="Rectangle 69"/>
            <p:cNvSpPr/>
            <p:nvPr/>
          </p:nvSpPr>
          <p:spPr>
            <a:xfrm>
              <a:off x="1991520" y="2452320"/>
              <a:ext cx="554040" cy="47052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d4d4d"/>
                  </a:solidFill>
                  <a:latin typeface="Calibri"/>
                </a:rPr>
                <a:t>VSM</a:t>
              </a:r>
              <a:endParaRPr b="0" lang="en-US" sz="13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50" name="Group 70"/>
            <p:cNvGrpSpPr/>
            <p:nvPr/>
          </p:nvGrpSpPr>
          <p:grpSpPr>
            <a:xfrm>
              <a:off x="1645200" y="3953880"/>
              <a:ext cx="1038960" cy="553320"/>
              <a:chOff x="1645200" y="3953880"/>
              <a:chExt cx="1038960" cy="553320"/>
            </a:xfrm>
          </p:grpSpPr>
          <p:sp>
            <p:nvSpPr>
              <p:cNvPr id="151" name="AutoShape 71"/>
              <p:cNvSpPr/>
              <p:nvPr/>
            </p:nvSpPr>
            <p:spPr>
              <a:xfrm>
                <a:off x="2086560" y="3953880"/>
                <a:ext cx="138240" cy="134280"/>
              </a:xfrm>
              <a:prstGeom prst="flowChartConnector">
                <a:avLst/>
              </a:prstGeom>
              <a:solidFill>
                <a:srgbClr val="4d4d4d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2" name="Text Box 72"/>
              <p:cNvSpPr/>
              <p:nvPr/>
            </p:nvSpPr>
            <p:spPr>
              <a:xfrm>
                <a:off x="1645200" y="4078440"/>
                <a:ext cx="10389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4d4d"/>
                    </a:solidFill>
                    <a:latin typeface="Calibri"/>
                  </a:rPr>
                  <a:t>C.I. Coordinator</a:t>
                </a:r>
                <a:endParaRPr b="0" lang="en-US" sz="11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73"/>
            <p:cNvGrpSpPr/>
            <p:nvPr/>
          </p:nvGrpSpPr>
          <p:grpSpPr>
            <a:xfrm>
              <a:off x="3377160" y="3953880"/>
              <a:ext cx="1127160" cy="531000"/>
              <a:chOff x="3377160" y="3953880"/>
              <a:chExt cx="1127160" cy="531000"/>
            </a:xfrm>
          </p:grpSpPr>
          <p:sp>
            <p:nvSpPr>
              <p:cNvPr id="154" name="AutoShape 74"/>
              <p:cNvSpPr/>
              <p:nvPr/>
            </p:nvSpPr>
            <p:spPr>
              <a:xfrm>
                <a:off x="3779640" y="3953880"/>
                <a:ext cx="138600" cy="134280"/>
              </a:xfrm>
              <a:prstGeom prst="flowChartConnector">
                <a:avLst/>
              </a:prstGeom>
              <a:solidFill>
                <a:srgbClr val="4d4d4d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5" name="Text Box 75"/>
              <p:cNvSpPr/>
              <p:nvPr/>
            </p:nvSpPr>
            <p:spPr>
              <a:xfrm>
                <a:off x="3377160" y="4056120"/>
                <a:ext cx="11271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4d4d"/>
                    </a:solidFill>
                    <a:latin typeface="Calibri"/>
                  </a:rPr>
                  <a:t>Lean Coordinator</a:t>
                </a:r>
                <a:endParaRPr b="0" lang="en-US" sz="11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6"/>
            <p:cNvGrpSpPr/>
            <p:nvPr/>
          </p:nvGrpSpPr>
          <p:grpSpPr>
            <a:xfrm>
              <a:off x="4693320" y="3953880"/>
              <a:ext cx="969480" cy="394200"/>
              <a:chOff x="4693320" y="3953880"/>
              <a:chExt cx="969480" cy="394200"/>
            </a:xfrm>
          </p:grpSpPr>
          <p:sp>
            <p:nvSpPr>
              <p:cNvPr id="157" name="AutoShape 77"/>
              <p:cNvSpPr/>
              <p:nvPr/>
            </p:nvSpPr>
            <p:spPr>
              <a:xfrm>
                <a:off x="5108760" y="3953880"/>
                <a:ext cx="138240" cy="134280"/>
              </a:xfrm>
              <a:prstGeom prst="flowChartConnector">
                <a:avLst/>
              </a:prstGeom>
              <a:solidFill>
                <a:srgbClr val="4d4d4d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8" name="Text Box 78"/>
              <p:cNvSpPr/>
              <p:nvPr/>
            </p:nvSpPr>
            <p:spPr>
              <a:xfrm>
                <a:off x="4693320" y="4086720"/>
                <a:ext cx="96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4d4d"/>
                    </a:solidFill>
                    <a:latin typeface="Calibri"/>
                  </a:rPr>
                  <a:t>Black Belt</a:t>
                </a:r>
                <a:endParaRPr b="0" lang="en-US" sz="11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59" name="Rectangle 80"/>
            <p:cNvSpPr/>
            <p:nvPr/>
          </p:nvSpPr>
          <p:spPr>
            <a:xfrm>
              <a:off x="1506600" y="5141880"/>
              <a:ext cx="3117600" cy="593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Rectangle 81"/>
            <p:cNvSpPr/>
            <p:nvPr/>
          </p:nvSpPr>
          <p:spPr>
            <a:xfrm>
              <a:off x="2061000" y="5209200"/>
              <a:ext cx="415440" cy="268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Line 82"/>
            <p:cNvSpPr/>
            <p:nvPr/>
          </p:nvSpPr>
          <p:spPr>
            <a:xfrm flipV="1">
              <a:off x="2476440" y="5343120"/>
              <a:ext cx="393840" cy="25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AutoShape 83"/>
            <p:cNvSpPr/>
            <p:nvPr/>
          </p:nvSpPr>
          <p:spPr>
            <a:xfrm rot="16200000">
              <a:off x="2548440" y="5271120"/>
              <a:ext cx="163800" cy="14292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Rectangle 84"/>
            <p:cNvSpPr/>
            <p:nvPr/>
          </p:nvSpPr>
          <p:spPr>
            <a:xfrm>
              <a:off x="2870640" y="5211720"/>
              <a:ext cx="392400" cy="268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" name="Line 85"/>
            <p:cNvSpPr/>
            <p:nvPr/>
          </p:nvSpPr>
          <p:spPr>
            <a:xfrm flipV="1">
              <a:off x="3265920" y="5341680"/>
              <a:ext cx="393840" cy="25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" name="AutoShape 86"/>
            <p:cNvSpPr/>
            <p:nvPr/>
          </p:nvSpPr>
          <p:spPr>
            <a:xfrm rot="16200000">
              <a:off x="3339000" y="5268240"/>
              <a:ext cx="163800" cy="14256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" name="Rectangle 87"/>
            <p:cNvSpPr/>
            <p:nvPr/>
          </p:nvSpPr>
          <p:spPr>
            <a:xfrm>
              <a:off x="3663000" y="5207400"/>
              <a:ext cx="393480" cy="268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67" name="Group 88"/>
            <p:cNvGrpSpPr/>
            <p:nvPr/>
          </p:nvGrpSpPr>
          <p:grpSpPr>
            <a:xfrm>
              <a:off x="4215600" y="5274720"/>
              <a:ext cx="289800" cy="177480"/>
              <a:chOff x="4215600" y="5274720"/>
              <a:chExt cx="289800" cy="177480"/>
            </a:xfrm>
          </p:grpSpPr>
          <p:sp>
            <p:nvSpPr>
              <p:cNvPr id="168" name="Rectangle 89"/>
              <p:cNvSpPr/>
              <p:nvPr/>
            </p:nvSpPr>
            <p:spPr>
              <a:xfrm>
                <a:off x="4215600" y="5274720"/>
                <a:ext cx="201960" cy="12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4417560" y="5333400"/>
                <a:ext cx="87840" cy="71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0" name="Oval 91"/>
              <p:cNvSpPr/>
              <p:nvPr/>
            </p:nvSpPr>
            <p:spPr>
              <a:xfrm>
                <a:off x="4241160" y="5403240"/>
                <a:ext cx="50760" cy="48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1" name="Oval 92"/>
              <p:cNvSpPr/>
              <p:nvPr/>
            </p:nvSpPr>
            <p:spPr>
              <a:xfrm>
                <a:off x="4439520" y="5403240"/>
                <a:ext cx="50400" cy="48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72" name="Line 93"/>
            <p:cNvSpPr/>
            <p:nvPr/>
          </p:nvSpPr>
          <p:spPr>
            <a:xfrm>
              <a:off x="4054320" y="5344560"/>
              <a:ext cx="161280" cy="14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73" name="Group 94"/>
            <p:cNvGrpSpPr/>
            <p:nvPr/>
          </p:nvGrpSpPr>
          <p:grpSpPr>
            <a:xfrm>
              <a:off x="1603440" y="5253840"/>
              <a:ext cx="289440" cy="177480"/>
              <a:chOff x="1603440" y="5253840"/>
              <a:chExt cx="289440" cy="177480"/>
            </a:xfrm>
          </p:grpSpPr>
          <p:sp>
            <p:nvSpPr>
              <p:cNvPr id="174" name="Rectangle 95"/>
              <p:cNvSpPr/>
              <p:nvPr/>
            </p:nvSpPr>
            <p:spPr>
              <a:xfrm>
                <a:off x="1603440" y="5253840"/>
                <a:ext cx="201600" cy="12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1805040" y="5312520"/>
                <a:ext cx="87840" cy="71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6" name="Oval 97"/>
              <p:cNvSpPr/>
              <p:nvPr/>
            </p:nvSpPr>
            <p:spPr>
              <a:xfrm>
                <a:off x="1629000" y="5382360"/>
                <a:ext cx="50400" cy="48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7" name="Oval 98"/>
              <p:cNvSpPr/>
              <p:nvPr/>
            </p:nvSpPr>
            <p:spPr>
              <a:xfrm>
                <a:off x="1827000" y="5382360"/>
                <a:ext cx="50040" cy="48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78" name="Line 99"/>
            <p:cNvSpPr/>
            <p:nvPr/>
          </p:nvSpPr>
          <p:spPr>
            <a:xfrm>
              <a:off x="1895040" y="5337720"/>
              <a:ext cx="161640" cy="14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" name="Text Box 100"/>
            <p:cNvSpPr/>
            <p:nvPr/>
          </p:nvSpPr>
          <p:spPr>
            <a:xfrm>
              <a:off x="2164680" y="5511600"/>
              <a:ext cx="187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Manufacturing Process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" name="Rectangle 101"/>
            <p:cNvSpPr/>
            <p:nvPr/>
          </p:nvSpPr>
          <p:spPr>
            <a:xfrm>
              <a:off x="5039640" y="5141880"/>
              <a:ext cx="1454760" cy="40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Transactional Process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" name="Rectangle 102"/>
            <p:cNvSpPr/>
            <p:nvPr/>
          </p:nvSpPr>
          <p:spPr>
            <a:xfrm>
              <a:off x="6563880" y="5141880"/>
              <a:ext cx="1454760" cy="40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Product Design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AutoShape 103"/>
            <p:cNvSpPr/>
            <p:nvPr/>
          </p:nvSpPr>
          <p:spPr>
            <a:xfrm>
              <a:off x="1506600" y="4738320"/>
              <a:ext cx="3117600" cy="335880"/>
            </a:xfrm>
            <a:prstGeom prst="cloudCallout">
              <a:avLst>
                <a:gd name="adj1" fmla="val -29305"/>
                <a:gd name="adj2" fmla="val 36666"/>
              </a:avLst>
            </a:prstGeom>
            <a:solidFill>
              <a:srgbClr val="ccec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Plant Staff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" name="AutoShape 104"/>
            <p:cNvSpPr/>
            <p:nvPr/>
          </p:nvSpPr>
          <p:spPr>
            <a:xfrm>
              <a:off x="4970520" y="4738320"/>
              <a:ext cx="3117600" cy="335880"/>
            </a:xfrm>
            <a:prstGeom prst="cloudCallout">
              <a:avLst>
                <a:gd name="adj1" fmla="val -28935"/>
                <a:gd name="adj2" fmla="val 26666"/>
              </a:avLst>
            </a:prstGeom>
            <a:solidFill>
              <a:srgbClr val="ccec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Project Staff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" name="Oval 105"/>
            <p:cNvSpPr/>
            <p:nvPr/>
          </p:nvSpPr>
          <p:spPr>
            <a:xfrm>
              <a:off x="5247720" y="1847160"/>
              <a:ext cx="1108440" cy="403200"/>
            </a:xfrm>
            <a:prstGeom prst="ellipse">
              <a:avLst/>
            </a:prstGeom>
            <a:solidFill>
              <a:srgbClr val="ccecff"/>
            </a:soli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d4d4d"/>
                  </a:solidFill>
                  <a:latin typeface="Calibri"/>
                </a:rPr>
                <a:t>Senior Mgmt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>
              <a:off x="2199240" y="4469400"/>
              <a:ext cx="0" cy="67212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" name="Line 107"/>
            <p:cNvSpPr/>
            <p:nvPr/>
          </p:nvSpPr>
          <p:spPr>
            <a:xfrm>
              <a:off x="2580480" y="2738160"/>
              <a:ext cx="164520" cy="20160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>
              <a:off x="5234760" y="2519640"/>
              <a:ext cx="151200" cy="44100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>
              <a:off x="3446280" y="2116080"/>
              <a:ext cx="1415880" cy="84024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cxnSp>
          <p:nvCxnSpPr>
            <p:cNvPr id="189" name="AutoShape 110"/>
            <p:cNvCxnSpPr>
              <a:stCxn id="141" idx="4"/>
              <a:endCxn id="151" idx="6"/>
            </p:cNvCxnSpPr>
            <p:nvPr/>
          </p:nvCxnSpPr>
          <p:spPr>
            <a:xfrm flipV="1" rot="10800000">
              <a:off x="2224440" y="3729600"/>
              <a:ext cx="673200" cy="291960"/>
            </a:xfrm>
            <a:prstGeom prst="curvedConnector5">
              <a:avLst>
                <a:gd name="adj1" fmla="val 56768"/>
                <a:gd name="adj2" fmla="val 50000"/>
                <a:gd name="adj3" fmla="val 56768"/>
              </a:avLst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</p:cxnSp>
        <p:cxnSp>
          <p:nvCxnSpPr>
            <p:cNvPr id="190" name="AutoShape 111"/>
            <p:cNvCxnSpPr>
              <a:stCxn id="141" idx="5"/>
              <a:endCxn id="154" idx="2"/>
            </p:cNvCxnSpPr>
            <p:nvPr/>
          </p:nvCxnSpPr>
          <p:spPr>
            <a:xfrm>
              <a:off x="2898000" y="3729600"/>
              <a:ext cx="882720" cy="29196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191" name="Line 112"/>
            <p:cNvSpPr/>
            <p:nvPr/>
          </p:nvSpPr>
          <p:spPr>
            <a:xfrm flipH="1">
              <a:off x="5178240" y="3763440"/>
              <a:ext cx="8280" cy="18468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>
              <a:off x="3827520" y="4461120"/>
              <a:ext cx="0" cy="67212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>
              <a:off x="5178600" y="4318200"/>
              <a:ext cx="475920" cy="78156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" name="Line 115"/>
            <p:cNvSpPr/>
            <p:nvPr/>
          </p:nvSpPr>
          <p:spPr>
            <a:xfrm>
              <a:off x="5342760" y="4335120"/>
              <a:ext cx="1688760" cy="77292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4017600" y="4335120"/>
              <a:ext cx="1047960" cy="77292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3026160" y="2183400"/>
              <a:ext cx="3960" cy="77292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97" name="Text Box 118"/>
          <p:cNvSpPr/>
          <p:nvPr/>
        </p:nvSpPr>
        <p:spPr>
          <a:xfrm>
            <a:off x="698400" y="476280"/>
            <a:ext cx="705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Project Selection VSM:  Current State</a:t>
            </a:r>
            <a:endParaRPr b="0" lang="en-US" sz="2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0920" y="460440"/>
            <a:ext cx="6515280" cy="520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0808"/>
                </a:solidFill>
                <a:latin typeface="Arial"/>
              </a:rPr>
              <a:t>Improvement System Similarities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Rectangle 1028"/>
          <p:cNvSpPr/>
          <p:nvPr/>
        </p:nvSpPr>
        <p:spPr>
          <a:xfrm rot="5400000">
            <a:off x="3178440" y="-2472480"/>
            <a:ext cx="162072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Rectangle 1029"/>
          <p:cNvSpPr/>
          <p:nvPr/>
        </p:nvSpPr>
        <p:spPr>
          <a:xfrm>
            <a:off x="4073400" y="1433520"/>
            <a:ext cx="4732560" cy="4532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Rectangle 1030"/>
          <p:cNvSpPr/>
          <p:nvPr/>
        </p:nvSpPr>
        <p:spPr>
          <a:xfrm>
            <a:off x="2405160" y="1420920"/>
            <a:ext cx="1538280" cy="45241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Rectangle 1031"/>
          <p:cNvSpPr/>
          <p:nvPr/>
        </p:nvSpPr>
        <p:spPr>
          <a:xfrm>
            <a:off x="743040" y="1430280"/>
            <a:ext cx="1536480" cy="45309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Rectangle 1032"/>
          <p:cNvSpPr/>
          <p:nvPr/>
        </p:nvSpPr>
        <p:spPr>
          <a:xfrm>
            <a:off x="5403960" y="3112920"/>
            <a:ext cx="160200" cy="1256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Rectangle 1033"/>
          <p:cNvSpPr/>
          <p:nvPr/>
        </p:nvSpPr>
        <p:spPr>
          <a:xfrm>
            <a:off x="5707080" y="2951280"/>
            <a:ext cx="158760" cy="125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Rectangle 1034"/>
          <p:cNvSpPr/>
          <p:nvPr/>
        </p:nvSpPr>
        <p:spPr>
          <a:xfrm>
            <a:off x="5651640" y="3116160"/>
            <a:ext cx="160200" cy="1256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Rectangle 1035"/>
          <p:cNvSpPr/>
          <p:nvPr/>
        </p:nvSpPr>
        <p:spPr>
          <a:xfrm>
            <a:off x="5948280" y="3222720"/>
            <a:ext cx="160560" cy="125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Line 1036"/>
          <p:cNvSpPr/>
          <p:nvPr/>
        </p:nvSpPr>
        <p:spPr>
          <a:xfrm>
            <a:off x="5538960" y="3173400"/>
            <a:ext cx="120600" cy="0"/>
          </a:xfrm>
          <a:prstGeom prst="line">
            <a:avLst/>
          </a:prstGeom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Line 1037"/>
          <p:cNvSpPr/>
          <p:nvPr/>
        </p:nvSpPr>
        <p:spPr>
          <a:xfrm>
            <a:off x="5764320" y="3160800"/>
            <a:ext cx="434880" cy="12600"/>
          </a:xfrm>
          <a:prstGeom prst="line">
            <a:avLst/>
          </a:prstGeom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28080" bIns="-280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Line 1038"/>
          <p:cNvSpPr/>
          <p:nvPr/>
        </p:nvSpPr>
        <p:spPr>
          <a:xfrm>
            <a:off x="5299200" y="3013200"/>
            <a:ext cx="0" cy="318960"/>
          </a:xfrm>
          <a:prstGeom prst="line">
            <a:avLst/>
          </a:prstGeom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Line 1039"/>
          <p:cNvSpPr/>
          <p:nvPr/>
        </p:nvSpPr>
        <p:spPr>
          <a:xfrm>
            <a:off x="5075280" y="3332160"/>
            <a:ext cx="806400" cy="0"/>
          </a:xfrm>
          <a:prstGeom prst="line">
            <a:avLst/>
          </a:prstGeom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Line 1040"/>
          <p:cNvSpPr/>
          <p:nvPr/>
        </p:nvSpPr>
        <p:spPr>
          <a:xfrm>
            <a:off x="7056360" y="4313160"/>
            <a:ext cx="1508040" cy="0"/>
          </a:xfrm>
          <a:prstGeom prst="line">
            <a:avLst/>
          </a:prstGeom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Freeform 1041"/>
          <p:cNvSpPr/>
          <p:nvPr/>
        </p:nvSpPr>
        <p:spPr>
          <a:xfrm>
            <a:off x="7075440" y="3967200"/>
            <a:ext cx="1494000" cy="30960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107" h="293">
                <a:moveTo>
                  <a:pt x="0" y="251"/>
                </a:moveTo>
                <a:cubicBezTo>
                  <a:pt x="114" y="272"/>
                  <a:pt x="229" y="293"/>
                  <a:pt x="331" y="251"/>
                </a:cubicBezTo>
                <a:cubicBezTo>
                  <a:pt x="433" y="209"/>
                  <a:pt x="521" y="4"/>
                  <a:pt x="611" y="2"/>
                </a:cubicBezTo>
                <a:cubicBezTo>
                  <a:pt x="701" y="0"/>
                  <a:pt x="805" y="197"/>
                  <a:pt x="869" y="240"/>
                </a:cubicBezTo>
                <a:cubicBezTo>
                  <a:pt x="933" y="283"/>
                  <a:pt x="953" y="256"/>
                  <a:pt x="993" y="261"/>
                </a:cubicBezTo>
                <a:cubicBezTo>
                  <a:pt x="1033" y="266"/>
                  <a:pt x="1070" y="268"/>
                  <a:pt x="1107" y="271"/>
                </a:cubicBezTo>
              </a:path>
            </a:pathLst>
          </a:custGeom>
          <a:noFill/>
          <a:ln w="255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Rectangle 1043"/>
          <p:cNvSpPr/>
          <p:nvPr/>
        </p:nvSpPr>
        <p:spPr>
          <a:xfrm>
            <a:off x="4005360" y="1517760"/>
            <a:ext cx="4705200" cy="4370400"/>
          </a:xfrm>
          <a:prstGeom prst="rect">
            <a:avLst/>
          </a:prstGeom>
          <a:solidFill>
            <a:srgbClr val="ffff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040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ean Production System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void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MURI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or unreasonablenes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void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MURA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or control inconsistencies in the system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void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MUDA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or to find waste in outcomes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wnership, the will, motivation and determination of 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e management</a:t>
            </a:r>
            <a:r>
              <a:rPr b="1" lang="en-US" sz="1300" spc="-1" strike="noStrike">
                <a:solidFill>
                  <a:srgbClr val="da0000"/>
                </a:solidFill>
                <a:latin typeface="Calibri"/>
              </a:rPr>
              <a:t>    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a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" name="Rectangle 1044"/>
          <p:cNvSpPr/>
          <p:nvPr/>
        </p:nvSpPr>
        <p:spPr>
          <a:xfrm>
            <a:off x="2324160" y="1528920"/>
            <a:ext cx="1523880" cy="4356000"/>
          </a:xfrm>
          <a:prstGeom prst="rect">
            <a:avLst/>
          </a:prstGeom>
          <a:solidFill>
            <a:srgbClr val="ffff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MAI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Define/Measur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nalyz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mprov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Rectangle 1045"/>
          <p:cNvSpPr/>
          <p:nvPr/>
        </p:nvSpPr>
        <p:spPr>
          <a:xfrm>
            <a:off x="642960" y="1530360"/>
            <a:ext cx="1579680" cy="4344840"/>
          </a:xfrm>
          <a:prstGeom prst="rect">
            <a:avLst/>
          </a:prstGeom>
          <a:solidFill>
            <a:srgbClr val="ffff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ming PDC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yc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heck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c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AutoShape 1046"/>
          <p:cNvSpPr/>
          <p:nvPr/>
        </p:nvSpPr>
        <p:spPr>
          <a:xfrm>
            <a:off x="3157560" y="4594320"/>
            <a:ext cx="1697040" cy="493560"/>
          </a:xfrm>
          <a:prstGeom prst="leftRightArrow">
            <a:avLst>
              <a:gd name="adj1" fmla="val 50000"/>
              <a:gd name="adj2" fmla="val 66746"/>
            </a:avLst>
          </a:prstGeom>
          <a:solidFill>
            <a:srgbClr val="ffcc99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alibri"/>
              </a:rPr>
              <a:t>Optimiza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AutoShape 1047"/>
          <p:cNvSpPr/>
          <p:nvPr/>
        </p:nvSpPr>
        <p:spPr>
          <a:xfrm>
            <a:off x="3157560" y="3625920"/>
            <a:ext cx="1697040" cy="492120"/>
          </a:xfrm>
          <a:prstGeom prst="leftRightArrow">
            <a:avLst>
              <a:gd name="adj1" fmla="val 50000"/>
              <a:gd name="adj2" fmla="val 66941"/>
            </a:avLst>
          </a:prstGeom>
          <a:solidFill>
            <a:srgbClr val="ffcc99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alibri"/>
              </a:rPr>
              <a:t>Capabilit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AutoShape 1048"/>
          <p:cNvSpPr/>
          <p:nvPr/>
        </p:nvSpPr>
        <p:spPr>
          <a:xfrm>
            <a:off x="3157560" y="2655720"/>
            <a:ext cx="1697040" cy="493920"/>
          </a:xfrm>
          <a:prstGeom prst="leftRightArrow">
            <a:avLst>
              <a:gd name="adj1" fmla="val 50000"/>
              <a:gd name="adj2" fmla="val 66697"/>
            </a:avLst>
          </a:prstGeom>
          <a:solidFill>
            <a:srgbClr val="ffcc99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alibri"/>
              </a:rPr>
              <a:t>Stabilit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Text Box 1049"/>
          <p:cNvSpPr/>
          <p:nvPr/>
        </p:nvSpPr>
        <p:spPr>
          <a:xfrm>
            <a:off x="2447280" y="6105600"/>
            <a:ext cx="5466960" cy="356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Tahoma"/>
              </a:rPr>
              <a:t>Different names for the same thought proc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120" y="70920"/>
            <a:ext cx="6726240" cy="58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80808"/>
                </a:solidFill>
                <a:latin typeface="Arial"/>
              </a:rPr>
              <a:t>TPS Process Improvement Strategy</a:t>
            </a:r>
            <a:endParaRPr b="1" lang="en-US" sz="29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05960" y="285480"/>
            <a:ext cx="7759800" cy="5459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MURI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focuses on the preparation and planning of the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rocess, (what can be avoided proactively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MURA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focuses on implementation and the elimination of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luctuation at the operations level (quality and volume)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MUDA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is discovered after the process is in place and i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dealt with reactively.  It is seen by variation in output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MUDA (waste/scrap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MURA (Variability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AutoShape 1055"/>
          <p:cNvSpPr/>
          <p:nvPr/>
        </p:nvSpPr>
        <p:spPr>
          <a:xfrm>
            <a:off x="4226040" y="4305240"/>
            <a:ext cx="820800" cy="203400"/>
          </a:xfrm>
          <a:custGeom>
            <a:avLst/>
            <a:gdLst>
              <a:gd name="textAreaLeft" fmla="*/ 128160 w 820800"/>
              <a:gd name="textAreaRight" fmla="*/ 718200 w 82080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20819"/>
              </a:gs>
              <a:gs pos="100000">
                <a:srgbClr val="114f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3" name="Text Box 1057"/>
          <p:cNvSpPr/>
          <p:nvPr/>
        </p:nvSpPr>
        <p:spPr>
          <a:xfrm>
            <a:off x="5230080" y="4208040"/>
            <a:ext cx="815760" cy="631080"/>
          </a:xfrm>
          <a:prstGeom prst="rect">
            <a:avLst/>
          </a:prstGeom>
          <a:noFill/>
          <a:ln w="9360">
            <a:solidFill>
              <a:srgbClr val="7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alibri"/>
              </a:rPr>
              <a:t>MUR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alibri"/>
              </a:rPr>
              <a:t>(PLA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" name="Text Box 1059"/>
          <p:cNvSpPr/>
          <p:nvPr/>
        </p:nvSpPr>
        <p:spPr>
          <a:xfrm>
            <a:off x="7110360" y="4250880"/>
            <a:ext cx="9892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alibri"/>
              </a:rPr>
              <a:t>NEX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Calibri"/>
              </a:rPr>
              <a:t>PROJEC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AutoShape 1058"/>
          <p:cNvSpPr/>
          <p:nvPr/>
        </p:nvSpPr>
        <p:spPr>
          <a:xfrm>
            <a:off x="6114960" y="4456080"/>
            <a:ext cx="820800" cy="203400"/>
          </a:xfrm>
          <a:custGeom>
            <a:avLst/>
            <a:gdLst>
              <a:gd name="textAreaLeft" fmla="*/ 128160 w 820800"/>
              <a:gd name="textAreaRight" fmla="*/ 718200 w 82080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20819"/>
              </a:gs>
              <a:gs pos="100000">
                <a:srgbClr val="114f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Text Box 1060"/>
          <p:cNvSpPr/>
          <p:nvPr/>
        </p:nvSpPr>
        <p:spPr>
          <a:xfrm>
            <a:off x="1402560" y="5345280"/>
            <a:ext cx="6491160" cy="463320"/>
          </a:xfrm>
          <a:prstGeom prst="rect">
            <a:avLst/>
          </a:prstGeom>
          <a:solidFill>
            <a:srgbClr val="ffff99"/>
          </a:solidFill>
          <a:ln w="9360">
            <a:solidFill>
              <a:srgbClr val="7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Lean &amp; Six Sigma are two-sides of the same coin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AutoShape 1062"/>
          <p:cNvSpPr/>
          <p:nvPr/>
        </p:nvSpPr>
        <p:spPr>
          <a:xfrm>
            <a:off x="4183200" y="4680000"/>
            <a:ext cx="820440" cy="203040"/>
          </a:xfrm>
          <a:custGeom>
            <a:avLst/>
            <a:gdLst>
              <a:gd name="textAreaLeft" fmla="*/ 128160 w 820440"/>
              <a:gd name="textAreaRight" fmla="*/ 718200 w 82044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20819"/>
              </a:gs>
              <a:gs pos="100000">
                <a:srgbClr val="114f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AutoShape 1067"/>
          <p:cNvSpPr/>
          <p:nvPr/>
        </p:nvSpPr>
        <p:spPr>
          <a:xfrm>
            <a:off x="477720" y="4325760"/>
            <a:ext cx="1025640" cy="49716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497160"/>
              <a:gd name="textAreaBottom" fmla="*/ 497520 h 4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59" y="0"/>
                </a:lnTo>
                <a:lnTo>
                  <a:pt x="21600" y="10800"/>
                </a:lnTo>
                <a:lnTo>
                  <a:pt x="163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0000"/>
                </a:solidFill>
                <a:latin typeface="Calibri"/>
              </a:rPr>
              <a:t>VS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reeform 1049"/>
          <p:cNvSpPr/>
          <p:nvPr/>
        </p:nvSpPr>
        <p:spPr>
          <a:xfrm>
            <a:off x="1463760" y="1571760"/>
            <a:ext cx="3265560" cy="2543040"/>
          </a:xfrm>
          <a:custGeom>
            <a:avLst/>
            <a:gdLst>
              <a:gd name="textAreaLeft" fmla="*/ 0 w 3265560"/>
              <a:gd name="textAreaRight" fmla="*/ 3265920 w 3265560"/>
              <a:gd name="textAreaTop" fmla="*/ 0 h 2543040"/>
              <a:gd name="textAreaBottom" fmla="*/ 2543400 h 2543040"/>
            </a:gdLst>
            <a:ahLst/>
            <a:rect l="textAreaLeft" t="textAreaTop" r="textAreaRight" b="textAreaBottom"/>
            <a:pathLst>
              <a:path w="4527" h="1816">
                <a:moveTo>
                  <a:pt x="1739" y="169"/>
                </a:moveTo>
                <a:lnTo>
                  <a:pt x="1675" y="151"/>
                </a:lnTo>
                <a:lnTo>
                  <a:pt x="1627" y="158"/>
                </a:lnTo>
                <a:lnTo>
                  <a:pt x="1579" y="169"/>
                </a:lnTo>
                <a:lnTo>
                  <a:pt x="1557" y="196"/>
                </a:lnTo>
                <a:lnTo>
                  <a:pt x="1498" y="210"/>
                </a:lnTo>
                <a:lnTo>
                  <a:pt x="1440" y="237"/>
                </a:lnTo>
                <a:lnTo>
                  <a:pt x="1407" y="265"/>
                </a:lnTo>
                <a:lnTo>
                  <a:pt x="1429" y="286"/>
                </a:lnTo>
                <a:lnTo>
                  <a:pt x="1509" y="293"/>
                </a:lnTo>
                <a:lnTo>
                  <a:pt x="1456" y="348"/>
                </a:lnTo>
                <a:lnTo>
                  <a:pt x="1402" y="362"/>
                </a:lnTo>
                <a:lnTo>
                  <a:pt x="1370" y="379"/>
                </a:lnTo>
                <a:lnTo>
                  <a:pt x="1338" y="424"/>
                </a:lnTo>
                <a:lnTo>
                  <a:pt x="1338" y="479"/>
                </a:lnTo>
                <a:lnTo>
                  <a:pt x="1316" y="551"/>
                </a:lnTo>
                <a:lnTo>
                  <a:pt x="1327" y="617"/>
                </a:lnTo>
                <a:lnTo>
                  <a:pt x="1188" y="644"/>
                </a:lnTo>
                <a:lnTo>
                  <a:pt x="1017" y="575"/>
                </a:lnTo>
                <a:lnTo>
                  <a:pt x="963" y="634"/>
                </a:lnTo>
                <a:lnTo>
                  <a:pt x="856" y="651"/>
                </a:lnTo>
                <a:lnTo>
                  <a:pt x="846" y="699"/>
                </a:lnTo>
                <a:lnTo>
                  <a:pt x="878" y="761"/>
                </a:lnTo>
                <a:lnTo>
                  <a:pt x="781" y="796"/>
                </a:lnTo>
                <a:lnTo>
                  <a:pt x="706" y="803"/>
                </a:lnTo>
                <a:lnTo>
                  <a:pt x="642" y="851"/>
                </a:lnTo>
                <a:lnTo>
                  <a:pt x="621" y="872"/>
                </a:lnTo>
                <a:lnTo>
                  <a:pt x="546" y="906"/>
                </a:lnTo>
                <a:lnTo>
                  <a:pt x="535" y="961"/>
                </a:lnTo>
                <a:lnTo>
                  <a:pt x="535" y="1010"/>
                </a:lnTo>
                <a:lnTo>
                  <a:pt x="482" y="1044"/>
                </a:lnTo>
                <a:lnTo>
                  <a:pt x="460" y="1079"/>
                </a:lnTo>
                <a:lnTo>
                  <a:pt x="332" y="1065"/>
                </a:lnTo>
                <a:lnTo>
                  <a:pt x="225" y="1099"/>
                </a:lnTo>
                <a:lnTo>
                  <a:pt x="129" y="1120"/>
                </a:lnTo>
                <a:lnTo>
                  <a:pt x="86" y="1154"/>
                </a:lnTo>
                <a:lnTo>
                  <a:pt x="22" y="1189"/>
                </a:lnTo>
                <a:lnTo>
                  <a:pt x="0" y="1237"/>
                </a:lnTo>
                <a:lnTo>
                  <a:pt x="43" y="1258"/>
                </a:lnTo>
                <a:lnTo>
                  <a:pt x="97" y="1285"/>
                </a:lnTo>
                <a:lnTo>
                  <a:pt x="97" y="1327"/>
                </a:lnTo>
                <a:lnTo>
                  <a:pt x="161" y="1354"/>
                </a:lnTo>
                <a:lnTo>
                  <a:pt x="193" y="1416"/>
                </a:lnTo>
                <a:lnTo>
                  <a:pt x="257" y="1478"/>
                </a:lnTo>
                <a:lnTo>
                  <a:pt x="343" y="1458"/>
                </a:lnTo>
                <a:lnTo>
                  <a:pt x="418" y="1410"/>
                </a:lnTo>
                <a:lnTo>
                  <a:pt x="471" y="1410"/>
                </a:lnTo>
                <a:lnTo>
                  <a:pt x="525" y="1423"/>
                </a:lnTo>
                <a:lnTo>
                  <a:pt x="578" y="1472"/>
                </a:lnTo>
                <a:lnTo>
                  <a:pt x="664" y="1430"/>
                </a:lnTo>
                <a:lnTo>
                  <a:pt x="739" y="1375"/>
                </a:lnTo>
                <a:lnTo>
                  <a:pt x="814" y="1368"/>
                </a:lnTo>
                <a:lnTo>
                  <a:pt x="921" y="1375"/>
                </a:lnTo>
                <a:lnTo>
                  <a:pt x="1017" y="1341"/>
                </a:lnTo>
                <a:lnTo>
                  <a:pt x="1070" y="1292"/>
                </a:lnTo>
                <a:lnTo>
                  <a:pt x="1209" y="1237"/>
                </a:lnTo>
                <a:lnTo>
                  <a:pt x="1265" y="1233"/>
                </a:lnTo>
                <a:lnTo>
                  <a:pt x="1302" y="1233"/>
                </a:lnTo>
                <a:lnTo>
                  <a:pt x="1272" y="1203"/>
                </a:lnTo>
                <a:lnTo>
                  <a:pt x="1254" y="1210"/>
                </a:lnTo>
                <a:lnTo>
                  <a:pt x="1249" y="1196"/>
                </a:lnTo>
                <a:lnTo>
                  <a:pt x="1254" y="1172"/>
                </a:lnTo>
                <a:lnTo>
                  <a:pt x="1229" y="1164"/>
                </a:lnTo>
                <a:lnTo>
                  <a:pt x="1192" y="1160"/>
                </a:lnTo>
                <a:lnTo>
                  <a:pt x="1135" y="1165"/>
                </a:lnTo>
                <a:lnTo>
                  <a:pt x="1004" y="1146"/>
                </a:lnTo>
                <a:lnTo>
                  <a:pt x="954" y="1120"/>
                </a:lnTo>
                <a:lnTo>
                  <a:pt x="919" y="1105"/>
                </a:lnTo>
                <a:lnTo>
                  <a:pt x="888" y="1113"/>
                </a:lnTo>
                <a:lnTo>
                  <a:pt x="826" y="1110"/>
                </a:lnTo>
                <a:lnTo>
                  <a:pt x="781" y="1134"/>
                </a:lnTo>
                <a:lnTo>
                  <a:pt x="731" y="1146"/>
                </a:lnTo>
                <a:lnTo>
                  <a:pt x="706" y="1182"/>
                </a:lnTo>
                <a:lnTo>
                  <a:pt x="657" y="1167"/>
                </a:lnTo>
                <a:lnTo>
                  <a:pt x="664" y="1134"/>
                </a:lnTo>
                <a:lnTo>
                  <a:pt x="685" y="1106"/>
                </a:lnTo>
                <a:lnTo>
                  <a:pt x="726" y="1077"/>
                </a:lnTo>
                <a:lnTo>
                  <a:pt x="781" y="1079"/>
                </a:lnTo>
                <a:lnTo>
                  <a:pt x="846" y="1041"/>
                </a:lnTo>
                <a:lnTo>
                  <a:pt x="908" y="1029"/>
                </a:lnTo>
                <a:lnTo>
                  <a:pt x="963" y="1037"/>
                </a:lnTo>
                <a:lnTo>
                  <a:pt x="1038" y="1058"/>
                </a:lnTo>
                <a:lnTo>
                  <a:pt x="1074" y="1081"/>
                </a:lnTo>
                <a:lnTo>
                  <a:pt x="1060" y="1123"/>
                </a:lnTo>
                <a:lnTo>
                  <a:pt x="1117" y="1072"/>
                </a:lnTo>
                <a:lnTo>
                  <a:pt x="1188" y="1072"/>
                </a:lnTo>
                <a:lnTo>
                  <a:pt x="1177" y="992"/>
                </a:lnTo>
                <a:lnTo>
                  <a:pt x="1316" y="1006"/>
                </a:lnTo>
                <a:lnTo>
                  <a:pt x="1402" y="1013"/>
                </a:lnTo>
                <a:lnTo>
                  <a:pt x="1391" y="896"/>
                </a:lnTo>
                <a:lnTo>
                  <a:pt x="1477" y="837"/>
                </a:lnTo>
                <a:lnTo>
                  <a:pt x="1563" y="851"/>
                </a:lnTo>
                <a:lnTo>
                  <a:pt x="1680" y="830"/>
                </a:lnTo>
                <a:lnTo>
                  <a:pt x="1723" y="879"/>
                </a:lnTo>
                <a:lnTo>
                  <a:pt x="1841" y="879"/>
                </a:lnTo>
                <a:lnTo>
                  <a:pt x="1916" y="934"/>
                </a:lnTo>
                <a:lnTo>
                  <a:pt x="1969" y="996"/>
                </a:lnTo>
                <a:lnTo>
                  <a:pt x="1969" y="1037"/>
                </a:lnTo>
                <a:lnTo>
                  <a:pt x="1862" y="975"/>
                </a:lnTo>
                <a:lnTo>
                  <a:pt x="1723" y="948"/>
                </a:lnTo>
                <a:lnTo>
                  <a:pt x="1616" y="961"/>
                </a:lnTo>
                <a:lnTo>
                  <a:pt x="1584" y="1027"/>
                </a:lnTo>
                <a:lnTo>
                  <a:pt x="1456" y="1103"/>
                </a:lnTo>
                <a:lnTo>
                  <a:pt x="1573" y="1068"/>
                </a:lnTo>
                <a:lnTo>
                  <a:pt x="1691" y="1061"/>
                </a:lnTo>
                <a:lnTo>
                  <a:pt x="1777" y="1089"/>
                </a:lnTo>
                <a:lnTo>
                  <a:pt x="1894" y="1137"/>
                </a:lnTo>
                <a:lnTo>
                  <a:pt x="1798" y="1179"/>
                </a:lnTo>
                <a:lnTo>
                  <a:pt x="1670" y="1165"/>
                </a:lnTo>
                <a:lnTo>
                  <a:pt x="1488" y="1137"/>
                </a:lnTo>
                <a:lnTo>
                  <a:pt x="1402" y="1158"/>
                </a:lnTo>
                <a:lnTo>
                  <a:pt x="1327" y="1192"/>
                </a:lnTo>
                <a:lnTo>
                  <a:pt x="1293" y="1175"/>
                </a:lnTo>
                <a:lnTo>
                  <a:pt x="1281" y="1189"/>
                </a:lnTo>
                <a:lnTo>
                  <a:pt x="1302" y="1234"/>
                </a:lnTo>
                <a:lnTo>
                  <a:pt x="1370" y="1285"/>
                </a:lnTo>
                <a:lnTo>
                  <a:pt x="1349" y="1354"/>
                </a:lnTo>
                <a:lnTo>
                  <a:pt x="1263" y="1368"/>
                </a:lnTo>
                <a:lnTo>
                  <a:pt x="1156" y="1368"/>
                </a:lnTo>
                <a:lnTo>
                  <a:pt x="1092" y="1396"/>
                </a:lnTo>
                <a:lnTo>
                  <a:pt x="1081" y="1430"/>
                </a:lnTo>
                <a:lnTo>
                  <a:pt x="985" y="1499"/>
                </a:lnTo>
                <a:lnTo>
                  <a:pt x="888" y="1499"/>
                </a:lnTo>
                <a:lnTo>
                  <a:pt x="824" y="1541"/>
                </a:lnTo>
                <a:lnTo>
                  <a:pt x="846" y="1596"/>
                </a:lnTo>
                <a:lnTo>
                  <a:pt x="921" y="1651"/>
                </a:lnTo>
                <a:lnTo>
                  <a:pt x="888" y="1678"/>
                </a:lnTo>
                <a:lnTo>
                  <a:pt x="888" y="1706"/>
                </a:lnTo>
                <a:lnTo>
                  <a:pt x="995" y="1747"/>
                </a:lnTo>
                <a:lnTo>
                  <a:pt x="1006" y="1796"/>
                </a:lnTo>
                <a:lnTo>
                  <a:pt x="1124" y="1816"/>
                </a:lnTo>
                <a:lnTo>
                  <a:pt x="1220" y="1782"/>
                </a:lnTo>
                <a:lnTo>
                  <a:pt x="1295" y="1782"/>
                </a:lnTo>
                <a:lnTo>
                  <a:pt x="1370" y="1809"/>
                </a:lnTo>
                <a:lnTo>
                  <a:pt x="1509" y="1782"/>
                </a:lnTo>
                <a:lnTo>
                  <a:pt x="1552" y="1727"/>
                </a:lnTo>
                <a:lnTo>
                  <a:pt x="1498" y="1665"/>
                </a:lnTo>
                <a:lnTo>
                  <a:pt x="1413" y="1603"/>
                </a:lnTo>
                <a:lnTo>
                  <a:pt x="1423" y="1541"/>
                </a:lnTo>
                <a:lnTo>
                  <a:pt x="1466" y="1485"/>
                </a:lnTo>
                <a:lnTo>
                  <a:pt x="1552" y="1492"/>
                </a:lnTo>
                <a:lnTo>
                  <a:pt x="1573" y="1568"/>
                </a:lnTo>
                <a:lnTo>
                  <a:pt x="1648" y="1630"/>
                </a:lnTo>
                <a:lnTo>
                  <a:pt x="1734" y="1609"/>
                </a:lnTo>
                <a:lnTo>
                  <a:pt x="1819" y="1623"/>
                </a:lnTo>
                <a:lnTo>
                  <a:pt x="1884" y="1575"/>
                </a:lnTo>
                <a:lnTo>
                  <a:pt x="1851" y="1492"/>
                </a:lnTo>
                <a:lnTo>
                  <a:pt x="1851" y="1437"/>
                </a:lnTo>
                <a:lnTo>
                  <a:pt x="1926" y="1437"/>
                </a:lnTo>
                <a:lnTo>
                  <a:pt x="2012" y="1396"/>
                </a:lnTo>
                <a:lnTo>
                  <a:pt x="2023" y="1306"/>
                </a:lnTo>
                <a:lnTo>
                  <a:pt x="2012" y="1251"/>
                </a:lnTo>
                <a:lnTo>
                  <a:pt x="2087" y="1210"/>
                </a:lnTo>
                <a:lnTo>
                  <a:pt x="2119" y="1230"/>
                </a:lnTo>
                <a:lnTo>
                  <a:pt x="2098" y="1285"/>
                </a:lnTo>
                <a:lnTo>
                  <a:pt x="2119" y="1368"/>
                </a:lnTo>
                <a:lnTo>
                  <a:pt x="2108" y="1458"/>
                </a:lnTo>
                <a:lnTo>
                  <a:pt x="2130" y="1520"/>
                </a:lnTo>
                <a:lnTo>
                  <a:pt x="2194" y="1499"/>
                </a:lnTo>
                <a:lnTo>
                  <a:pt x="2237" y="1513"/>
                </a:lnTo>
                <a:lnTo>
                  <a:pt x="2269" y="1568"/>
                </a:lnTo>
                <a:lnTo>
                  <a:pt x="2344" y="1575"/>
                </a:lnTo>
                <a:lnTo>
                  <a:pt x="2354" y="1623"/>
                </a:lnTo>
                <a:lnTo>
                  <a:pt x="2397" y="1692"/>
                </a:lnTo>
                <a:lnTo>
                  <a:pt x="2526" y="1678"/>
                </a:lnTo>
                <a:lnTo>
                  <a:pt x="2590" y="1734"/>
                </a:lnTo>
                <a:lnTo>
                  <a:pt x="2686" y="1809"/>
                </a:lnTo>
                <a:lnTo>
                  <a:pt x="2750" y="1775"/>
                </a:lnTo>
                <a:lnTo>
                  <a:pt x="2815" y="1775"/>
                </a:lnTo>
                <a:lnTo>
                  <a:pt x="2911" y="1809"/>
                </a:lnTo>
                <a:lnTo>
                  <a:pt x="3029" y="1768"/>
                </a:lnTo>
                <a:lnTo>
                  <a:pt x="3050" y="1699"/>
                </a:lnTo>
                <a:lnTo>
                  <a:pt x="3050" y="1644"/>
                </a:lnTo>
                <a:lnTo>
                  <a:pt x="3168" y="1644"/>
                </a:lnTo>
                <a:lnTo>
                  <a:pt x="3275" y="1623"/>
                </a:lnTo>
                <a:lnTo>
                  <a:pt x="3350" y="1623"/>
                </a:lnTo>
                <a:lnTo>
                  <a:pt x="3425" y="1616"/>
                </a:lnTo>
                <a:lnTo>
                  <a:pt x="3446" y="1534"/>
                </a:lnTo>
                <a:lnTo>
                  <a:pt x="3510" y="1478"/>
                </a:lnTo>
                <a:lnTo>
                  <a:pt x="3467" y="1403"/>
                </a:lnTo>
                <a:lnTo>
                  <a:pt x="3392" y="1396"/>
                </a:lnTo>
                <a:lnTo>
                  <a:pt x="3392" y="1327"/>
                </a:lnTo>
                <a:lnTo>
                  <a:pt x="3318" y="1313"/>
                </a:lnTo>
                <a:lnTo>
                  <a:pt x="3478" y="1299"/>
                </a:lnTo>
                <a:lnTo>
                  <a:pt x="3564" y="1341"/>
                </a:lnTo>
                <a:lnTo>
                  <a:pt x="3692" y="1320"/>
                </a:lnTo>
                <a:lnTo>
                  <a:pt x="3820" y="1354"/>
                </a:lnTo>
                <a:lnTo>
                  <a:pt x="3949" y="1361"/>
                </a:lnTo>
                <a:lnTo>
                  <a:pt x="3992" y="1485"/>
                </a:lnTo>
                <a:lnTo>
                  <a:pt x="4077" y="1492"/>
                </a:lnTo>
                <a:lnTo>
                  <a:pt x="4195" y="1527"/>
                </a:lnTo>
                <a:lnTo>
                  <a:pt x="4313" y="1541"/>
                </a:lnTo>
                <a:lnTo>
                  <a:pt x="4420" y="1492"/>
                </a:lnTo>
                <a:lnTo>
                  <a:pt x="4527" y="1430"/>
                </a:lnTo>
                <a:lnTo>
                  <a:pt x="4463" y="1320"/>
                </a:lnTo>
                <a:lnTo>
                  <a:pt x="4366" y="1265"/>
                </a:lnTo>
                <a:lnTo>
                  <a:pt x="4409" y="1216"/>
                </a:lnTo>
                <a:lnTo>
                  <a:pt x="4345" y="1106"/>
                </a:lnTo>
                <a:lnTo>
                  <a:pt x="4323" y="1037"/>
                </a:lnTo>
                <a:lnTo>
                  <a:pt x="4238" y="961"/>
                </a:lnTo>
                <a:lnTo>
                  <a:pt x="4088" y="948"/>
                </a:lnTo>
                <a:lnTo>
                  <a:pt x="3927" y="1010"/>
                </a:lnTo>
                <a:lnTo>
                  <a:pt x="3767" y="982"/>
                </a:lnTo>
                <a:lnTo>
                  <a:pt x="3574" y="996"/>
                </a:lnTo>
                <a:lnTo>
                  <a:pt x="3606" y="961"/>
                </a:lnTo>
                <a:lnTo>
                  <a:pt x="3532" y="913"/>
                </a:lnTo>
                <a:lnTo>
                  <a:pt x="3671" y="899"/>
                </a:lnTo>
                <a:lnTo>
                  <a:pt x="3756" y="858"/>
                </a:lnTo>
                <a:lnTo>
                  <a:pt x="3820" y="817"/>
                </a:lnTo>
                <a:lnTo>
                  <a:pt x="3788" y="775"/>
                </a:lnTo>
                <a:lnTo>
                  <a:pt x="3681" y="755"/>
                </a:lnTo>
                <a:lnTo>
                  <a:pt x="3606" y="782"/>
                </a:lnTo>
                <a:lnTo>
                  <a:pt x="3521" y="830"/>
                </a:lnTo>
                <a:lnTo>
                  <a:pt x="3467" y="824"/>
                </a:lnTo>
                <a:lnTo>
                  <a:pt x="3371" y="803"/>
                </a:lnTo>
                <a:lnTo>
                  <a:pt x="3414" y="727"/>
                </a:lnTo>
                <a:lnTo>
                  <a:pt x="3499" y="699"/>
                </a:lnTo>
                <a:lnTo>
                  <a:pt x="3564" y="658"/>
                </a:lnTo>
                <a:lnTo>
                  <a:pt x="3639" y="617"/>
                </a:lnTo>
                <a:lnTo>
                  <a:pt x="3671" y="562"/>
                </a:lnTo>
                <a:lnTo>
                  <a:pt x="3553" y="548"/>
                </a:lnTo>
                <a:lnTo>
                  <a:pt x="3671" y="465"/>
                </a:lnTo>
                <a:lnTo>
                  <a:pt x="3585" y="465"/>
                </a:lnTo>
                <a:lnTo>
                  <a:pt x="3574" y="382"/>
                </a:lnTo>
                <a:lnTo>
                  <a:pt x="3585" y="313"/>
                </a:lnTo>
                <a:lnTo>
                  <a:pt x="3510" y="210"/>
                </a:lnTo>
                <a:lnTo>
                  <a:pt x="3446" y="148"/>
                </a:lnTo>
                <a:lnTo>
                  <a:pt x="3382" y="148"/>
                </a:lnTo>
                <a:lnTo>
                  <a:pt x="3275" y="148"/>
                </a:lnTo>
                <a:lnTo>
                  <a:pt x="3146" y="65"/>
                </a:lnTo>
                <a:lnTo>
                  <a:pt x="2996" y="72"/>
                </a:lnTo>
                <a:lnTo>
                  <a:pt x="2900" y="58"/>
                </a:lnTo>
                <a:lnTo>
                  <a:pt x="2815" y="38"/>
                </a:lnTo>
                <a:lnTo>
                  <a:pt x="2740" y="58"/>
                </a:lnTo>
                <a:lnTo>
                  <a:pt x="2675" y="72"/>
                </a:lnTo>
                <a:lnTo>
                  <a:pt x="2611" y="117"/>
                </a:lnTo>
                <a:lnTo>
                  <a:pt x="2558" y="158"/>
                </a:lnTo>
                <a:lnTo>
                  <a:pt x="2536" y="206"/>
                </a:lnTo>
                <a:lnTo>
                  <a:pt x="2665" y="241"/>
                </a:lnTo>
                <a:lnTo>
                  <a:pt x="2686" y="269"/>
                </a:lnTo>
                <a:lnTo>
                  <a:pt x="2708" y="310"/>
                </a:lnTo>
                <a:lnTo>
                  <a:pt x="2579" y="331"/>
                </a:lnTo>
                <a:lnTo>
                  <a:pt x="2494" y="372"/>
                </a:lnTo>
                <a:lnTo>
                  <a:pt x="2483" y="427"/>
                </a:lnTo>
                <a:lnTo>
                  <a:pt x="2536" y="489"/>
                </a:lnTo>
                <a:lnTo>
                  <a:pt x="2547" y="544"/>
                </a:lnTo>
                <a:lnTo>
                  <a:pt x="2472" y="537"/>
                </a:lnTo>
                <a:lnTo>
                  <a:pt x="2322" y="544"/>
                </a:lnTo>
                <a:lnTo>
                  <a:pt x="2290" y="599"/>
                </a:lnTo>
                <a:lnTo>
                  <a:pt x="2387" y="586"/>
                </a:lnTo>
                <a:lnTo>
                  <a:pt x="2419" y="641"/>
                </a:lnTo>
                <a:lnTo>
                  <a:pt x="2536" y="613"/>
                </a:lnTo>
                <a:lnTo>
                  <a:pt x="2579" y="675"/>
                </a:lnTo>
                <a:lnTo>
                  <a:pt x="2622" y="744"/>
                </a:lnTo>
                <a:lnTo>
                  <a:pt x="2708" y="710"/>
                </a:lnTo>
                <a:lnTo>
                  <a:pt x="2868" y="689"/>
                </a:lnTo>
                <a:lnTo>
                  <a:pt x="2825" y="634"/>
                </a:lnTo>
                <a:lnTo>
                  <a:pt x="2772" y="586"/>
                </a:lnTo>
                <a:lnTo>
                  <a:pt x="2665" y="579"/>
                </a:lnTo>
                <a:lnTo>
                  <a:pt x="2643" y="517"/>
                </a:lnTo>
                <a:lnTo>
                  <a:pt x="2729" y="406"/>
                </a:lnTo>
                <a:lnTo>
                  <a:pt x="2772" y="524"/>
                </a:lnTo>
                <a:lnTo>
                  <a:pt x="2879" y="579"/>
                </a:lnTo>
                <a:lnTo>
                  <a:pt x="2868" y="510"/>
                </a:lnTo>
                <a:lnTo>
                  <a:pt x="3029" y="434"/>
                </a:lnTo>
                <a:lnTo>
                  <a:pt x="3061" y="558"/>
                </a:lnTo>
                <a:lnTo>
                  <a:pt x="3211" y="572"/>
                </a:lnTo>
                <a:lnTo>
                  <a:pt x="3029" y="620"/>
                </a:lnTo>
                <a:lnTo>
                  <a:pt x="2975" y="668"/>
                </a:lnTo>
                <a:lnTo>
                  <a:pt x="3146" y="661"/>
                </a:lnTo>
                <a:lnTo>
                  <a:pt x="3029" y="717"/>
                </a:lnTo>
                <a:lnTo>
                  <a:pt x="3039" y="806"/>
                </a:lnTo>
                <a:lnTo>
                  <a:pt x="2889" y="827"/>
                </a:lnTo>
                <a:lnTo>
                  <a:pt x="2922" y="903"/>
                </a:lnTo>
                <a:lnTo>
                  <a:pt x="2857" y="1006"/>
                </a:lnTo>
                <a:lnTo>
                  <a:pt x="2761" y="972"/>
                </a:lnTo>
                <a:lnTo>
                  <a:pt x="2740" y="1048"/>
                </a:lnTo>
                <a:lnTo>
                  <a:pt x="2804" y="1137"/>
                </a:lnTo>
                <a:lnTo>
                  <a:pt x="2986" y="1123"/>
                </a:lnTo>
                <a:lnTo>
                  <a:pt x="3039" y="1158"/>
                </a:lnTo>
                <a:lnTo>
                  <a:pt x="3178" y="1151"/>
                </a:lnTo>
                <a:lnTo>
                  <a:pt x="3296" y="1151"/>
                </a:lnTo>
                <a:lnTo>
                  <a:pt x="3350" y="1165"/>
                </a:lnTo>
                <a:lnTo>
                  <a:pt x="3318" y="1213"/>
                </a:lnTo>
                <a:lnTo>
                  <a:pt x="3178" y="1220"/>
                </a:lnTo>
                <a:lnTo>
                  <a:pt x="3189" y="1268"/>
                </a:lnTo>
                <a:lnTo>
                  <a:pt x="3071" y="1261"/>
                </a:lnTo>
                <a:lnTo>
                  <a:pt x="2986" y="1282"/>
                </a:lnTo>
                <a:lnTo>
                  <a:pt x="2922" y="1323"/>
                </a:lnTo>
                <a:lnTo>
                  <a:pt x="2847" y="1358"/>
                </a:lnTo>
                <a:lnTo>
                  <a:pt x="2750" y="1323"/>
                </a:lnTo>
                <a:lnTo>
                  <a:pt x="2654" y="1275"/>
                </a:lnTo>
                <a:lnTo>
                  <a:pt x="2451" y="1234"/>
                </a:lnTo>
                <a:lnTo>
                  <a:pt x="2601" y="1213"/>
                </a:lnTo>
                <a:lnTo>
                  <a:pt x="2654" y="1165"/>
                </a:lnTo>
                <a:lnTo>
                  <a:pt x="2622" y="1103"/>
                </a:lnTo>
                <a:lnTo>
                  <a:pt x="2590" y="1054"/>
                </a:lnTo>
                <a:lnTo>
                  <a:pt x="2643" y="999"/>
                </a:lnTo>
                <a:lnTo>
                  <a:pt x="2547" y="958"/>
                </a:lnTo>
                <a:lnTo>
                  <a:pt x="2633" y="875"/>
                </a:lnTo>
                <a:lnTo>
                  <a:pt x="2483" y="896"/>
                </a:lnTo>
                <a:lnTo>
                  <a:pt x="2536" y="848"/>
                </a:lnTo>
                <a:lnTo>
                  <a:pt x="2558" y="792"/>
                </a:lnTo>
                <a:lnTo>
                  <a:pt x="2526" y="737"/>
                </a:lnTo>
                <a:lnTo>
                  <a:pt x="2461" y="717"/>
                </a:lnTo>
                <a:lnTo>
                  <a:pt x="2354" y="717"/>
                </a:lnTo>
                <a:lnTo>
                  <a:pt x="2247" y="737"/>
                </a:lnTo>
                <a:lnTo>
                  <a:pt x="2247" y="668"/>
                </a:lnTo>
                <a:lnTo>
                  <a:pt x="2237" y="606"/>
                </a:lnTo>
                <a:lnTo>
                  <a:pt x="2162" y="579"/>
                </a:lnTo>
                <a:lnTo>
                  <a:pt x="2119" y="648"/>
                </a:lnTo>
                <a:lnTo>
                  <a:pt x="2066" y="572"/>
                </a:lnTo>
                <a:lnTo>
                  <a:pt x="2098" y="524"/>
                </a:lnTo>
                <a:lnTo>
                  <a:pt x="2183" y="503"/>
                </a:lnTo>
                <a:lnTo>
                  <a:pt x="2237" y="455"/>
                </a:lnTo>
                <a:lnTo>
                  <a:pt x="2247" y="399"/>
                </a:lnTo>
                <a:lnTo>
                  <a:pt x="2162" y="379"/>
                </a:lnTo>
                <a:lnTo>
                  <a:pt x="2066" y="399"/>
                </a:lnTo>
                <a:lnTo>
                  <a:pt x="1980" y="427"/>
                </a:lnTo>
                <a:lnTo>
                  <a:pt x="1894" y="441"/>
                </a:lnTo>
                <a:lnTo>
                  <a:pt x="1862" y="420"/>
                </a:lnTo>
                <a:lnTo>
                  <a:pt x="1884" y="379"/>
                </a:lnTo>
                <a:lnTo>
                  <a:pt x="1926" y="344"/>
                </a:lnTo>
                <a:lnTo>
                  <a:pt x="1980" y="310"/>
                </a:lnTo>
                <a:lnTo>
                  <a:pt x="2130" y="317"/>
                </a:lnTo>
                <a:lnTo>
                  <a:pt x="2215" y="358"/>
                </a:lnTo>
                <a:lnTo>
                  <a:pt x="2269" y="303"/>
                </a:lnTo>
                <a:lnTo>
                  <a:pt x="2344" y="262"/>
                </a:lnTo>
                <a:lnTo>
                  <a:pt x="2413" y="251"/>
                </a:lnTo>
                <a:lnTo>
                  <a:pt x="2451" y="206"/>
                </a:lnTo>
                <a:lnTo>
                  <a:pt x="2440" y="138"/>
                </a:lnTo>
                <a:lnTo>
                  <a:pt x="2387" y="89"/>
                </a:lnTo>
                <a:lnTo>
                  <a:pt x="2312" y="34"/>
                </a:lnTo>
                <a:lnTo>
                  <a:pt x="2226" y="0"/>
                </a:lnTo>
                <a:lnTo>
                  <a:pt x="2130" y="41"/>
                </a:lnTo>
                <a:lnTo>
                  <a:pt x="2087" y="48"/>
                </a:lnTo>
                <a:lnTo>
                  <a:pt x="2044" y="96"/>
                </a:lnTo>
                <a:lnTo>
                  <a:pt x="1969" y="55"/>
                </a:lnTo>
                <a:lnTo>
                  <a:pt x="1862" y="51"/>
                </a:lnTo>
                <a:lnTo>
                  <a:pt x="1814" y="79"/>
                </a:lnTo>
                <a:lnTo>
                  <a:pt x="1798" y="120"/>
                </a:lnTo>
                <a:lnTo>
                  <a:pt x="1755" y="124"/>
                </a:lnTo>
                <a:lnTo>
                  <a:pt x="1739" y="169"/>
                </a:lnTo>
                <a:close/>
              </a:path>
            </a:pathLst>
          </a:custGeom>
          <a:solidFill>
            <a:srgbClr val="5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Rectangle 1052"/>
          <p:cNvSpPr/>
          <p:nvPr/>
        </p:nvSpPr>
        <p:spPr>
          <a:xfrm>
            <a:off x="784080" y="179280"/>
            <a:ext cx="69120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anSigma = Harvesting the Fruit of Statistical Thinking and Lean System Philosoph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Group 1045"/>
          <p:cNvGrpSpPr/>
          <p:nvPr/>
        </p:nvGrpSpPr>
        <p:grpSpPr>
          <a:xfrm>
            <a:off x="1662120" y="2120760"/>
            <a:ext cx="2825640" cy="3399120"/>
            <a:chOff x="1662120" y="2120760"/>
            <a:chExt cx="2825640" cy="3399120"/>
          </a:xfrm>
        </p:grpSpPr>
        <p:sp>
          <p:nvSpPr>
            <p:cNvPr id="232" name="Freeform 1046"/>
            <p:cNvSpPr/>
            <p:nvPr/>
          </p:nvSpPr>
          <p:spPr>
            <a:xfrm>
              <a:off x="1662120" y="2120760"/>
              <a:ext cx="2825640" cy="3399120"/>
            </a:xfrm>
            <a:custGeom>
              <a:avLst/>
              <a:gdLst>
                <a:gd name="textAreaLeft" fmla="*/ 0 w 2825640"/>
                <a:gd name="textAreaRight" fmla="*/ 2826000 w 2825640"/>
                <a:gd name="textAreaTop" fmla="*/ 0 h 3399120"/>
                <a:gd name="textAreaBottom" fmla="*/ 3399480 h 3399120"/>
              </a:gdLst>
              <a:ahLst/>
              <a:rect l="textAreaLeft" t="textAreaTop" r="textAreaRight" b="textAreaBottom"/>
              <a:pathLst>
                <a:path w="3917" h="2427">
                  <a:moveTo>
                    <a:pt x="1274" y="2406"/>
                  </a:moveTo>
                  <a:lnTo>
                    <a:pt x="1445" y="2337"/>
                  </a:lnTo>
                  <a:lnTo>
                    <a:pt x="1520" y="2275"/>
                  </a:lnTo>
                  <a:lnTo>
                    <a:pt x="1563" y="2213"/>
                  </a:lnTo>
                  <a:lnTo>
                    <a:pt x="1584" y="2137"/>
                  </a:lnTo>
                  <a:lnTo>
                    <a:pt x="1605" y="2061"/>
                  </a:lnTo>
                  <a:lnTo>
                    <a:pt x="1616" y="1978"/>
                  </a:lnTo>
                  <a:lnTo>
                    <a:pt x="1627" y="1889"/>
                  </a:lnTo>
                  <a:lnTo>
                    <a:pt x="1648" y="1723"/>
                  </a:lnTo>
                  <a:lnTo>
                    <a:pt x="1659" y="1585"/>
                  </a:lnTo>
                  <a:lnTo>
                    <a:pt x="1659" y="1489"/>
                  </a:lnTo>
                  <a:lnTo>
                    <a:pt x="1648" y="1427"/>
                  </a:lnTo>
                  <a:lnTo>
                    <a:pt x="1584" y="1365"/>
                  </a:lnTo>
                  <a:lnTo>
                    <a:pt x="1520" y="1351"/>
                  </a:lnTo>
                  <a:lnTo>
                    <a:pt x="1424" y="1324"/>
                  </a:lnTo>
                  <a:lnTo>
                    <a:pt x="1295" y="1324"/>
                  </a:lnTo>
                  <a:lnTo>
                    <a:pt x="1102" y="1296"/>
                  </a:lnTo>
                  <a:lnTo>
                    <a:pt x="1081" y="1296"/>
                  </a:lnTo>
                  <a:lnTo>
                    <a:pt x="963" y="1268"/>
                  </a:lnTo>
                  <a:lnTo>
                    <a:pt x="749" y="1248"/>
                  </a:lnTo>
                  <a:lnTo>
                    <a:pt x="589" y="1234"/>
                  </a:lnTo>
                  <a:lnTo>
                    <a:pt x="418" y="1199"/>
                  </a:lnTo>
                  <a:lnTo>
                    <a:pt x="225" y="1199"/>
                  </a:lnTo>
                  <a:lnTo>
                    <a:pt x="0" y="1213"/>
                  </a:lnTo>
                  <a:lnTo>
                    <a:pt x="321" y="1189"/>
                  </a:lnTo>
                  <a:lnTo>
                    <a:pt x="375" y="1172"/>
                  </a:lnTo>
                  <a:lnTo>
                    <a:pt x="402" y="1148"/>
                  </a:lnTo>
                  <a:lnTo>
                    <a:pt x="418" y="1089"/>
                  </a:lnTo>
                  <a:lnTo>
                    <a:pt x="375" y="965"/>
                  </a:lnTo>
                  <a:lnTo>
                    <a:pt x="364" y="875"/>
                  </a:lnTo>
                  <a:lnTo>
                    <a:pt x="439" y="1082"/>
                  </a:lnTo>
                  <a:lnTo>
                    <a:pt x="450" y="1137"/>
                  </a:lnTo>
                  <a:lnTo>
                    <a:pt x="487" y="1161"/>
                  </a:lnTo>
                  <a:lnTo>
                    <a:pt x="535" y="1179"/>
                  </a:lnTo>
                  <a:lnTo>
                    <a:pt x="589" y="1193"/>
                  </a:lnTo>
                  <a:lnTo>
                    <a:pt x="760" y="1206"/>
                  </a:lnTo>
                  <a:lnTo>
                    <a:pt x="910" y="1206"/>
                  </a:lnTo>
                  <a:lnTo>
                    <a:pt x="835" y="1161"/>
                  </a:lnTo>
                  <a:lnTo>
                    <a:pt x="749" y="1082"/>
                  </a:lnTo>
                  <a:lnTo>
                    <a:pt x="685" y="999"/>
                  </a:lnTo>
                  <a:lnTo>
                    <a:pt x="589" y="855"/>
                  </a:lnTo>
                  <a:lnTo>
                    <a:pt x="739" y="1020"/>
                  </a:lnTo>
                  <a:lnTo>
                    <a:pt x="819" y="1089"/>
                  </a:lnTo>
                  <a:lnTo>
                    <a:pt x="899" y="1141"/>
                  </a:lnTo>
                  <a:lnTo>
                    <a:pt x="985" y="1186"/>
                  </a:lnTo>
                  <a:lnTo>
                    <a:pt x="1124" y="1227"/>
                  </a:lnTo>
                  <a:lnTo>
                    <a:pt x="1252" y="1234"/>
                  </a:lnTo>
                  <a:lnTo>
                    <a:pt x="1391" y="1241"/>
                  </a:lnTo>
                  <a:lnTo>
                    <a:pt x="1541" y="1227"/>
                  </a:lnTo>
                  <a:lnTo>
                    <a:pt x="1415" y="1206"/>
                  </a:lnTo>
                  <a:lnTo>
                    <a:pt x="1358" y="1189"/>
                  </a:lnTo>
                  <a:lnTo>
                    <a:pt x="1295" y="1159"/>
                  </a:lnTo>
                  <a:lnTo>
                    <a:pt x="1234" y="1119"/>
                  </a:lnTo>
                  <a:lnTo>
                    <a:pt x="1085" y="1093"/>
                  </a:lnTo>
                  <a:lnTo>
                    <a:pt x="981" y="1067"/>
                  </a:lnTo>
                  <a:lnTo>
                    <a:pt x="908" y="1048"/>
                  </a:lnTo>
                  <a:lnTo>
                    <a:pt x="858" y="1033"/>
                  </a:lnTo>
                  <a:lnTo>
                    <a:pt x="822" y="1019"/>
                  </a:lnTo>
                  <a:lnTo>
                    <a:pt x="790" y="1003"/>
                  </a:lnTo>
                  <a:lnTo>
                    <a:pt x="767" y="988"/>
                  </a:lnTo>
                  <a:lnTo>
                    <a:pt x="806" y="1005"/>
                  </a:lnTo>
                  <a:lnTo>
                    <a:pt x="842" y="1019"/>
                  </a:lnTo>
                  <a:lnTo>
                    <a:pt x="881" y="1029"/>
                  </a:lnTo>
                  <a:lnTo>
                    <a:pt x="944" y="1041"/>
                  </a:lnTo>
                  <a:lnTo>
                    <a:pt x="1003" y="1053"/>
                  </a:lnTo>
                  <a:lnTo>
                    <a:pt x="1069" y="1064"/>
                  </a:lnTo>
                  <a:lnTo>
                    <a:pt x="1120" y="1071"/>
                  </a:lnTo>
                  <a:lnTo>
                    <a:pt x="1154" y="1072"/>
                  </a:lnTo>
                  <a:lnTo>
                    <a:pt x="1181" y="1074"/>
                  </a:lnTo>
                  <a:lnTo>
                    <a:pt x="1135" y="1034"/>
                  </a:lnTo>
                  <a:lnTo>
                    <a:pt x="1101" y="998"/>
                  </a:lnTo>
                  <a:lnTo>
                    <a:pt x="1047" y="941"/>
                  </a:lnTo>
                  <a:lnTo>
                    <a:pt x="1006" y="893"/>
                  </a:lnTo>
                  <a:lnTo>
                    <a:pt x="974" y="841"/>
                  </a:lnTo>
                  <a:lnTo>
                    <a:pt x="931" y="806"/>
                  </a:lnTo>
                  <a:lnTo>
                    <a:pt x="803" y="751"/>
                  </a:lnTo>
                  <a:lnTo>
                    <a:pt x="696" y="717"/>
                  </a:lnTo>
                  <a:lnTo>
                    <a:pt x="910" y="765"/>
                  </a:lnTo>
                  <a:lnTo>
                    <a:pt x="846" y="644"/>
                  </a:lnTo>
                  <a:lnTo>
                    <a:pt x="760" y="517"/>
                  </a:lnTo>
                  <a:lnTo>
                    <a:pt x="867" y="648"/>
                  </a:lnTo>
                  <a:lnTo>
                    <a:pt x="894" y="689"/>
                  </a:lnTo>
                  <a:lnTo>
                    <a:pt x="921" y="717"/>
                  </a:lnTo>
                  <a:lnTo>
                    <a:pt x="974" y="769"/>
                  </a:lnTo>
                  <a:lnTo>
                    <a:pt x="1049" y="841"/>
                  </a:lnTo>
                  <a:lnTo>
                    <a:pt x="1106" y="908"/>
                  </a:lnTo>
                  <a:lnTo>
                    <a:pt x="1138" y="944"/>
                  </a:lnTo>
                  <a:lnTo>
                    <a:pt x="1242" y="1034"/>
                  </a:lnTo>
                  <a:lnTo>
                    <a:pt x="1199" y="800"/>
                  </a:lnTo>
                  <a:lnTo>
                    <a:pt x="1156" y="710"/>
                  </a:lnTo>
                  <a:lnTo>
                    <a:pt x="1102" y="641"/>
                  </a:lnTo>
                  <a:lnTo>
                    <a:pt x="1028" y="558"/>
                  </a:lnTo>
                  <a:lnTo>
                    <a:pt x="1124" y="627"/>
                  </a:lnTo>
                  <a:lnTo>
                    <a:pt x="1081" y="303"/>
                  </a:lnTo>
                  <a:lnTo>
                    <a:pt x="1102" y="207"/>
                  </a:lnTo>
                  <a:lnTo>
                    <a:pt x="1113" y="344"/>
                  </a:lnTo>
                  <a:lnTo>
                    <a:pt x="1177" y="272"/>
                  </a:lnTo>
                  <a:lnTo>
                    <a:pt x="1349" y="186"/>
                  </a:lnTo>
                  <a:lnTo>
                    <a:pt x="1188" y="286"/>
                  </a:lnTo>
                  <a:lnTo>
                    <a:pt x="1124" y="365"/>
                  </a:lnTo>
                  <a:lnTo>
                    <a:pt x="1156" y="558"/>
                  </a:lnTo>
                  <a:lnTo>
                    <a:pt x="1188" y="662"/>
                  </a:lnTo>
                  <a:lnTo>
                    <a:pt x="1242" y="772"/>
                  </a:lnTo>
                  <a:lnTo>
                    <a:pt x="1284" y="937"/>
                  </a:lnTo>
                  <a:lnTo>
                    <a:pt x="1306" y="1034"/>
                  </a:lnTo>
                  <a:lnTo>
                    <a:pt x="1338" y="1075"/>
                  </a:lnTo>
                  <a:lnTo>
                    <a:pt x="1388" y="1103"/>
                  </a:lnTo>
                  <a:lnTo>
                    <a:pt x="1443" y="1121"/>
                  </a:lnTo>
                  <a:lnTo>
                    <a:pt x="1495" y="1129"/>
                  </a:lnTo>
                  <a:lnTo>
                    <a:pt x="1552" y="1124"/>
                  </a:lnTo>
                  <a:lnTo>
                    <a:pt x="1466" y="986"/>
                  </a:lnTo>
                  <a:lnTo>
                    <a:pt x="1407" y="913"/>
                  </a:lnTo>
                  <a:lnTo>
                    <a:pt x="1386" y="862"/>
                  </a:lnTo>
                  <a:lnTo>
                    <a:pt x="1375" y="817"/>
                  </a:lnTo>
                  <a:lnTo>
                    <a:pt x="1370" y="765"/>
                  </a:lnTo>
                  <a:lnTo>
                    <a:pt x="1317" y="682"/>
                  </a:lnTo>
                  <a:lnTo>
                    <a:pt x="1407" y="765"/>
                  </a:lnTo>
                  <a:lnTo>
                    <a:pt x="1413" y="731"/>
                  </a:lnTo>
                  <a:lnTo>
                    <a:pt x="1359" y="551"/>
                  </a:lnTo>
                  <a:lnTo>
                    <a:pt x="1354" y="493"/>
                  </a:lnTo>
                  <a:lnTo>
                    <a:pt x="1359" y="444"/>
                  </a:lnTo>
                  <a:lnTo>
                    <a:pt x="1386" y="372"/>
                  </a:lnTo>
                  <a:lnTo>
                    <a:pt x="1450" y="258"/>
                  </a:lnTo>
                  <a:lnTo>
                    <a:pt x="1520" y="145"/>
                  </a:lnTo>
                  <a:lnTo>
                    <a:pt x="1402" y="393"/>
                  </a:lnTo>
                  <a:lnTo>
                    <a:pt x="1638" y="151"/>
                  </a:lnTo>
                  <a:lnTo>
                    <a:pt x="1461" y="362"/>
                  </a:lnTo>
                  <a:lnTo>
                    <a:pt x="1418" y="444"/>
                  </a:lnTo>
                  <a:lnTo>
                    <a:pt x="1407" y="500"/>
                  </a:lnTo>
                  <a:lnTo>
                    <a:pt x="1456" y="675"/>
                  </a:lnTo>
                  <a:lnTo>
                    <a:pt x="1461" y="779"/>
                  </a:lnTo>
                  <a:lnTo>
                    <a:pt x="1466" y="841"/>
                  </a:lnTo>
                  <a:lnTo>
                    <a:pt x="1498" y="906"/>
                  </a:lnTo>
                  <a:lnTo>
                    <a:pt x="1541" y="958"/>
                  </a:lnTo>
                  <a:lnTo>
                    <a:pt x="1589" y="1020"/>
                  </a:lnTo>
                  <a:lnTo>
                    <a:pt x="1621" y="1072"/>
                  </a:lnTo>
                  <a:lnTo>
                    <a:pt x="1673" y="1141"/>
                  </a:lnTo>
                  <a:lnTo>
                    <a:pt x="1661" y="1099"/>
                  </a:lnTo>
                  <a:lnTo>
                    <a:pt x="1650" y="1053"/>
                  </a:lnTo>
                  <a:lnTo>
                    <a:pt x="1659" y="827"/>
                  </a:lnTo>
                  <a:lnTo>
                    <a:pt x="1627" y="796"/>
                  </a:lnTo>
                  <a:lnTo>
                    <a:pt x="1611" y="765"/>
                  </a:lnTo>
                  <a:lnTo>
                    <a:pt x="1589" y="717"/>
                  </a:lnTo>
                  <a:lnTo>
                    <a:pt x="1557" y="638"/>
                  </a:lnTo>
                  <a:lnTo>
                    <a:pt x="1509" y="555"/>
                  </a:lnTo>
                  <a:lnTo>
                    <a:pt x="1600" y="672"/>
                  </a:lnTo>
                  <a:lnTo>
                    <a:pt x="1627" y="724"/>
                  </a:lnTo>
                  <a:lnTo>
                    <a:pt x="1664" y="758"/>
                  </a:lnTo>
                  <a:lnTo>
                    <a:pt x="1664" y="527"/>
                  </a:lnTo>
                  <a:lnTo>
                    <a:pt x="1659" y="379"/>
                  </a:lnTo>
                  <a:lnTo>
                    <a:pt x="1632" y="248"/>
                  </a:lnTo>
                  <a:lnTo>
                    <a:pt x="1675" y="338"/>
                  </a:lnTo>
                  <a:lnTo>
                    <a:pt x="1723" y="241"/>
                  </a:lnTo>
                  <a:lnTo>
                    <a:pt x="1755" y="182"/>
                  </a:lnTo>
                  <a:lnTo>
                    <a:pt x="1868" y="24"/>
                  </a:lnTo>
                  <a:lnTo>
                    <a:pt x="1798" y="148"/>
                  </a:lnTo>
                  <a:lnTo>
                    <a:pt x="1755" y="227"/>
                  </a:lnTo>
                  <a:lnTo>
                    <a:pt x="1728" y="293"/>
                  </a:lnTo>
                  <a:lnTo>
                    <a:pt x="1707" y="348"/>
                  </a:lnTo>
                  <a:lnTo>
                    <a:pt x="1712" y="475"/>
                  </a:lnTo>
                  <a:lnTo>
                    <a:pt x="1793" y="379"/>
                  </a:lnTo>
                  <a:lnTo>
                    <a:pt x="1825" y="320"/>
                  </a:lnTo>
                  <a:lnTo>
                    <a:pt x="1857" y="251"/>
                  </a:lnTo>
                  <a:lnTo>
                    <a:pt x="1889" y="182"/>
                  </a:lnTo>
                  <a:lnTo>
                    <a:pt x="1910" y="114"/>
                  </a:lnTo>
                  <a:lnTo>
                    <a:pt x="1948" y="0"/>
                  </a:lnTo>
                  <a:lnTo>
                    <a:pt x="1921" y="138"/>
                  </a:lnTo>
                  <a:lnTo>
                    <a:pt x="1910" y="189"/>
                  </a:lnTo>
                  <a:lnTo>
                    <a:pt x="1878" y="265"/>
                  </a:lnTo>
                  <a:lnTo>
                    <a:pt x="1841" y="348"/>
                  </a:lnTo>
                  <a:lnTo>
                    <a:pt x="1803" y="417"/>
                  </a:lnTo>
                  <a:lnTo>
                    <a:pt x="1755" y="489"/>
                  </a:lnTo>
                  <a:lnTo>
                    <a:pt x="1745" y="641"/>
                  </a:lnTo>
                  <a:lnTo>
                    <a:pt x="1766" y="820"/>
                  </a:lnTo>
                  <a:lnTo>
                    <a:pt x="1766" y="1068"/>
                  </a:lnTo>
                  <a:lnTo>
                    <a:pt x="1809" y="1186"/>
                  </a:lnTo>
                  <a:lnTo>
                    <a:pt x="1830" y="1064"/>
                  </a:lnTo>
                  <a:lnTo>
                    <a:pt x="1846" y="981"/>
                  </a:lnTo>
                  <a:lnTo>
                    <a:pt x="1862" y="913"/>
                  </a:lnTo>
                  <a:lnTo>
                    <a:pt x="1889" y="816"/>
                  </a:lnTo>
                  <a:lnTo>
                    <a:pt x="1921" y="744"/>
                  </a:lnTo>
                  <a:lnTo>
                    <a:pt x="1969" y="660"/>
                  </a:lnTo>
                  <a:lnTo>
                    <a:pt x="1884" y="492"/>
                  </a:lnTo>
                  <a:lnTo>
                    <a:pt x="1926" y="543"/>
                  </a:lnTo>
                  <a:lnTo>
                    <a:pt x="1959" y="592"/>
                  </a:lnTo>
                  <a:lnTo>
                    <a:pt x="1991" y="629"/>
                  </a:lnTo>
                  <a:lnTo>
                    <a:pt x="2098" y="520"/>
                  </a:lnTo>
                  <a:lnTo>
                    <a:pt x="2135" y="464"/>
                  </a:lnTo>
                  <a:lnTo>
                    <a:pt x="2119" y="317"/>
                  </a:lnTo>
                  <a:lnTo>
                    <a:pt x="2173" y="455"/>
                  </a:lnTo>
                  <a:lnTo>
                    <a:pt x="2451" y="172"/>
                  </a:lnTo>
                  <a:lnTo>
                    <a:pt x="2536" y="69"/>
                  </a:lnTo>
                  <a:lnTo>
                    <a:pt x="2440" y="234"/>
                  </a:lnTo>
                  <a:lnTo>
                    <a:pt x="2215" y="496"/>
                  </a:lnTo>
                  <a:lnTo>
                    <a:pt x="2745" y="272"/>
                  </a:lnTo>
                  <a:lnTo>
                    <a:pt x="2215" y="524"/>
                  </a:lnTo>
                  <a:lnTo>
                    <a:pt x="2119" y="634"/>
                  </a:lnTo>
                  <a:lnTo>
                    <a:pt x="2044" y="724"/>
                  </a:lnTo>
                  <a:lnTo>
                    <a:pt x="2001" y="841"/>
                  </a:lnTo>
                  <a:lnTo>
                    <a:pt x="1959" y="1013"/>
                  </a:lnTo>
                  <a:lnTo>
                    <a:pt x="1932" y="1172"/>
                  </a:lnTo>
                  <a:lnTo>
                    <a:pt x="1985" y="1050"/>
                  </a:lnTo>
                  <a:lnTo>
                    <a:pt x="2028" y="998"/>
                  </a:lnTo>
                  <a:lnTo>
                    <a:pt x="2087" y="944"/>
                  </a:lnTo>
                  <a:lnTo>
                    <a:pt x="2167" y="881"/>
                  </a:lnTo>
                  <a:lnTo>
                    <a:pt x="2215" y="843"/>
                  </a:lnTo>
                  <a:lnTo>
                    <a:pt x="2258" y="803"/>
                  </a:lnTo>
                  <a:lnTo>
                    <a:pt x="2264" y="754"/>
                  </a:lnTo>
                  <a:lnTo>
                    <a:pt x="2269" y="600"/>
                  </a:lnTo>
                  <a:lnTo>
                    <a:pt x="2285" y="709"/>
                  </a:lnTo>
                  <a:lnTo>
                    <a:pt x="2301" y="750"/>
                  </a:lnTo>
                  <a:lnTo>
                    <a:pt x="2333" y="765"/>
                  </a:lnTo>
                  <a:lnTo>
                    <a:pt x="2403" y="688"/>
                  </a:lnTo>
                  <a:lnTo>
                    <a:pt x="2467" y="623"/>
                  </a:lnTo>
                  <a:lnTo>
                    <a:pt x="2515" y="572"/>
                  </a:lnTo>
                  <a:lnTo>
                    <a:pt x="2579" y="512"/>
                  </a:lnTo>
                  <a:lnTo>
                    <a:pt x="2686" y="441"/>
                  </a:lnTo>
                  <a:lnTo>
                    <a:pt x="2799" y="379"/>
                  </a:lnTo>
                  <a:lnTo>
                    <a:pt x="2793" y="174"/>
                  </a:lnTo>
                  <a:lnTo>
                    <a:pt x="2825" y="364"/>
                  </a:lnTo>
                  <a:lnTo>
                    <a:pt x="3023" y="303"/>
                  </a:lnTo>
                  <a:lnTo>
                    <a:pt x="3227" y="245"/>
                  </a:lnTo>
                  <a:lnTo>
                    <a:pt x="2954" y="350"/>
                  </a:lnTo>
                  <a:lnTo>
                    <a:pt x="3130" y="423"/>
                  </a:lnTo>
                  <a:lnTo>
                    <a:pt x="2922" y="361"/>
                  </a:lnTo>
                  <a:lnTo>
                    <a:pt x="2847" y="395"/>
                  </a:lnTo>
                  <a:lnTo>
                    <a:pt x="2761" y="451"/>
                  </a:lnTo>
                  <a:lnTo>
                    <a:pt x="2681" y="507"/>
                  </a:lnTo>
                  <a:lnTo>
                    <a:pt x="2622" y="557"/>
                  </a:lnTo>
                  <a:lnTo>
                    <a:pt x="2574" y="605"/>
                  </a:lnTo>
                  <a:lnTo>
                    <a:pt x="2531" y="667"/>
                  </a:lnTo>
                  <a:lnTo>
                    <a:pt x="2510" y="713"/>
                  </a:lnTo>
                  <a:lnTo>
                    <a:pt x="2585" y="705"/>
                  </a:lnTo>
                  <a:lnTo>
                    <a:pt x="2670" y="688"/>
                  </a:lnTo>
                  <a:lnTo>
                    <a:pt x="2766" y="669"/>
                  </a:lnTo>
                  <a:lnTo>
                    <a:pt x="2879" y="636"/>
                  </a:lnTo>
                  <a:lnTo>
                    <a:pt x="2975" y="613"/>
                  </a:lnTo>
                  <a:lnTo>
                    <a:pt x="3045" y="595"/>
                  </a:lnTo>
                  <a:lnTo>
                    <a:pt x="3120" y="567"/>
                  </a:lnTo>
                  <a:lnTo>
                    <a:pt x="3162" y="533"/>
                  </a:lnTo>
                  <a:lnTo>
                    <a:pt x="3195" y="495"/>
                  </a:lnTo>
                  <a:lnTo>
                    <a:pt x="3184" y="533"/>
                  </a:lnTo>
                  <a:lnTo>
                    <a:pt x="3157" y="565"/>
                  </a:lnTo>
                  <a:lnTo>
                    <a:pt x="3109" y="592"/>
                  </a:lnTo>
                  <a:lnTo>
                    <a:pt x="2991" y="636"/>
                  </a:lnTo>
                  <a:lnTo>
                    <a:pt x="2884" y="674"/>
                  </a:lnTo>
                  <a:lnTo>
                    <a:pt x="2783" y="703"/>
                  </a:lnTo>
                  <a:lnTo>
                    <a:pt x="2708" y="723"/>
                  </a:lnTo>
                  <a:lnTo>
                    <a:pt x="2627" y="744"/>
                  </a:lnTo>
                  <a:lnTo>
                    <a:pt x="2526" y="765"/>
                  </a:lnTo>
                  <a:lnTo>
                    <a:pt x="2440" y="800"/>
                  </a:lnTo>
                  <a:lnTo>
                    <a:pt x="2365" y="841"/>
                  </a:lnTo>
                  <a:lnTo>
                    <a:pt x="2280" y="910"/>
                  </a:lnTo>
                  <a:lnTo>
                    <a:pt x="2178" y="995"/>
                  </a:lnTo>
                  <a:lnTo>
                    <a:pt x="2130" y="1051"/>
                  </a:lnTo>
                  <a:lnTo>
                    <a:pt x="2098" y="1088"/>
                  </a:lnTo>
                  <a:lnTo>
                    <a:pt x="2076" y="1133"/>
                  </a:lnTo>
                  <a:lnTo>
                    <a:pt x="2060" y="1196"/>
                  </a:lnTo>
                  <a:lnTo>
                    <a:pt x="2178" y="1141"/>
                  </a:lnTo>
                  <a:lnTo>
                    <a:pt x="2237" y="1112"/>
                  </a:lnTo>
                  <a:lnTo>
                    <a:pt x="2269" y="1088"/>
                  </a:lnTo>
                  <a:lnTo>
                    <a:pt x="2296" y="1050"/>
                  </a:lnTo>
                  <a:lnTo>
                    <a:pt x="2328" y="981"/>
                  </a:lnTo>
                  <a:lnTo>
                    <a:pt x="2355" y="909"/>
                  </a:lnTo>
                  <a:lnTo>
                    <a:pt x="2403" y="860"/>
                  </a:lnTo>
                  <a:lnTo>
                    <a:pt x="2376" y="905"/>
                  </a:lnTo>
                  <a:lnTo>
                    <a:pt x="2355" y="957"/>
                  </a:lnTo>
                  <a:lnTo>
                    <a:pt x="2344" y="1005"/>
                  </a:lnTo>
                  <a:lnTo>
                    <a:pt x="2333" y="1053"/>
                  </a:lnTo>
                  <a:lnTo>
                    <a:pt x="2333" y="1074"/>
                  </a:lnTo>
                  <a:lnTo>
                    <a:pt x="2344" y="1095"/>
                  </a:lnTo>
                  <a:lnTo>
                    <a:pt x="2408" y="1099"/>
                  </a:lnTo>
                  <a:lnTo>
                    <a:pt x="2547" y="1065"/>
                  </a:lnTo>
                  <a:lnTo>
                    <a:pt x="2697" y="1030"/>
                  </a:lnTo>
                  <a:lnTo>
                    <a:pt x="2932" y="979"/>
                  </a:lnTo>
                  <a:lnTo>
                    <a:pt x="2991" y="960"/>
                  </a:lnTo>
                  <a:lnTo>
                    <a:pt x="3055" y="936"/>
                  </a:lnTo>
                  <a:lnTo>
                    <a:pt x="3093" y="882"/>
                  </a:lnTo>
                  <a:lnTo>
                    <a:pt x="3152" y="706"/>
                  </a:lnTo>
                  <a:lnTo>
                    <a:pt x="3114" y="931"/>
                  </a:lnTo>
                  <a:lnTo>
                    <a:pt x="3141" y="936"/>
                  </a:lnTo>
                  <a:lnTo>
                    <a:pt x="3178" y="922"/>
                  </a:lnTo>
                  <a:lnTo>
                    <a:pt x="3259" y="805"/>
                  </a:lnTo>
                  <a:lnTo>
                    <a:pt x="3237" y="867"/>
                  </a:lnTo>
                  <a:lnTo>
                    <a:pt x="3221" y="902"/>
                  </a:lnTo>
                  <a:lnTo>
                    <a:pt x="3253" y="909"/>
                  </a:lnTo>
                  <a:lnTo>
                    <a:pt x="3302" y="895"/>
                  </a:lnTo>
                  <a:lnTo>
                    <a:pt x="3339" y="860"/>
                  </a:lnTo>
                  <a:lnTo>
                    <a:pt x="3457" y="789"/>
                  </a:lnTo>
                  <a:lnTo>
                    <a:pt x="3371" y="850"/>
                  </a:lnTo>
                  <a:lnTo>
                    <a:pt x="3344" y="885"/>
                  </a:lnTo>
                  <a:lnTo>
                    <a:pt x="3334" y="916"/>
                  </a:lnTo>
                  <a:lnTo>
                    <a:pt x="3392" y="947"/>
                  </a:lnTo>
                  <a:lnTo>
                    <a:pt x="3312" y="933"/>
                  </a:lnTo>
                  <a:lnTo>
                    <a:pt x="3264" y="941"/>
                  </a:lnTo>
                  <a:lnTo>
                    <a:pt x="3178" y="957"/>
                  </a:lnTo>
                  <a:lnTo>
                    <a:pt x="3205" y="974"/>
                  </a:lnTo>
                  <a:lnTo>
                    <a:pt x="3243" y="1012"/>
                  </a:lnTo>
                  <a:lnTo>
                    <a:pt x="3291" y="1102"/>
                  </a:lnTo>
                  <a:lnTo>
                    <a:pt x="3216" y="1019"/>
                  </a:lnTo>
                  <a:lnTo>
                    <a:pt x="3178" y="991"/>
                  </a:lnTo>
                  <a:lnTo>
                    <a:pt x="3141" y="978"/>
                  </a:lnTo>
                  <a:lnTo>
                    <a:pt x="3093" y="979"/>
                  </a:lnTo>
                  <a:lnTo>
                    <a:pt x="2938" y="1013"/>
                  </a:lnTo>
                  <a:lnTo>
                    <a:pt x="2793" y="1048"/>
                  </a:lnTo>
                  <a:lnTo>
                    <a:pt x="2659" y="1074"/>
                  </a:lnTo>
                  <a:lnTo>
                    <a:pt x="2547" y="1103"/>
                  </a:lnTo>
                  <a:lnTo>
                    <a:pt x="2456" y="1133"/>
                  </a:lnTo>
                  <a:lnTo>
                    <a:pt x="2355" y="1168"/>
                  </a:lnTo>
                  <a:lnTo>
                    <a:pt x="2258" y="1209"/>
                  </a:lnTo>
                  <a:lnTo>
                    <a:pt x="2199" y="1241"/>
                  </a:lnTo>
                  <a:lnTo>
                    <a:pt x="2146" y="1275"/>
                  </a:lnTo>
                  <a:lnTo>
                    <a:pt x="2376" y="1282"/>
                  </a:lnTo>
                  <a:lnTo>
                    <a:pt x="2574" y="1272"/>
                  </a:lnTo>
                  <a:lnTo>
                    <a:pt x="2863" y="1248"/>
                  </a:lnTo>
                  <a:lnTo>
                    <a:pt x="3077" y="1227"/>
                  </a:lnTo>
                  <a:lnTo>
                    <a:pt x="3184" y="1215"/>
                  </a:lnTo>
                  <a:lnTo>
                    <a:pt x="3243" y="1202"/>
                  </a:lnTo>
                  <a:lnTo>
                    <a:pt x="3307" y="1186"/>
                  </a:lnTo>
                  <a:lnTo>
                    <a:pt x="3371" y="1164"/>
                  </a:lnTo>
                  <a:lnTo>
                    <a:pt x="3478" y="1109"/>
                  </a:lnTo>
                  <a:lnTo>
                    <a:pt x="3612" y="1020"/>
                  </a:lnTo>
                  <a:lnTo>
                    <a:pt x="3489" y="1119"/>
                  </a:lnTo>
                  <a:lnTo>
                    <a:pt x="3414" y="1164"/>
                  </a:lnTo>
                  <a:lnTo>
                    <a:pt x="3344" y="1199"/>
                  </a:lnTo>
                  <a:lnTo>
                    <a:pt x="3483" y="1195"/>
                  </a:lnTo>
                  <a:lnTo>
                    <a:pt x="3580" y="1178"/>
                  </a:lnTo>
                  <a:lnTo>
                    <a:pt x="3655" y="1153"/>
                  </a:lnTo>
                  <a:lnTo>
                    <a:pt x="3730" y="1133"/>
                  </a:lnTo>
                  <a:lnTo>
                    <a:pt x="3826" y="1105"/>
                  </a:lnTo>
                  <a:lnTo>
                    <a:pt x="3917" y="1091"/>
                  </a:lnTo>
                  <a:lnTo>
                    <a:pt x="3826" y="1119"/>
                  </a:lnTo>
                  <a:lnTo>
                    <a:pt x="3751" y="1147"/>
                  </a:lnTo>
                  <a:lnTo>
                    <a:pt x="3676" y="1171"/>
                  </a:lnTo>
                  <a:lnTo>
                    <a:pt x="3617" y="1191"/>
                  </a:lnTo>
                  <a:lnTo>
                    <a:pt x="3548" y="1209"/>
                  </a:lnTo>
                  <a:lnTo>
                    <a:pt x="3649" y="1215"/>
                  </a:lnTo>
                  <a:lnTo>
                    <a:pt x="3714" y="1209"/>
                  </a:lnTo>
                  <a:lnTo>
                    <a:pt x="3788" y="1198"/>
                  </a:lnTo>
                  <a:lnTo>
                    <a:pt x="3863" y="1184"/>
                  </a:lnTo>
                  <a:lnTo>
                    <a:pt x="3778" y="1220"/>
                  </a:lnTo>
                  <a:lnTo>
                    <a:pt x="3687" y="1229"/>
                  </a:lnTo>
                  <a:lnTo>
                    <a:pt x="3585" y="1229"/>
                  </a:lnTo>
                  <a:lnTo>
                    <a:pt x="3414" y="1237"/>
                  </a:lnTo>
                  <a:lnTo>
                    <a:pt x="3360" y="1243"/>
                  </a:lnTo>
                  <a:lnTo>
                    <a:pt x="3425" y="1260"/>
                  </a:lnTo>
                  <a:lnTo>
                    <a:pt x="3526" y="1271"/>
                  </a:lnTo>
                  <a:lnTo>
                    <a:pt x="3612" y="1274"/>
                  </a:lnTo>
                  <a:lnTo>
                    <a:pt x="3794" y="1279"/>
                  </a:lnTo>
                  <a:lnTo>
                    <a:pt x="3590" y="1288"/>
                  </a:lnTo>
                  <a:lnTo>
                    <a:pt x="3500" y="1288"/>
                  </a:lnTo>
                  <a:lnTo>
                    <a:pt x="3419" y="1281"/>
                  </a:lnTo>
                  <a:lnTo>
                    <a:pt x="3360" y="1271"/>
                  </a:lnTo>
                  <a:lnTo>
                    <a:pt x="3275" y="1255"/>
                  </a:lnTo>
                  <a:lnTo>
                    <a:pt x="3066" y="1282"/>
                  </a:lnTo>
                  <a:lnTo>
                    <a:pt x="2750" y="1324"/>
                  </a:lnTo>
                  <a:lnTo>
                    <a:pt x="2799" y="1360"/>
                  </a:lnTo>
                  <a:lnTo>
                    <a:pt x="2890" y="1441"/>
                  </a:lnTo>
                  <a:lnTo>
                    <a:pt x="2702" y="1334"/>
                  </a:lnTo>
                  <a:lnTo>
                    <a:pt x="2718" y="1384"/>
                  </a:lnTo>
                  <a:lnTo>
                    <a:pt x="2708" y="1433"/>
                  </a:lnTo>
                  <a:lnTo>
                    <a:pt x="2697" y="1467"/>
                  </a:lnTo>
                  <a:lnTo>
                    <a:pt x="2676" y="1515"/>
                  </a:lnTo>
                  <a:lnTo>
                    <a:pt x="2627" y="1584"/>
                  </a:lnTo>
                  <a:lnTo>
                    <a:pt x="2504" y="1710"/>
                  </a:lnTo>
                  <a:lnTo>
                    <a:pt x="2585" y="1602"/>
                  </a:lnTo>
                  <a:lnTo>
                    <a:pt x="2627" y="1533"/>
                  </a:lnTo>
                  <a:lnTo>
                    <a:pt x="2659" y="1467"/>
                  </a:lnTo>
                  <a:lnTo>
                    <a:pt x="2654" y="1433"/>
                  </a:lnTo>
                  <a:lnTo>
                    <a:pt x="2649" y="1378"/>
                  </a:lnTo>
                  <a:lnTo>
                    <a:pt x="2633" y="1353"/>
                  </a:lnTo>
                  <a:lnTo>
                    <a:pt x="2606" y="1337"/>
                  </a:lnTo>
                  <a:lnTo>
                    <a:pt x="2462" y="1344"/>
                  </a:lnTo>
                  <a:lnTo>
                    <a:pt x="2328" y="1367"/>
                  </a:lnTo>
                  <a:lnTo>
                    <a:pt x="2253" y="1392"/>
                  </a:lnTo>
                  <a:lnTo>
                    <a:pt x="2199" y="1415"/>
                  </a:lnTo>
                  <a:lnTo>
                    <a:pt x="2162" y="1444"/>
                  </a:lnTo>
                  <a:lnTo>
                    <a:pt x="2130" y="1489"/>
                  </a:lnTo>
                  <a:lnTo>
                    <a:pt x="2130" y="1565"/>
                  </a:lnTo>
                  <a:lnTo>
                    <a:pt x="2130" y="1675"/>
                  </a:lnTo>
                  <a:lnTo>
                    <a:pt x="2119" y="1772"/>
                  </a:lnTo>
                  <a:lnTo>
                    <a:pt x="2119" y="1861"/>
                  </a:lnTo>
                  <a:lnTo>
                    <a:pt x="2119" y="1965"/>
                  </a:lnTo>
                  <a:lnTo>
                    <a:pt x="2119" y="2047"/>
                  </a:lnTo>
                  <a:lnTo>
                    <a:pt x="2151" y="2130"/>
                  </a:lnTo>
                  <a:lnTo>
                    <a:pt x="2194" y="2206"/>
                  </a:lnTo>
                  <a:lnTo>
                    <a:pt x="2269" y="2303"/>
                  </a:lnTo>
                  <a:lnTo>
                    <a:pt x="2344" y="2358"/>
                  </a:lnTo>
                  <a:lnTo>
                    <a:pt x="2419" y="2385"/>
                  </a:lnTo>
                  <a:lnTo>
                    <a:pt x="2547" y="2420"/>
                  </a:lnTo>
                  <a:lnTo>
                    <a:pt x="2376" y="2406"/>
                  </a:lnTo>
                  <a:lnTo>
                    <a:pt x="2215" y="2371"/>
                  </a:lnTo>
                  <a:lnTo>
                    <a:pt x="2119" y="2358"/>
                  </a:lnTo>
                  <a:lnTo>
                    <a:pt x="2044" y="2358"/>
                  </a:lnTo>
                  <a:lnTo>
                    <a:pt x="1991" y="2392"/>
                  </a:lnTo>
                  <a:lnTo>
                    <a:pt x="1948" y="2378"/>
                  </a:lnTo>
                  <a:lnTo>
                    <a:pt x="1862" y="2371"/>
                  </a:lnTo>
                  <a:lnTo>
                    <a:pt x="1787" y="2385"/>
                  </a:lnTo>
                  <a:lnTo>
                    <a:pt x="1712" y="2413"/>
                  </a:lnTo>
                  <a:lnTo>
                    <a:pt x="1659" y="2427"/>
                  </a:lnTo>
                  <a:lnTo>
                    <a:pt x="1659" y="2392"/>
                  </a:lnTo>
                  <a:lnTo>
                    <a:pt x="1627" y="2378"/>
                  </a:lnTo>
                  <a:lnTo>
                    <a:pt x="1552" y="2378"/>
                  </a:lnTo>
                  <a:lnTo>
                    <a:pt x="1488" y="2392"/>
                  </a:lnTo>
                  <a:lnTo>
                    <a:pt x="1466" y="2392"/>
                  </a:lnTo>
                  <a:lnTo>
                    <a:pt x="1274" y="2406"/>
                  </a:lnTo>
                  <a:close/>
                </a:path>
              </a:pathLst>
            </a:custGeom>
            <a:solidFill>
              <a:srgbClr val="7f5f3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3" name="Freeform 1047"/>
            <p:cNvSpPr/>
            <p:nvPr/>
          </p:nvSpPr>
          <p:spPr>
            <a:xfrm>
              <a:off x="2775960" y="3687840"/>
              <a:ext cx="539640" cy="175788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1757880"/>
                <a:gd name="textAreaBottom" fmla="*/ 1758240 h 1757880"/>
              </a:gdLst>
              <a:ahLst/>
              <a:rect l="textAreaLeft" t="textAreaTop" r="textAreaRight" b="textAreaBottom"/>
              <a:pathLst>
                <a:path w="749" h="1255">
                  <a:moveTo>
                    <a:pt x="10" y="165"/>
                  </a:moveTo>
                  <a:lnTo>
                    <a:pt x="75" y="193"/>
                  </a:lnTo>
                  <a:lnTo>
                    <a:pt x="128" y="234"/>
                  </a:lnTo>
                  <a:lnTo>
                    <a:pt x="160" y="303"/>
                  </a:lnTo>
                  <a:lnTo>
                    <a:pt x="192" y="462"/>
                  </a:lnTo>
                  <a:lnTo>
                    <a:pt x="182" y="655"/>
                  </a:lnTo>
                  <a:lnTo>
                    <a:pt x="182" y="834"/>
                  </a:lnTo>
                  <a:lnTo>
                    <a:pt x="182" y="951"/>
                  </a:lnTo>
                  <a:lnTo>
                    <a:pt x="160" y="1048"/>
                  </a:lnTo>
                  <a:lnTo>
                    <a:pt x="107" y="1151"/>
                  </a:lnTo>
                  <a:lnTo>
                    <a:pt x="0" y="1241"/>
                  </a:lnTo>
                  <a:lnTo>
                    <a:pt x="128" y="1144"/>
                  </a:lnTo>
                  <a:lnTo>
                    <a:pt x="192" y="1048"/>
                  </a:lnTo>
                  <a:lnTo>
                    <a:pt x="214" y="1034"/>
                  </a:lnTo>
                  <a:lnTo>
                    <a:pt x="203" y="1144"/>
                  </a:lnTo>
                  <a:lnTo>
                    <a:pt x="182" y="1234"/>
                  </a:lnTo>
                  <a:lnTo>
                    <a:pt x="203" y="1186"/>
                  </a:lnTo>
                  <a:lnTo>
                    <a:pt x="235" y="1062"/>
                  </a:lnTo>
                  <a:lnTo>
                    <a:pt x="235" y="972"/>
                  </a:lnTo>
                  <a:lnTo>
                    <a:pt x="235" y="924"/>
                  </a:lnTo>
                  <a:lnTo>
                    <a:pt x="267" y="814"/>
                  </a:lnTo>
                  <a:lnTo>
                    <a:pt x="267" y="717"/>
                  </a:lnTo>
                  <a:lnTo>
                    <a:pt x="257" y="641"/>
                  </a:lnTo>
                  <a:lnTo>
                    <a:pt x="246" y="538"/>
                  </a:lnTo>
                  <a:lnTo>
                    <a:pt x="225" y="441"/>
                  </a:lnTo>
                  <a:lnTo>
                    <a:pt x="225" y="358"/>
                  </a:lnTo>
                  <a:lnTo>
                    <a:pt x="278" y="255"/>
                  </a:lnTo>
                  <a:lnTo>
                    <a:pt x="289" y="400"/>
                  </a:lnTo>
                  <a:lnTo>
                    <a:pt x="289" y="462"/>
                  </a:lnTo>
                  <a:lnTo>
                    <a:pt x="299" y="558"/>
                  </a:lnTo>
                  <a:lnTo>
                    <a:pt x="310" y="607"/>
                  </a:lnTo>
                  <a:lnTo>
                    <a:pt x="321" y="703"/>
                  </a:lnTo>
                  <a:lnTo>
                    <a:pt x="321" y="814"/>
                  </a:lnTo>
                  <a:lnTo>
                    <a:pt x="321" y="917"/>
                  </a:lnTo>
                  <a:lnTo>
                    <a:pt x="310" y="1000"/>
                  </a:lnTo>
                  <a:lnTo>
                    <a:pt x="289" y="1089"/>
                  </a:lnTo>
                  <a:lnTo>
                    <a:pt x="289" y="1158"/>
                  </a:lnTo>
                  <a:lnTo>
                    <a:pt x="299" y="1213"/>
                  </a:lnTo>
                  <a:lnTo>
                    <a:pt x="321" y="1131"/>
                  </a:lnTo>
                  <a:lnTo>
                    <a:pt x="332" y="1186"/>
                  </a:lnTo>
                  <a:lnTo>
                    <a:pt x="374" y="1234"/>
                  </a:lnTo>
                  <a:lnTo>
                    <a:pt x="417" y="1255"/>
                  </a:lnTo>
                  <a:lnTo>
                    <a:pt x="406" y="1193"/>
                  </a:lnTo>
                  <a:lnTo>
                    <a:pt x="385" y="1082"/>
                  </a:lnTo>
                  <a:lnTo>
                    <a:pt x="374" y="931"/>
                  </a:lnTo>
                  <a:lnTo>
                    <a:pt x="353" y="814"/>
                  </a:lnTo>
                  <a:lnTo>
                    <a:pt x="353" y="731"/>
                  </a:lnTo>
                  <a:lnTo>
                    <a:pt x="342" y="634"/>
                  </a:lnTo>
                  <a:lnTo>
                    <a:pt x="342" y="531"/>
                  </a:lnTo>
                  <a:lnTo>
                    <a:pt x="342" y="448"/>
                  </a:lnTo>
                  <a:lnTo>
                    <a:pt x="374" y="358"/>
                  </a:lnTo>
                  <a:lnTo>
                    <a:pt x="524" y="172"/>
                  </a:lnTo>
                  <a:lnTo>
                    <a:pt x="471" y="290"/>
                  </a:lnTo>
                  <a:lnTo>
                    <a:pt x="428" y="352"/>
                  </a:lnTo>
                  <a:lnTo>
                    <a:pt x="406" y="414"/>
                  </a:lnTo>
                  <a:lnTo>
                    <a:pt x="406" y="455"/>
                  </a:lnTo>
                  <a:lnTo>
                    <a:pt x="406" y="503"/>
                  </a:lnTo>
                  <a:lnTo>
                    <a:pt x="406" y="565"/>
                  </a:lnTo>
                  <a:lnTo>
                    <a:pt x="406" y="614"/>
                  </a:lnTo>
                  <a:lnTo>
                    <a:pt x="406" y="689"/>
                  </a:lnTo>
                  <a:lnTo>
                    <a:pt x="417" y="793"/>
                  </a:lnTo>
                  <a:lnTo>
                    <a:pt x="428" y="869"/>
                  </a:lnTo>
                  <a:lnTo>
                    <a:pt x="449" y="945"/>
                  </a:lnTo>
                  <a:lnTo>
                    <a:pt x="460" y="1020"/>
                  </a:lnTo>
                  <a:lnTo>
                    <a:pt x="471" y="1089"/>
                  </a:lnTo>
                  <a:lnTo>
                    <a:pt x="513" y="1138"/>
                  </a:lnTo>
                  <a:lnTo>
                    <a:pt x="567" y="1179"/>
                  </a:lnTo>
                  <a:lnTo>
                    <a:pt x="642" y="1206"/>
                  </a:lnTo>
                  <a:lnTo>
                    <a:pt x="749" y="1227"/>
                  </a:lnTo>
                  <a:lnTo>
                    <a:pt x="610" y="1165"/>
                  </a:lnTo>
                  <a:lnTo>
                    <a:pt x="546" y="1096"/>
                  </a:lnTo>
                  <a:lnTo>
                    <a:pt x="503" y="1034"/>
                  </a:lnTo>
                  <a:lnTo>
                    <a:pt x="492" y="958"/>
                  </a:lnTo>
                  <a:lnTo>
                    <a:pt x="471" y="848"/>
                  </a:lnTo>
                  <a:lnTo>
                    <a:pt x="460" y="745"/>
                  </a:lnTo>
                  <a:lnTo>
                    <a:pt x="449" y="641"/>
                  </a:lnTo>
                  <a:lnTo>
                    <a:pt x="471" y="538"/>
                  </a:lnTo>
                  <a:lnTo>
                    <a:pt x="471" y="462"/>
                  </a:lnTo>
                  <a:lnTo>
                    <a:pt x="503" y="393"/>
                  </a:lnTo>
                  <a:lnTo>
                    <a:pt x="546" y="317"/>
                  </a:lnTo>
                  <a:lnTo>
                    <a:pt x="578" y="248"/>
                  </a:lnTo>
                  <a:lnTo>
                    <a:pt x="674" y="200"/>
                  </a:lnTo>
                  <a:lnTo>
                    <a:pt x="535" y="241"/>
                  </a:lnTo>
                  <a:lnTo>
                    <a:pt x="610" y="110"/>
                  </a:lnTo>
                  <a:lnTo>
                    <a:pt x="492" y="165"/>
                  </a:lnTo>
                  <a:lnTo>
                    <a:pt x="417" y="221"/>
                  </a:lnTo>
                  <a:lnTo>
                    <a:pt x="374" y="296"/>
                  </a:lnTo>
                  <a:lnTo>
                    <a:pt x="342" y="331"/>
                  </a:lnTo>
                  <a:lnTo>
                    <a:pt x="321" y="241"/>
                  </a:lnTo>
                  <a:lnTo>
                    <a:pt x="364" y="131"/>
                  </a:lnTo>
                  <a:lnTo>
                    <a:pt x="364" y="62"/>
                  </a:lnTo>
                  <a:lnTo>
                    <a:pt x="364" y="0"/>
                  </a:lnTo>
                  <a:lnTo>
                    <a:pt x="321" y="145"/>
                  </a:lnTo>
                  <a:lnTo>
                    <a:pt x="299" y="207"/>
                  </a:lnTo>
                  <a:lnTo>
                    <a:pt x="267" y="241"/>
                  </a:lnTo>
                  <a:lnTo>
                    <a:pt x="214" y="269"/>
                  </a:lnTo>
                  <a:lnTo>
                    <a:pt x="182" y="221"/>
                  </a:lnTo>
                  <a:lnTo>
                    <a:pt x="10" y="165"/>
                  </a:lnTo>
                  <a:close/>
                </a:path>
              </a:pathLst>
            </a:cu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34" name="Line 1048"/>
          <p:cNvSpPr/>
          <p:nvPr/>
        </p:nvSpPr>
        <p:spPr>
          <a:xfrm>
            <a:off x="1468440" y="5530680"/>
            <a:ext cx="3463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Rectangle 1050"/>
          <p:cNvSpPr/>
          <p:nvPr/>
        </p:nvSpPr>
        <p:spPr>
          <a:xfrm>
            <a:off x="1487520" y="3649680"/>
            <a:ext cx="429732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520" rIns="6552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</a:rPr>
              <a:t>- - - - - - - - - - - - - - - - - - - - - - - - - - - - - - - - - -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Line 1051"/>
          <p:cNvSpPr/>
          <p:nvPr/>
        </p:nvSpPr>
        <p:spPr>
          <a:xfrm>
            <a:off x="1711440" y="2654280"/>
            <a:ext cx="3011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Rectangle 1053"/>
          <p:cNvSpPr/>
          <p:nvPr/>
        </p:nvSpPr>
        <p:spPr>
          <a:xfrm>
            <a:off x="4806360" y="1982880"/>
            <a:ext cx="190080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Sweet Frui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d4d4d"/>
                </a:solidFill>
                <a:latin typeface="Arial"/>
              </a:rPr>
              <a:t>Design for Manufacturability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Rectangle 1054"/>
          <p:cNvSpPr/>
          <p:nvPr/>
        </p:nvSpPr>
        <p:spPr>
          <a:xfrm>
            <a:off x="4806720" y="2865600"/>
            <a:ext cx="1768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Bulk of Frui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d4d4d"/>
                </a:solidFill>
                <a:latin typeface="Arial"/>
              </a:rPr>
              <a:t>Process Characterization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d4d4d"/>
                </a:solidFill>
                <a:latin typeface="Arial"/>
              </a:rPr>
              <a:t>and Optimization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Rectangle 1055"/>
          <p:cNvSpPr/>
          <p:nvPr/>
        </p:nvSpPr>
        <p:spPr>
          <a:xfrm>
            <a:off x="4808880" y="4176720"/>
            <a:ext cx="18291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Low Hanging  Frui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d4d4d"/>
                </a:solidFill>
                <a:latin typeface="Arial"/>
              </a:rPr>
              <a:t>Basic Lean Sigma Tools –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d4d4d"/>
                </a:solidFill>
                <a:latin typeface="Arial"/>
              </a:rPr>
              <a:t>Kaizen, 5S, SOP’s, FMEA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Rectangle 1056"/>
          <p:cNvSpPr/>
          <p:nvPr/>
        </p:nvSpPr>
        <p:spPr>
          <a:xfrm>
            <a:off x="4807440" y="5113440"/>
            <a:ext cx="198612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round Fruit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d4d4d"/>
                </a:solidFill>
                <a:latin typeface="Arial"/>
              </a:rPr>
              <a:t>Stability (Basic Management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41" name="Group 1102"/>
          <p:cNvGrpSpPr/>
          <p:nvPr/>
        </p:nvGrpSpPr>
        <p:grpSpPr>
          <a:xfrm>
            <a:off x="7370640" y="2374920"/>
            <a:ext cx="841320" cy="3144600"/>
            <a:chOff x="7370640" y="2374920"/>
            <a:chExt cx="841320" cy="3144600"/>
          </a:xfrm>
        </p:grpSpPr>
        <p:sp>
          <p:nvSpPr>
            <p:cNvPr id="242" name="AutoShape 1058"/>
            <p:cNvSpPr/>
            <p:nvPr/>
          </p:nvSpPr>
          <p:spPr>
            <a:xfrm>
              <a:off x="7370640" y="2374920"/>
              <a:ext cx="318960" cy="3144600"/>
            </a:xfrm>
            <a:prstGeom prst="upArrow">
              <a:avLst>
                <a:gd name="adj1" fmla="val 50000"/>
                <a:gd name="adj2" fmla="val 144369"/>
              </a:avLst>
            </a:prstGeom>
            <a:solidFill>
              <a:srgbClr val="ff0000"/>
            </a:solidFill>
            <a:ln w="93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3" name="Text Box 1059"/>
            <p:cNvSpPr/>
            <p:nvPr/>
          </p:nvSpPr>
          <p:spPr>
            <a:xfrm rot="16200000">
              <a:off x="7255440" y="3746880"/>
              <a:ext cx="1572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Calibri"/>
                </a:rPr>
                <a:t>Lean Six Sigma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44" name="Picture 1065" descr=""/>
          <p:cNvPicPr/>
          <p:nvPr/>
        </p:nvPicPr>
        <p:blipFill>
          <a:blip r:embed="rId1"/>
          <a:stretch/>
        </p:blipFill>
        <p:spPr>
          <a:xfrm>
            <a:off x="2400480" y="2727360"/>
            <a:ext cx="212400" cy="23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66" descr=""/>
          <p:cNvPicPr/>
          <p:nvPr/>
        </p:nvPicPr>
        <p:blipFill>
          <a:blip r:embed="rId2"/>
          <a:stretch/>
        </p:blipFill>
        <p:spPr>
          <a:xfrm>
            <a:off x="1735200" y="3433680"/>
            <a:ext cx="214200" cy="235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67" descr=""/>
          <p:cNvPicPr/>
          <p:nvPr/>
        </p:nvPicPr>
        <p:blipFill>
          <a:blip r:embed="rId3"/>
          <a:stretch/>
        </p:blipFill>
        <p:spPr>
          <a:xfrm>
            <a:off x="2151000" y="3898800"/>
            <a:ext cx="214200" cy="235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68" descr=""/>
          <p:cNvPicPr/>
          <p:nvPr/>
        </p:nvPicPr>
        <p:blipFill>
          <a:blip r:embed="rId4"/>
          <a:stretch/>
        </p:blipFill>
        <p:spPr>
          <a:xfrm>
            <a:off x="3659040" y="2324160"/>
            <a:ext cx="216000" cy="234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69" descr=""/>
          <p:cNvPicPr/>
          <p:nvPr/>
        </p:nvPicPr>
        <p:blipFill>
          <a:blip r:embed="rId5"/>
          <a:stretch/>
        </p:blipFill>
        <p:spPr>
          <a:xfrm>
            <a:off x="3786120" y="2768760"/>
            <a:ext cx="214560" cy="234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70" descr=""/>
          <p:cNvPicPr/>
          <p:nvPr/>
        </p:nvPicPr>
        <p:blipFill>
          <a:blip r:embed="rId6"/>
          <a:stretch/>
        </p:blipFill>
        <p:spPr>
          <a:xfrm>
            <a:off x="3711600" y="3433680"/>
            <a:ext cx="216000" cy="235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71" descr=""/>
          <p:cNvPicPr/>
          <p:nvPr/>
        </p:nvPicPr>
        <p:blipFill>
          <a:blip r:embed="rId7"/>
          <a:stretch/>
        </p:blipFill>
        <p:spPr>
          <a:xfrm>
            <a:off x="3139920" y="4059360"/>
            <a:ext cx="216000" cy="234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72" descr=""/>
          <p:cNvPicPr/>
          <p:nvPr/>
        </p:nvPicPr>
        <p:blipFill>
          <a:blip r:embed="rId8"/>
          <a:stretch/>
        </p:blipFill>
        <p:spPr>
          <a:xfrm>
            <a:off x="3341520" y="2217600"/>
            <a:ext cx="214560" cy="235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73" descr=""/>
          <p:cNvPicPr/>
          <p:nvPr/>
        </p:nvPicPr>
        <p:blipFill>
          <a:blip r:embed="rId9"/>
          <a:stretch/>
        </p:blipFill>
        <p:spPr>
          <a:xfrm>
            <a:off x="2413080" y="3078000"/>
            <a:ext cx="214200" cy="235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74" descr=""/>
          <p:cNvPicPr/>
          <p:nvPr/>
        </p:nvPicPr>
        <p:blipFill>
          <a:blip r:embed="rId10"/>
          <a:stretch/>
        </p:blipFill>
        <p:spPr>
          <a:xfrm>
            <a:off x="1623960" y="3749760"/>
            <a:ext cx="214200" cy="234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75" descr=""/>
          <p:cNvPicPr/>
          <p:nvPr/>
        </p:nvPicPr>
        <p:blipFill>
          <a:blip r:embed="rId11"/>
          <a:stretch/>
        </p:blipFill>
        <p:spPr>
          <a:xfrm>
            <a:off x="2843280" y="3063960"/>
            <a:ext cx="214200" cy="234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76" descr=""/>
          <p:cNvPicPr/>
          <p:nvPr/>
        </p:nvPicPr>
        <p:blipFill>
          <a:blip r:embed="rId12"/>
          <a:stretch/>
        </p:blipFill>
        <p:spPr>
          <a:xfrm>
            <a:off x="3216240" y="2700360"/>
            <a:ext cx="216000" cy="235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77" descr=""/>
          <p:cNvPicPr/>
          <p:nvPr/>
        </p:nvPicPr>
        <p:blipFill>
          <a:blip r:embed="rId13"/>
          <a:stretch/>
        </p:blipFill>
        <p:spPr>
          <a:xfrm>
            <a:off x="2828880" y="2082960"/>
            <a:ext cx="214200" cy="234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78" descr=""/>
          <p:cNvPicPr/>
          <p:nvPr/>
        </p:nvPicPr>
        <p:blipFill>
          <a:blip r:embed="rId14"/>
          <a:stretch/>
        </p:blipFill>
        <p:spPr>
          <a:xfrm>
            <a:off x="2746440" y="2363760"/>
            <a:ext cx="214200" cy="23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79" descr=""/>
          <p:cNvPicPr/>
          <p:nvPr/>
        </p:nvPicPr>
        <p:blipFill>
          <a:blip r:embed="rId15"/>
          <a:stretch/>
        </p:blipFill>
        <p:spPr>
          <a:xfrm>
            <a:off x="2054160" y="2928960"/>
            <a:ext cx="212760" cy="235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80" descr=""/>
          <p:cNvPicPr/>
          <p:nvPr/>
        </p:nvPicPr>
        <p:blipFill>
          <a:blip r:embed="rId16"/>
          <a:stretch/>
        </p:blipFill>
        <p:spPr>
          <a:xfrm>
            <a:off x="1623960" y="5256360"/>
            <a:ext cx="214200" cy="234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81" descr=""/>
          <p:cNvPicPr/>
          <p:nvPr/>
        </p:nvPicPr>
        <p:blipFill>
          <a:blip r:embed="rId17"/>
          <a:stretch/>
        </p:blipFill>
        <p:spPr>
          <a:xfrm>
            <a:off x="2135160" y="5256360"/>
            <a:ext cx="216000" cy="234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82" descr=""/>
          <p:cNvPicPr/>
          <p:nvPr/>
        </p:nvPicPr>
        <p:blipFill>
          <a:blip r:embed="rId18"/>
          <a:stretch/>
        </p:blipFill>
        <p:spPr>
          <a:xfrm>
            <a:off x="3355920" y="5265720"/>
            <a:ext cx="214200" cy="235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83" descr=""/>
          <p:cNvPicPr/>
          <p:nvPr/>
        </p:nvPicPr>
        <p:blipFill>
          <a:blip r:embed="rId19"/>
          <a:stretch/>
        </p:blipFill>
        <p:spPr>
          <a:xfrm>
            <a:off x="4113360" y="5259240"/>
            <a:ext cx="214200" cy="235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84" descr=""/>
          <p:cNvPicPr/>
          <p:nvPr/>
        </p:nvPicPr>
        <p:blipFill>
          <a:blip r:embed="rId20"/>
          <a:stretch/>
        </p:blipFill>
        <p:spPr>
          <a:xfrm>
            <a:off x="3578400" y="3816360"/>
            <a:ext cx="214200" cy="236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85" descr=""/>
          <p:cNvPicPr/>
          <p:nvPr/>
        </p:nvPicPr>
        <p:blipFill>
          <a:blip r:embed="rId21"/>
          <a:stretch/>
        </p:blipFill>
        <p:spPr>
          <a:xfrm>
            <a:off x="4302000" y="5259240"/>
            <a:ext cx="214560" cy="235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86" descr=""/>
          <p:cNvPicPr/>
          <p:nvPr/>
        </p:nvPicPr>
        <p:blipFill>
          <a:blip r:embed="rId22"/>
          <a:stretch/>
        </p:blipFill>
        <p:spPr>
          <a:xfrm>
            <a:off x="4118040" y="3389400"/>
            <a:ext cx="214200" cy="236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87" descr=""/>
          <p:cNvPicPr/>
          <p:nvPr/>
        </p:nvPicPr>
        <p:blipFill>
          <a:blip r:embed="rId23"/>
          <a:stretch/>
        </p:blipFill>
        <p:spPr>
          <a:xfrm>
            <a:off x="4525920" y="3800520"/>
            <a:ext cx="214200" cy="235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88" descr=""/>
          <p:cNvPicPr/>
          <p:nvPr/>
        </p:nvPicPr>
        <p:blipFill>
          <a:blip r:embed="rId24"/>
          <a:stretch/>
        </p:blipFill>
        <p:spPr>
          <a:xfrm>
            <a:off x="3149640" y="3665520"/>
            <a:ext cx="214200" cy="235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89" descr=""/>
          <p:cNvPicPr/>
          <p:nvPr/>
        </p:nvPicPr>
        <p:blipFill>
          <a:blip r:embed="rId25"/>
          <a:stretch/>
        </p:blipFill>
        <p:spPr>
          <a:xfrm>
            <a:off x="2948040" y="3427560"/>
            <a:ext cx="216000" cy="234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90" descr=""/>
          <p:cNvPicPr/>
          <p:nvPr/>
        </p:nvPicPr>
        <p:blipFill>
          <a:blip r:embed="rId26"/>
          <a:stretch/>
        </p:blipFill>
        <p:spPr>
          <a:xfrm>
            <a:off x="4387680" y="3389400"/>
            <a:ext cx="214560" cy="236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91" descr=""/>
          <p:cNvPicPr/>
          <p:nvPr/>
        </p:nvPicPr>
        <p:blipFill>
          <a:blip r:embed="rId27"/>
          <a:stretch/>
        </p:blipFill>
        <p:spPr>
          <a:xfrm>
            <a:off x="3432240" y="4129200"/>
            <a:ext cx="214200" cy="234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92" descr=""/>
          <p:cNvPicPr/>
          <p:nvPr/>
        </p:nvPicPr>
        <p:blipFill>
          <a:blip r:embed="rId28"/>
          <a:stretch/>
        </p:blipFill>
        <p:spPr>
          <a:xfrm>
            <a:off x="2470320" y="2370240"/>
            <a:ext cx="215640" cy="234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93" descr=""/>
          <p:cNvPicPr/>
          <p:nvPr/>
        </p:nvPicPr>
        <p:blipFill>
          <a:blip r:embed="rId29"/>
          <a:stretch/>
        </p:blipFill>
        <p:spPr>
          <a:xfrm>
            <a:off x="2847960" y="2779560"/>
            <a:ext cx="214200" cy="235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94" descr=""/>
          <p:cNvPicPr/>
          <p:nvPr/>
        </p:nvPicPr>
        <p:blipFill>
          <a:blip r:embed="rId30"/>
          <a:stretch/>
        </p:blipFill>
        <p:spPr>
          <a:xfrm>
            <a:off x="3538440" y="2030400"/>
            <a:ext cx="216000" cy="236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95" descr=""/>
          <p:cNvPicPr/>
          <p:nvPr/>
        </p:nvPicPr>
        <p:blipFill>
          <a:blip r:embed="rId31"/>
          <a:stretch/>
        </p:blipFill>
        <p:spPr>
          <a:xfrm>
            <a:off x="3827520" y="2136600"/>
            <a:ext cx="214200" cy="235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96" descr=""/>
          <p:cNvPicPr/>
          <p:nvPr/>
        </p:nvPicPr>
        <p:blipFill>
          <a:blip r:embed="rId32"/>
          <a:stretch/>
        </p:blipFill>
        <p:spPr>
          <a:xfrm>
            <a:off x="4253040" y="3665520"/>
            <a:ext cx="215640" cy="235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97" descr=""/>
          <p:cNvPicPr/>
          <p:nvPr/>
        </p:nvPicPr>
        <p:blipFill>
          <a:blip r:embed="rId33"/>
          <a:stretch/>
        </p:blipFill>
        <p:spPr>
          <a:xfrm>
            <a:off x="2077920" y="3451320"/>
            <a:ext cx="216000" cy="234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98" descr=""/>
          <p:cNvPicPr/>
          <p:nvPr/>
        </p:nvPicPr>
        <p:blipFill>
          <a:blip r:embed="rId34"/>
          <a:stretch/>
        </p:blipFill>
        <p:spPr>
          <a:xfrm>
            <a:off x="2604960" y="3441600"/>
            <a:ext cx="214560" cy="235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99" descr=""/>
          <p:cNvPicPr/>
          <p:nvPr/>
        </p:nvPicPr>
        <p:blipFill>
          <a:blip r:embed="rId35"/>
          <a:stretch/>
        </p:blipFill>
        <p:spPr>
          <a:xfrm>
            <a:off x="3906720" y="3228840"/>
            <a:ext cx="214560" cy="235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00" descr=""/>
          <p:cNvPicPr/>
          <p:nvPr/>
        </p:nvPicPr>
        <p:blipFill>
          <a:blip r:embed="rId36"/>
          <a:stretch/>
        </p:blipFill>
        <p:spPr>
          <a:xfrm>
            <a:off x="3687840" y="3146400"/>
            <a:ext cx="214200" cy="235080"/>
          </a:xfrm>
          <a:prstGeom prst="rect">
            <a:avLst/>
          </a:prstGeom>
          <a:ln w="0">
            <a:noFill/>
          </a:ln>
        </p:spPr>
      </p:pic>
      <p:sp>
        <p:nvSpPr>
          <p:cNvPr id="280" name="Straight Connector 54"/>
          <p:cNvSpPr/>
          <p:nvPr/>
        </p:nvSpPr>
        <p:spPr>
          <a:xfrm>
            <a:off x="7124760" y="5560920"/>
            <a:ext cx="1063440" cy="1800"/>
          </a:xfrm>
          <a:prstGeom prst="line">
            <a:avLst/>
          </a:prstGeom>
          <a:ln w="255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66280" y="1733040"/>
            <a:ext cx="4030920" cy="31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2080" rIns="82080" tIns="41040" bIns="4104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80808"/>
                </a:solidFill>
                <a:uFillTx/>
                <a:latin typeface="Arial"/>
              </a:rPr>
              <a:t>LEA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Focus on Product Flow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Value in Eyes of Customer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Eliminate Wast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Simplify/Reduce Complexity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mand Flow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Engage Stakeholder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Continuously Improve Org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30680" y="1720800"/>
            <a:ext cx="4478400" cy="31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2080" rIns="82080" tIns="41040" bIns="4104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80808"/>
                </a:solidFill>
                <a:uFillTx/>
                <a:latin typeface="Arial"/>
              </a:rPr>
              <a:t>SIX SIGMA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Focus on Quality Improvement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Pareto Principl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Variation Reductio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Scrap/Rework Eliminatio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Process Control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Continuously Improve Proces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Stabilize Processe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title"/>
          </p:nvPr>
        </p:nvSpPr>
        <p:spPr>
          <a:xfrm>
            <a:off x="357120" y="241200"/>
            <a:ext cx="84297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0000"/>
                </a:solidFill>
                <a:latin typeface="Arial"/>
              </a:rPr>
              <a:t>Improvement Methods Aimed at Increasing Productivity</a:t>
            </a:r>
            <a:endParaRPr b="1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Text Box 1029"/>
          <p:cNvSpPr/>
          <p:nvPr/>
        </p:nvSpPr>
        <p:spPr>
          <a:xfrm>
            <a:off x="1498680" y="5413320"/>
            <a:ext cx="6986520" cy="463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da0000"/>
                </a:solidFill>
                <a:latin typeface="Calibri"/>
              </a:rPr>
              <a:t>“</a:t>
            </a:r>
            <a:r>
              <a:rPr b="1" i="1" lang="en-US" sz="2500" spc="-1" strike="noStrike">
                <a:solidFill>
                  <a:srgbClr val="da0000"/>
                </a:solidFill>
                <a:latin typeface="Calibri"/>
              </a:rPr>
              <a:t>Can we afford one without the other?”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Rectangle 1030"/>
          <p:cNvSpPr/>
          <p:nvPr/>
        </p:nvSpPr>
        <p:spPr>
          <a:xfrm>
            <a:off x="2016000" y="4843440"/>
            <a:ext cx="14115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a0000"/>
                </a:solidFill>
                <a:latin typeface="Arial"/>
              </a:rPr>
              <a:t>SPEED</a:t>
            </a:r>
            <a:endParaRPr b="0" lang="en-US" sz="2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Rectangle 1031"/>
          <p:cNvSpPr/>
          <p:nvPr/>
        </p:nvSpPr>
        <p:spPr>
          <a:xfrm>
            <a:off x="5493600" y="4843440"/>
            <a:ext cx="23778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a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da0000"/>
                </a:solidFill>
                <a:latin typeface="Arial"/>
              </a:rPr>
              <a:t>ACCURACY</a:t>
            </a:r>
            <a:endParaRPr b="0" lang="en-US" sz="2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0:56Z</dcterms:created>
  <dc:creator>kampester</dc:creator>
  <dc:description/>
  <dc:language>en-US</dc:language>
  <cp:lastModifiedBy>Swifty</cp:lastModifiedBy>
  <dcterms:modified xsi:type="dcterms:W3CDTF">2012-07-01T12:16:26Z</dcterms:modified>
  <cp:revision>12</cp:revision>
  <dc:subject/>
  <dc:title>Lean Six Sigma</dc:title>
</cp:coreProperties>
</file>